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AEB-AC99-45EC-A7B0-B6B896F3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5978-05AD-4AE7-BA78-6CE8685E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B4CA-04E4-4255-9CEF-ECC106EE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DF9D-0197-4147-A627-EFBDA217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C6F7-B96A-4184-9AC0-DA6FBF9E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27DE-16BF-4857-95F5-552852B6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450F-EEE2-4AA3-B442-2C9DC8C2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19E5-889F-4C2C-B2FA-CD2D1D91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6C66-4C57-4CF8-9742-E05619B8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A37D-8897-4B99-8B40-19871D42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0EA3-04BE-46C0-A153-88EB2425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A4CD-0D29-41F8-936D-C7AAFC39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F21A-7B47-4223-BEAC-89494F215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南飞的大雁.wma" descr=""/>
          <p:cNvPicPr/>
          <p:nvPr/>
        </p:nvPicPr>
        <p:blipFill>
          <a:blip r:embed="rId2"/>
          <a:stretch/>
        </p:blipFill>
        <p:spPr>
          <a:xfrm>
            <a:off x="8244000" y="6093000"/>
            <a:ext cx="29664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58720" y="1197000"/>
            <a:ext cx="15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大雁归来》课件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9640" y="2133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80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3238-AE8C-4EC3-A5A3-CF9AB75D0C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580536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84360" y="404640"/>
            <a:ext cx="8135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幼圆"/>
              </a:rPr>
              <a:t>一个文明的国度，不应当是动物的地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幼圆"/>
              </a:rPr>
              <a:t>今天人类破坏自然，明天自然毁灭人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908000" y="1484280"/>
            <a:ext cx="568980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课后作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，抄写生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，整理有关“大雁”的诗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，阅读周瘦鹃的随笔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雁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826920" y="62064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给下列蓝色字注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并积累这些词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755640" y="1628640"/>
            <a:ext cx="720108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默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探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顾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零                     滑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目空一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763640" y="1700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284720" y="1700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6948360" y="1773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ò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1763640" y="364500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4356000" y="3573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702000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á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24000" y="69228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我发现了大雁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  <a:ea typeface="幼圆"/>
              </a:rPr>
              <a:t>＿＿＿＿＿＿＿＿＿＿＿＿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的特点（生活习性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332000" y="234936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619280" y="2349360"/>
            <a:ext cx="6192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●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三月大雁归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●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飞行线路是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●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喜吃玉米，爱喧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●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四月的夜间，阵阵喧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●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六只或六只的倍数组成雁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187280" y="765000"/>
            <a:ext cx="64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这是一群＿＿＿＿＿＿＿＿＿＿＿＿的大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835280" y="242100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042920" y="2205000"/>
            <a:ext cx="5329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●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友好、热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●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乐于助人、无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●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开朗、活泼、乐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●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注重亲情，家庭观念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●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具有联合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547640" y="981000"/>
            <a:ext cx="6264360" cy="31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品析下列语句，并体会思想感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，一只燕子的来临说明不了春天，但当一群大雁冲破了三月暖流的雾霭时，春天就来到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，一触到水，我们刚到的客人就叫起来，它们溅起的水花使那脆弱的香蒲抖落掉身上的冬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，每年三月，它们都要用自己的生命来为实现这个基本的信念做赌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                   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176560" y="5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332000" y="1557360"/>
            <a:ext cx="640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大雁属鸟纲，鸭科，是雁亚科各种类的通称，一种大型游禽。形状略似家鹅，有的较小。嘴宽而厚，嘴甲比较宽阔。大雁群居水边，往往千百成群，夜宿时，有雁在周围专司警戒，如果遇到袭击，就鸣叫报警。主食嫩叶、细根、种子，间或啄食农田谷物。雁群飞行，排成“一”字或“人”字，人们称之为“雁字”。大雁的飞行路线是笔直的。中国常见的有鸿雁、豆雁、白额雁等。雁队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只，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只的倍数组成，雁群是一些家庭，或者说是一些家庭的聚合体。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                                          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摘自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辞海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u=938633545,394127377&amp;gp=0"/>
          <p:cNvPicPr/>
          <p:nvPr/>
        </p:nvPicPr>
        <p:blipFill>
          <a:blip r:embed="rId2"/>
          <a:stretch/>
        </p:blipFill>
        <p:spPr>
          <a:xfrm>
            <a:off x="611280" y="3429000"/>
            <a:ext cx="1655640" cy="2303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u=1444008514,1459316858&amp;gp=3"/>
          <p:cNvPicPr/>
          <p:nvPr/>
        </p:nvPicPr>
        <p:blipFill>
          <a:blip r:embed="rId3"/>
          <a:stretch/>
        </p:blipFill>
        <p:spPr>
          <a:xfrm>
            <a:off x="611280" y="620640"/>
            <a:ext cx="1655640" cy="23418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2700360" y="1413000"/>
            <a:ext cx="54720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作者简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，他是美国著名的伦理学家，又是一个造诣极深的文学巨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，他还是一个有着国际威望的科学家和环境保护主义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，他所写的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沙乡年鉴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是一本自然随笔和哲学论文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14:54:11Z</dcterms:created>
  <dc:creator/>
  <dc:description/>
  <cp:keywords>幻灯片之家 http:/www.eeppt.com</cp:keywords>
  <dc:language>en-US</dc:language>
  <cp:lastModifiedBy/>
  <dcterms:modified xsi:type="dcterms:W3CDTF">2015-07-04T07:05:29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