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3480-3755-4ECD-A631-0DF1C31D6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66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3098520"/>
            <a:ext cx="82296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680000"/>
            <a:ext cx="82296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FD7A-372F-435B-8669-A990C03D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66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3098520"/>
            <a:ext cx="40158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3098520"/>
            <a:ext cx="40158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680000"/>
            <a:ext cx="40158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680000"/>
            <a:ext cx="40158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81D3-2067-4CB6-B946-A458A4CD0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6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3098520"/>
            <a:ext cx="26496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3098520"/>
            <a:ext cx="26496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3098520"/>
            <a:ext cx="26496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680000"/>
            <a:ext cx="26496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680000"/>
            <a:ext cx="26496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680000"/>
            <a:ext cx="26496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2F31-0251-48BA-B6AE-02106B66B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030BD-5443-4804-8EA7-1B2FB96A2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6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3098520"/>
            <a:ext cx="8229600" cy="30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C31C-8BE8-4BC2-893F-CCFC6BFC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66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3098520"/>
            <a:ext cx="8229600" cy="30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E3F8-D9BD-40A0-9BC8-54A32F95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6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3098520"/>
            <a:ext cx="4015800" cy="30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3098520"/>
            <a:ext cx="4015800" cy="30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D47B9-22AE-4F90-8F6C-F6124D57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6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C285-2C24-4980-A740-362E8037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4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D8DAF-FFCC-43FC-A87C-27B6A8D6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66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3098520"/>
            <a:ext cx="40158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3098520"/>
            <a:ext cx="4015800" cy="30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680000"/>
            <a:ext cx="40158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12A06-3FF1-42E4-82AC-F9F6D6D3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66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3098520"/>
            <a:ext cx="8229600" cy="30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3694-E24D-4810-8B59-C0D1624E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66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3098520"/>
            <a:ext cx="4015800" cy="30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3098520"/>
            <a:ext cx="40158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680000"/>
            <a:ext cx="40158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5C454-1E13-43A8-91EE-44D90245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66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3098520"/>
            <a:ext cx="40158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3098520"/>
            <a:ext cx="40158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680000"/>
            <a:ext cx="82296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9FEF-44D8-4B08-AF55-DB4ABA5B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66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3098520"/>
            <a:ext cx="82296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680000"/>
            <a:ext cx="82296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3690-E6FF-4196-8B91-E90DFED7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66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3098520"/>
            <a:ext cx="40158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3098520"/>
            <a:ext cx="40158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680000"/>
            <a:ext cx="40158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680000"/>
            <a:ext cx="40158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9520-52A3-46CD-8FE4-B6924E417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66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3098520"/>
            <a:ext cx="26496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3098520"/>
            <a:ext cx="26496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3098520"/>
            <a:ext cx="26496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680000"/>
            <a:ext cx="26496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680000"/>
            <a:ext cx="26496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680000"/>
            <a:ext cx="26496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F863-7025-475C-BFA7-60C1B1B61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6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3098520"/>
            <a:ext cx="8229600" cy="30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6652-1812-4AC1-9BBA-7BC39713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6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3098520"/>
            <a:ext cx="4015800" cy="30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3098520"/>
            <a:ext cx="4015800" cy="30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EF29-EA05-4284-B9D9-472E65D4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66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4A16-E1C5-44F2-9932-5BA150D0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4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C318-5CCF-481E-A222-983010F5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66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3098520"/>
            <a:ext cx="40158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3098520"/>
            <a:ext cx="4015800" cy="30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680000"/>
            <a:ext cx="40158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DE9C-B968-48FA-BE2F-7FF95871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66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3098520"/>
            <a:ext cx="4015800" cy="30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3098520"/>
            <a:ext cx="40158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680000"/>
            <a:ext cx="40158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EC04-1837-45B8-A7A1-4C41BDE1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66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3098520"/>
            <a:ext cx="40158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3098520"/>
            <a:ext cx="40158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680000"/>
            <a:ext cx="82296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9714-4B43-40FF-B209-5F04777B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457200" y="1015920"/>
            <a:ext cx="8229600" cy="3757680"/>
            <a:chOff x="457200" y="1015920"/>
            <a:chExt cx="8229600" cy="3757680"/>
          </a:xfrm>
        </p:grpSpPr>
        <p:sp>
          <p:nvSpPr>
            <p:cNvPr id="1" name="Rectangle 8"/>
            <p:cNvSpPr/>
            <p:nvPr/>
          </p:nvSpPr>
          <p:spPr>
            <a:xfrm>
              <a:off x="457200" y="1015920"/>
              <a:ext cx="8229600" cy="3757680"/>
            </a:xfrm>
            <a:prstGeom prst="rect">
              <a:avLst/>
            </a:prstGeom>
            <a:solidFill>
              <a:srgbClr val="23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457200" y="4570200"/>
              <a:ext cx="8229600" cy="20340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  <a:effectLst>
              <a:outerShdw dist="3816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10"/>
            <p:cNvSpPr/>
            <p:nvPr/>
          </p:nvSpPr>
          <p:spPr>
            <a:xfrm>
              <a:off x="457200" y="1015920"/>
              <a:ext cx="8229600" cy="2030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  <a:effectLst>
              <a:outerShdw dist="3816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11"/>
            <p:cNvSpPr/>
            <p:nvPr/>
          </p:nvSpPr>
          <p:spPr>
            <a:xfrm>
              <a:off x="8458200" y="1015920"/>
              <a:ext cx="228600" cy="37576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>
              <a:off x="457200" y="1015920"/>
              <a:ext cx="228600" cy="37576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3098520"/>
            <a:ext cx="8229600" cy="30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34120" indent="-166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67840" indent="-166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01560" indent="-166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01560" indent="-166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01560" indent="-166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1AD5-9878-42B0-A21D-EABB035B9F9D}" type="slidenum"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13"/>
          <p:cNvSpPr/>
          <p:nvPr/>
        </p:nvSpPr>
        <p:spPr>
          <a:xfrm>
            <a:off x="2255040" y="1335240"/>
            <a:ext cx="46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宋体"/>
              </a:rPr>
              <a:t>The next session will star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14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59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58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57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Rectangle 17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56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55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Rectangle 19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54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53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Rectangle 21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52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Rectangle 22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51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Rectangle 23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5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Rectangle 24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49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Rectangle 25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48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Rectangle 26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47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Rectangle 27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46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Rectangle 28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45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Rectangle 29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44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43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Rectangle 31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42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Rectangle 32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41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Rectangle 33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4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Rectangle 34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39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Rectangle 35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38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Rectangle 36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37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Rectangle 37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36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Rectangle 38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35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Rectangle 39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34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Rectangle 40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33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41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32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42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31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43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3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4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29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5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28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6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27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7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26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8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25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9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24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0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23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1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22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2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21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3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2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4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19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5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18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6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17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7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16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8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9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14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0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13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1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12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2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11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3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1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9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8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7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6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5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4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3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2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2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1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3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3"/>
          <p:cNvSpPr/>
          <p:nvPr/>
        </p:nvSpPr>
        <p:spPr>
          <a:xfrm>
            <a:off x="2255040" y="1335240"/>
            <a:ext cx="46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宋体"/>
              </a:rPr>
              <a:t>The next session will star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3098520"/>
            <a:ext cx="8229600" cy="30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34120" indent="-166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67840" indent="-166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01560" indent="-166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01560" indent="-166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01560" indent="-166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82E4-100D-4235-B9D8-E1826D9DEB12}" type="slidenum"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3581280" y="2276640"/>
            <a:ext cx="195444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2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3"/>
          <p:cNvSpPr/>
          <p:nvPr/>
        </p:nvSpPr>
        <p:spPr>
          <a:xfrm>
            <a:off x="78912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5"/>
          <p:cNvSpPr/>
          <p:nvPr/>
        </p:nvSpPr>
        <p:spPr>
          <a:xfrm>
            <a:off x="1313640" y="5238720"/>
            <a:ext cx="63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an animated template, please view in slideshow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520" y="6442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55720" y="55440"/>
            <a:ext cx="35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电子倒计时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3581280" y="2276640"/>
            <a:ext cx="195444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11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3"/>
          <p:cNvSpPr/>
          <p:nvPr/>
        </p:nvSpPr>
        <p:spPr>
          <a:xfrm>
            <a:off x="78912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3581280" y="2276640"/>
            <a:ext cx="195444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1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3"/>
          <p:cNvSpPr/>
          <p:nvPr/>
        </p:nvSpPr>
        <p:spPr>
          <a:xfrm>
            <a:off x="78912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3581280" y="2276640"/>
            <a:ext cx="195444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9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3"/>
          <p:cNvSpPr/>
          <p:nvPr/>
        </p:nvSpPr>
        <p:spPr>
          <a:xfrm>
            <a:off x="78912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3581280" y="2276640"/>
            <a:ext cx="195444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8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3"/>
          <p:cNvSpPr/>
          <p:nvPr/>
        </p:nvSpPr>
        <p:spPr>
          <a:xfrm>
            <a:off x="78912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3581280" y="2276640"/>
            <a:ext cx="195444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7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3"/>
          <p:cNvSpPr/>
          <p:nvPr/>
        </p:nvSpPr>
        <p:spPr>
          <a:xfrm>
            <a:off x="78912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581280" y="2276640"/>
            <a:ext cx="195444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6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3"/>
          <p:cNvSpPr/>
          <p:nvPr/>
        </p:nvSpPr>
        <p:spPr>
          <a:xfrm>
            <a:off x="78912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12840" y="6396120"/>
            <a:ext cx="4187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3581280" y="2276640"/>
            <a:ext cx="195444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5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3"/>
          <p:cNvSpPr/>
          <p:nvPr/>
        </p:nvSpPr>
        <p:spPr>
          <a:xfrm>
            <a:off x="78912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3581280" y="2276640"/>
            <a:ext cx="195444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4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3"/>
          <p:cNvSpPr/>
          <p:nvPr/>
        </p:nvSpPr>
        <p:spPr>
          <a:xfrm>
            <a:off x="78912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3581280" y="2276640"/>
            <a:ext cx="195444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3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3"/>
          <p:cNvSpPr/>
          <p:nvPr/>
        </p:nvSpPr>
        <p:spPr>
          <a:xfrm>
            <a:off x="78912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3581280" y="2276640"/>
            <a:ext cx="195444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2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3"/>
          <p:cNvSpPr/>
          <p:nvPr/>
        </p:nvSpPr>
        <p:spPr>
          <a:xfrm>
            <a:off x="78912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3581280" y="2276640"/>
            <a:ext cx="195444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19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3"/>
          <p:cNvSpPr/>
          <p:nvPr/>
        </p:nvSpPr>
        <p:spPr>
          <a:xfrm>
            <a:off x="78912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12840" y="6396120"/>
            <a:ext cx="4187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3581280" y="2276640"/>
            <a:ext cx="195444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1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3"/>
          <p:cNvSpPr/>
          <p:nvPr/>
        </p:nvSpPr>
        <p:spPr>
          <a:xfrm>
            <a:off x="78912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3581280" y="2276640"/>
            <a:ext cx="195444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2"/>
          <p:cNvSpPr/>
          <p:nvPr/>
        </p:nvSpPr>
        <p:spPr>
          <a:xfrm>
            <a:off x="634212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63"/>
          <p:cNvSpPr/>
          <p:nvPr/>
        </p:nvSpPr>
        <p:spPr>
          <a:xfrm>
            <a:off x="78912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12840" y="6396120"/>
            <a:ext cx="41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GB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GB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E3C8-F435-4A2C-AD6E-F805DDDF559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3"/>
          <p:cNvSpPr/>
          <p:nvPr/>
        </p:nvSpPr>
        <p:spPr>
          <a:xfrm>
            <a:off x="457200" y="1015920"/>
            <a:ext cx="228600" cy="3757680"/>
          </a:xfrm>
          <a:prstGeom prst="rect">
            <a:avLst/>
          </a:prstGeom>
          <a:solidFill>
            <a:srgbClr val="333333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5"/>
          <p:cNvSpPr/>
          <p:nvPr/>
        </p:nvSpPr>
        <p:spPr>
          <a:xfrm>
            <a:off x="5896080" y="3102120"/>
            <a:ext cx="123840" cy="1648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6"/>
          <p:cNvSpPr/>
          <p:nvPr/>
        </p:nvSpPr>
        <p:spPr>
          <a:xfrm>
            <a:off x="5896080" y="3711600"/>
            <a:ext cx="123840" cy="16524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6"/>
          <p:cNvGrpSpPr/>
          <p:nvPr/>
        </p:nvGrpSpPr>
        <p:grpSpPr>
          <a:xfrm>
            <a:off x="457200" y="1015920"/>
            <a:ext cx="8229600" cy="3757680"/>
            <a:chOff x="457200" y="1015920"/>
            <a:chExt cx="8229600" cy="3757680"/>
          </a:xfrm>
        </p:grpSpPr>
        <p:sp>
          <p:nvSpPr>
            <p:cNvPr id="207" name="Rectangle 2"/>
            <p:cNvSpPr/>
            <p:nvPr/>
          </p:nvSpPr>
          <p:spPr>
            <a:xfrm>
              <a:off x="457200" y="1015920"/>
              <a:ext cx="8229600" cy="3757680"/>
            </a:xfrm>
            <a:prstGeom prst="rect">
              <a:avLst/>
            </a:prstGeom>
            <a:solidFill>
              <a:srgbClr val="23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4"/>
            <p:cNvSpPr/>
            <p:nvPr/>
          </p:nvSpPr>
          <p:spPr>
            <a:xfrm>
              <a:off x="457200" y="4570200"/>
              <a:ext cx="8229600" cy="20340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  <a:effectLst>
              <a:outerShdw dist="3816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7"/>
            <p:cNvSpPr/>
            <p:nvPr/>
          </p:nvSpPr>
          <p:spPr>
            <a:xfrm>
              <a:off x="457200" y="1015920"/>
              <a:ext cx="8229600" cy="2030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  <a:effectLst>
              <a:outerShdw dist="3816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8"/>
            <p:cNvSpPr/>
            <p:nvPr/>
          </p:nvSpPr>
          <p:spPr>
            <a:xfrm>
              <a:off x="8458200" y="1015920"/>
              <a:ext cx="228600" cy="37576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9"/>
            <p:cNvSpPr/>
            <p:nvPr/>
          </p:nvSpPr>
          <p:spPr>
            <a:xfrm>
              <a:off x="457200" y="1015920"/>
              <a:ext cx="228600" cy="37576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Rectangle 10"/>
          <p:cNvSpPr/>
          <p:nvPr/>
        </p:nvSpPr>
        <p:spPr>
          <a:xfrm>
            <a:off x="3581280" y="2276640"/>
            <a:ext cx="195444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622620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2"/>
          <p:cNvSpPr/>
          <p:nvPr/>
        </p:nvSpPr>
        <p:spPr>
          <a:xfrm>
            <a:off x="3076560" y="3102120"/>
            <a:ext cx="123840" cy="1648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3"/>
          <p:cNvSpPr/>
          <p:nvPr/>
        </p:nvSpPr>
        <p:spPr>
          <a:xfrm>
            <a:off x="3076560" y="3711600"/>
            <a:ext cx="123840" cy="16524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4"/>
          <p:cNvSpPr/>
          <p:nvPr/>
        </p:nvSpPr>
        <p:spPr>
          <a:xfrm>
            <a:off x="78912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1473120" y="1219320"/>
            <a:ext cx="614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next session is ready to st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3581280" y="2276640"/>
            <a:ext cx="195444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18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3"/>
          <p:cNvSpPr/>
          <p:nvPr/>
        </p:nvSpPr>
        <p:spPr>
          <a:xfrm>
            <a:off x="78912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3581280" y="2276640"/>
            <a:ext cx="195444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17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3"/>
          <p:cNvSpPr/>
          <p:nvPr/>
        </p:nvSpPr>
        <p:spPr>
          <a:xfrm>
            <a:off x="78912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3581280" y="2276640"/>
            <a:ext cx="195444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16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3"/>
          <p:cNvSpPr/>
          <p:nvPr/>
        </p:nvSpPr>
        <p:spPr>
          <a:xfrm>
            <a:off x="78912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3581280" y="2276640"/>
            <a:ext cx="195444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3"/>
          <p:cNvSpPr/>
          <p:nvPr/>
        </p:nvSpPr>
        <p:spPr>
          <a:xfrm>
            <a:off x="78912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3581280" y="2276640"/>
            <a:ext cx="195444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14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3"/>
          <p:cNvSpPr/>
          <p:nvPr/>
        </p:nvSpPr>
        <p:spPr>
          <a:xfrm>
            <a:off x="78912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3581280" y="2276640"/>
            <a:ext cx="195444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13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3"/>
          <p:cNvSpPr/>
          <p:nvPr/>
        </p:nvSpPr>
        <p:spPr>
          <a:xfrm>
            <a:off x="78912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3581280" y="2276640"/>
            <a:ext cx="195444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12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3"/>
          <p:cNvSpPr/>
          <p:nvPr/>
        </p:nvSpPr>
        <p:spPr>
          <a:xfrm>
            <a:off x="78912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12840" y="6396120"/>
            <a:ext cx="4187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6T14:23:16Z</dcterms:created>
  <dc:creator>Presentation Magazine</dc:creator>
  <dc:description/>
  <dc:language>en-US</dc:language>
  <cp:lastModifiedBy>for_yang@qq.com</cp:lastModifiedBy>
  <dcterms:modified xsi:type="dcterms:W3CDTF">2015-07-21T02:08:34Z</dcterms:modified>
  <cp:revision>8</cp:revision>
  <dc:subject/>
  <dc:title>Countdown Tim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