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wmf" ContentType="image/x-wmf"/>
  <Override PartName="/ppt/media/image13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B01-D86F-4F53-8D21-2F368BCB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0CC-A9CE-4625-96E7-C99BB0D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4BA75-F5F2-4FBD-A0A2-76EFA54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1E256-2466-40DD-8FDA-419AF84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1DAD-6020-4285-BC3F-D5E2EC2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E8357-81D3-4023-AEAF-5AD6F3C9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86318-C49C-404A-A181-9ED62F4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114E-A2BD-40C4-9723-803174D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701B9-277D-4051-AAE1-C293171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04E93-18E7-4840-B7AB-5144D62D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24D8B-99B5-4956-AC1E-59E8D8F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AA4BB-138C-446A-8F2D-A46D272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809-68A7-4163-85DB-388823C9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2EF9A-B132-4C85-96DB-99F7EB8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6E775-44F3-4682-A221-05349243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5D835-DE41-40EA-AD9C-0FD4401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4F3E0-A1CB-4368-959D-1099AF3B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7EA4D-0D37-4A13-A4AE-CC9B7F9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671BE-E4EB-420E-82A2-04C3DFA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69C0A-3021-4F7A-9476-2FBC48A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95C77-CCC6-4A19-971C-1E8057E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07919-FB11-4841-843A-40A071B9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4781B-D97F-4B15-9AEC-55EF856A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A20-4D18-424E-A191-DB8107AE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78917-8826-4715-88E9-AFAF3F5C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B5BE-1262-4571-8605-0A2243C9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4227C-BE12-4275-947E-8CF64E3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FE66-8F86-42F7-8268-0FDD0F7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D004D-DC45-4482-9FFC-4DEBDE96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1B45B-F08E-462B-BBC2-EAD4BA4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F83A-7874-4EEE-B6C1-5CDB0B0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21C46-AB81-487C-8C10-585C62E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2CA0-88F5-4804-8A6F-D514675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098F-644F-47D3-AA41-F755E26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649-008D-4D99-82B4-5359223E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D51CF-DD06-4CE2-BC69-E142F5B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72E0A-C9BF-4244-8D8D-4C4AA503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18C4-29FA-4D15-94AF-CA4A581A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D4D3D-B56D-4675-846F-0D7AB09A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1B48A-DC6D-4C94-A8B6-F642CEF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97F43-20B1-4AC5-A7AF-889843B9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CD5D1-DEB8-4AB7-A791-0640E743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D83A1-B66C-405B-B813-6068066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6FDE5-F018-4BA4-BB95-433AF8B7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5BAB4-4EFE-4D16-8D67-7BADFE1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BDE-8F9E-41A1-943D-A44209C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D143C-FEC7-4FBA-8E7A-F4CA8E6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55CD7-C1A3-4BD7-A01C-9106A93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E2610-9F1A-49C6-9334-9C5394B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2851-B561-4081-BB7B-0CB50E09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071E-3795-4698-AEA8-47D0FB9F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F791C-917A-4176-A10E-B4209856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CBE7E-50F5-4525-9AB1-B7B290E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751BE-46E0-4BE8-B72C-2A15826E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8B1E1-CDB6-4F87-8D9B-F8E4358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3DFA4-52CE-4819-B1A8-1E97DBE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D23-0B95-4FBB-A9C2-E970DFC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06D93-400B-4915-B781-2A5563A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2A1C6-9B90-4E3D-95DD-77F9349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F4667-7377-45EE-A193-DDF0040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38B85-4D27-471F-B587-14DA51A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898CC-3668-4B13-A197-1B5F68B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BB339-1250-4F4D-9D48-B4CB703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DB7B9-FE80-4CC2-8B8B-9F07AB62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CEF5-7FE0-43F8-88DD-114D8208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31A7-931C-497D-AEAF-A2F3B45A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5CF6-8DA5-4357-85A1-5BF6010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82E-D766-4F2C-9FC7-C492408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21-5A11-4EF0-8A5E-9D45F1F7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899B-84B1-4CEE-8818-551111A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11EF-DFE9-4518-9DE3-FF3E50A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C6C-2E9A-4145-A5E9-4CE00BE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F0CE-560E-4F2A-A332-8F173BE2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1F32-F416-4D3E-9D27-1F18DC9E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37AD-5B34-4C14-AAF4-4A3FC34D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DDDE-EB8D-487C-9C6A-1CCD49A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2B1C-6178-438C-BA41-7CC9AC2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E4F1-D3E7-4480-A03D-BA44B862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1FF8-7234-49DB-9F3A-AF294B8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505-820C-41F2-A6E7-E349C98E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0D3B-6A32-409A-9460-606454E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2A80-1541-45BA-9A4E-714F9B8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DE1A-2BF8-4C83-8CBD-5941842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48BE-CB13-4605-BEB3-865ACD0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F4E1-3572-4299-8377-943FEC3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51DC-914C-449D-8C73-B09C343B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0AFB-93B0-409E-A4B8-3ECE1468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EE15-C4F6-402A-B411-C21154F9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25A2-B774-4322-85BB-12D3B958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1739-A4D0-4989-896E-020DCBF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E94-FA99-435D-A104-3B9FA90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9B8D-9C38-4B6A-8E1B-76E6110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34E5-2120-41F8-BE01-50AEFF2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E549-EB21-45B8-A5E4-F98C4E3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49B7-1563-4CF9-AB10-16AEACF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5FFF-1A00-4608-B9B1-4B7FDE6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B8E1-D196-4B4E-8A62-20F8948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0634-26F1-49FD-9939-5A9500C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E88C-E10D-433E-BAAE-0655C759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410B-AEEC-4B56-A25A-923AB5C7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E434-E1FA-4031-BF7B-042A0EE2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B78-4D57-42A3-B995-62E66BF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927E-B09F-4100-99A5-6120D05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232A-ED3B-46E5-B1D0-E455453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F13E-27CE-4BC6-8310-B777B88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2077-269B-4815-93A7-6E926C9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8DF7-4F6D-41F3-85A7-36667DC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F942-5672-400C-B626-0BB774C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1502-2C64-4DC1-BDF6-8E6A20B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ED7A-627D-4AC1-AB46-BBA24A1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923C-0BAA-4B33-9A6A-2759C92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BEC0-9907-415D-A706-8F09C2E4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0FF-FDD1-469E-9016-5410E53B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CD21-A47F-4976-8495-87F4E100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FA09-1A5C-4811-90ED-08C7CF65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8A9E-3AE9-4E71-9639-0DDBBAC4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B3752-DA7D-4B03-A3F0-3516373D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949B-CC78-4F3A-8B5C-3FC05838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FF6E-5EA6-42A4-AE13-6BF217C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49559-2655-49F8-AE2A-7036BA3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D2FE-607F-4B41-8235-4817B7C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7F9C-221E-40B7-AE93-2A304D0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85E2-AFF5-436B-9E1B-3A5FCE1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357-AA95-46C7-B880-BA73B96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6D48F-E761-45A5-9B36-00DB618B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B8BD-0C55-480D-83B1-3277118E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85D8-D3FF-4509-978C-5257694E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7846-A231-4C65-B4CE-9CA3D14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0A7C-20FB-43A8-9FA8-D305595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56231-4E8C-4484-98D5-5DEAEC2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719E-3F8E-4E8E-BE05-85CA8BD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C9DB-A7DA-48F0-8FDF-4E18C2AD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0F17-7CB8-4A4E-94F1-F276615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01A62-1BFE-4A2E-A5B3-6885330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CDA-CFAD-4748-93A0-BA02993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6021-70E4-4379-B765-389841B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B4DA-45B0-41C5-A0CA-41A40D50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E5B7-C64A-457C-8AA6-210EF15C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D0CB-EC2A-4140-A07B-CB104476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7F38-2CD4-4E77-90FE-AAE25904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F5D9-1A44-4B6C-8CB5-356EE7D7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88DE-05A0-4CAD-8956-D476F0C7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6C03-B83D-4BAE-97D8-1FDE3520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445E-F76B-4041-8601-1CC2CCD9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16432-BA52-4B6B-BC8C-EB9101D4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419-B26D-486D-8582-B8EE843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86998-F15A-464D-A6C5-00CFBC6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8C88-C679-4AF3-AAA8-811337E3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E02AD-6683-4219-B82B-6323660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98B41-DFD1-4203-AC0C-DC51FC4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366F-E158-4341-ABFF-2694998A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072F5-B53A-401A-8DD2-1B322890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5EE2-FAA3-42C5-801A-D6DD7DC7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DA62F-1F88-467B-B649-1A98ABBB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C4975-D9D0-4E94-A1F9-F26BA63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B105-AAA8-4000-A014-82391F5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C42-55A4-466C-88C9-EE3132C772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347A-D9BC-4EFE-9594-CFEA4C0F2A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2E9-0131-49CB-BB53-3929F4B72A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D31-60DA-49F4-AAEF-CDFE041051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8EC-1BED-4C4E-963F-62F64B1F7A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59C-1651-441E-9EA4-955F455F9E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493B-FA55-47C0-83A1-E353E8B6ED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FE2-C1CF-4DDC-8B2E-F0141D7599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CA8-B566-4DFD-A8CA-7176D94F14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F69-33DC-430D-963A-FEF29EDDE3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3583-FA98-4B64-B199-B2542024BE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699-8714-4131-9C2B-0C2D2CDECA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ED1-4BA3-4E6C-AD04-49CD2A3DAC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NA_05M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22040" y="1052640"/>
            <a:ext cx="52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二次函数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5038560" y="2160720"/>
            <a:ext cx="4105440" cy="46972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250920" y="40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函数关系式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=at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bt+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250920" y="981000"/>
            <a:ext cx="4033800" cy="1533600"/>
            <a:chOff x="250920" y="981000"/>
            <a:chExt cx="4033800" cy="1533600"/>
          </a:xfrm>
        </p:grpSpPr>
        <p:sp>
          <p:nvSpPr>
            <p:cNvPr id="687" name="Text Box 6"/>
            <p:cNvSpPr/>
            <p:nvPr/>
          </p:nvSpPr>
          <p:spPr>
            <a:xfrm>
              <a:off x="250920" y="16034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由题意得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8" name="Object 7"/>
            <p:cNvGraphicFramePr/>
            <p:nvPr/>
          </p:nvGraphicFramePr>
          <p:xfrm>
            <a:off x="1619280" y="981000"/>
            <a:ext cx="2665440" cy="1533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9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981000"/>
                      <a:ext cx="2665440" cy="153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0" name="Rectangle 8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9"/>
          <p:cNvGrpSpPr/>
          <p:nvPr/>
        </p:nvGrpSpPr>
        <p:grpSpPr>
          <a:xfrm>
            <a:off x="4643280" y="981000"/>
            <a:ext cx="2881440" cy="1560600"/>
            <a:chOff x="4643280" y="981000"/>
            <a:chExt cx="2881440" cy="1560600"/>
          </a:xfrm>
        </p:grpSpPr>
        <p:graphicFrame>
          <p:nvGraphicFramePr>
            <p:cNvPr id="692" name="Object 10"/>
            <p:cNvGraphicFramePr/>
            <p:nvPr/>
          </p:nvGraphicFramePr>
          <p:xfrm>
            <a:off x="5003640" y="981000"/>
            <a:ext cx="2521080" cy="15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3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03640" y="981000"/>
                      <a:ext cx="252108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4" name="Text Box 11"/>
            <p:cNvSpPr/>
            <p:nvPr/>
          </p:nvSpPr>
          <p:spPr>
            <a:xfrm>
              <a:off x="4643280" y="1412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Rectangle 12"/>
          <p:cNvSpPr/>
          <p:nvPr/>
        </p:nvSpPr>
        <p:spPr>
          <a:xfrm>
            <a:off x="4345200" y="3783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13"/>
          <p:cNvGrpSpPr/>
          <p:nvPr/>
        </p:nvGrpSpPr>
        <p:grpSpPr>
          <a:xfrm>
            <a:off x="900000" y="2637000"/>
            <a:ext cx="1859040" cy="1800000"/>
            <a:chOff x="900000" y="2637000"/>
            <a:chExt cx="1859040" cy="1800000"/>
          </a:xfrm>
        </p:grpSpPr>
        <p:graphicFrame>
          <p:nvGraphicFramePr>
            <p:cNvPr id="697" name="Object 14"/>
            <p:cNvGraphicFramePr/>
            <p:nvPr/>
          </p:nvGraphicFramePr>
          <p:xfrm>
            <a:off x="1692000" y="2637000"/>
            <a:ext cx="1067040" cy="1800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8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92000" y="2637000"/>
                      <a:ext cx="1067040" cy="18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9" name="Text Box 15"/>
            <p:cNvSpPr/>
            <p:nvPr/>
          </p:nvSpPr>
          <p:spPr>
            <a:xfrm>
              <a:off x="900000" y="33318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得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6"/>
          <p:cNvSpPr/>
          <p:nvPr/>
        </p:nvSpPr>
        <p:spPr>
          <a:xfrm>
            <a:off x="4321440" y="35740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17"/>
          <p:cNvGrpSpPr/>
          <p:nvPr/>
        </p:nvGrpSpPr>
        <p:grpSpPr>
          <a:xfrm>
            <a:off x="755640" y="4605480"/>
            <a:ext cx="2521080" cy="1055520"/>
            <a:chOff x="755640" y="4605480"/>
            <a:chExt cx="2521080" cy="1055520"/>
          </a:xfrm>
        </p:grpSpPr>
        <p:graphicFrame>
          <p:nvGraphicFramePr>
            <p:cNvPr id="702" name="Object 18"/>
            <p:cNvGraphicFramePr/>
            <p:nvPr/>
          </p:nvGraphicFramePr>
          <p:xfrm>
            <a:off x="1763640" y="4605480"/>
            <a:ext cx="1513080" cy="1055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3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4605480"/>
                      <a:ext cx="151308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4" name="Text Box 19"/>
            <p:cNvSpPr/>
            <p:nvPr/>
          </p:nvSpPr>
          <p:spPr>
            <a:xfrm>
              <a:off x="755640" y="4821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s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Text Box 20"/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截止到几月末公司累积利润可达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7" name="Object 3"/>
          <p:cNvGraphicFramePr/>
          <p:nvPr/>
        </p:nvGraphicFramePr>
        <p:xfrm>
          <a:off x="5472000" y="692280"/>
          <a:ext cx="3672000" cy="48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2000" y="692280"/>
                    <a:ext cx="367200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4"/>
          <p:cNvSpPr/>
          <p:nvPr/>
        </p:nvSpPr>
        <p:spPr>
          <a:xfrm>
            <a:off x="0" y="979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611280" y="692280"/>
            <a:ext cx="5040360" cy="934920"/>
            <a:chOff x="611280" y="692280"/>
            <a:chExt cx="5040360" cy="934920"/>
          </a:xfrm>
        </p:grpSpPr>
        <p:sp>
          <p:nvSpPr>
            <p:cNvPr id="712" name="Text Box 7"/>
            <p:cNvSpPr/>
            <p:nvPr/>
          </p:nvSpPr>
          <p:spPr>
            <a:xfrm>
              <a:off x="611280" y="692280"/>
              <a:ext cx="504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把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s=3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代入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3" name="Object 8"/>
            <p:cNvGraphicFramePr/>
            <p:nvPr/>
          </p:nvGraphicFramePr>
          <p:xfrm>
            <a:off x="2841840" y="692280"/>
            <a:ext cx="1728720" cy="93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1840" y="692280"/>
                      <a:ext cx="172872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5" name="Group 9"/>
          <p:cNvGrpSpPr/>
          <p:nvPr/>
        </p:nvGrpSpPr>
        <p:grpSpPr>
          <a:xfrm>
            <a:off x="900000" y="1486080"/>
            <a:ext cx="3313080" cy="934920"/>
            <a:chOff x="900000" y="1486080"/>
            <a:chExt cx="3313080" cy="934920"/>
          </a:xfrm>
        </p:grpSpPr>
        <p:graphicFrame>
          <p:nvGraphicFramePr>
            <p:cNvPr id="716" name="Object 10"/>
            <p:cNvGraphicFramePr/>
            <p:nvPr/>
          </p:nvGraphicFramePr>
          <p:xfrm>
            <a:off x="1979640" y="1486080"/>
            <a:ext cx="1728720" cy="93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79640" y="1486080"/>
                      <a:ext cx="172872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8" name="Text Box 11"/>
            <p:cNvSpPr/>
            <p:nvPr/>
          </p:nvSpPr>
          <p:spPr>
            <a:xfrm>
              <a:off x="900000" y="170208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0=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Text Box 12"/>
          <p:cNvSpPr/>
          <p:nvPr/>
        </p:nvSpPr>
        <p:spPr>
          <a:xfrm>
            <a:off x="611280" y="2577960"/>
            <a:ext cx="4535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- 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舍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108000" y="342900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截止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末公司累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润可达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万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42920" y="17316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公司所获利润是多少万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4"/>
          <p:cNvGrpSpPr/>
          <p:nvPr/>
        </p:nvGrpSpPr>
        <p:grpSpPr>
          <a:xfrm>
            <a:off x="108000" y="763560"/>
            <a:ext cx="7812000" cy="1155240"/>
            <a:chOff x="108000" y="763560"/>
            <a:chExt cx="7812000" cy="1155240"/>
          </a:xfrm>
        </p:grpSpPr>
        <p:sp>
          <p:nvSpPr>
            <p:cNvPr id="725" name="Text Box 5"/>
            <p:cNvSpPr/>
            <p:nvPr/>
          </p:nvSpPr>
          <p:spPr>
            <a:xfrm>
              <a:off x="108000" y="971640"/>
              <a:ext cx="781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解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把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t=7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代入，得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S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6" name="Object 6"/>
            <p:cNvGraphicFramePr/>
            <p:nvPr/>
          </p:nvGraphicFramePr>
          <p:xfrm>
            <a:off x="3851280" y="763560"/>
            <a:ext cx="3745080" cy="93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1280" y="763560"/>
                      <a:ext cx="374508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"/>
          <p:cNvGrpSpPr/>
          <p:nvPr/>
        </p:nvGrpSpPr>
        <p:grpSpPr>
          <a:xfrm>
            <a:off x="611280" y="1893960"/>
            <a:ext cx="7200720" cy="1093320"/>
            <a:chOff x="611280" y="1893960"/>
            <a:chExt cx="7200720" cy="1093320"/>
          </a:xfrm>
        </p:grpSpPr>
        <p:sp>
          <p:nvSpPr>
            <p:cNvPr id="730" name="Text Box 9"/>
            <p:cNvSpPr/>
            <p:nvPr/>
          </p:nvSpPr>
          <p:spPr>
            <a:xfrm>
              <a:off x="611280" y="2040120"/>
              <a:ext cx="720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把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t=8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代入，得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S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1" name="Object 10"/>
            <p:cNvGraphicFramePr/>
            <p:nvPr/>
          </p:nvGraphicFramePr>
          <p:xfrm>
            <a:off x="3850920" y="1893960"/>
            <a:ext cx="2771640" cy="95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0920" y="1893960"/>
                      <a:ext cx="27716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3" name="Text Box 11"/>
          <p:cNvSpPr/>
          <p:nvPr/>
        </p:nvSpPr>
        <p:spPr>
          <a:xfrm>
            <a:off x="1620720" y="292104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6-10.5=5.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179280" y="3716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答：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公司获利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元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4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08000" y="44280"/>
            <a:ext cx="90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已知半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半圆的中点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一个动点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=PA,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延长线相交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中点，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A=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=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函数关系式，并指出定义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何值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250920" y="3429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250920" y="328464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∵OA=OP,PA=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∴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=∠APO, ∠A=∠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5"/>
          <p:cNvGrpSpPr/>
          <p:nvPr/>
        </p:nvGrpSpPr>
        <p:grpSpPr>
          <a:xfrm>
            <a:off x="755640" y="5013360"/>
            <a:ext cx="1944720" cy="849240"/>
            <a:chOff x="755640" y="5013360"/>
            <a:chExt cx="1944720" cy="849240"/>
          </a:xfrm>
        </p:grpSpPr>
        <p:sp>
          <p:nvSpPr>
            <p:cNvPr id="740" name="Text Box 6"/>
            <p:cNvSpPr/>
            <p:nvPr/>
          </p:nvSpPr>
          <p:spPr>
            <a:xfrm>
              <a:off x="755640" y="520560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Object 7"/>
                <p:cNvSpPr txBox="1"/>
                <p:nvPr/>
              </p:nvSpPr>
              <p:spPr>
                <a:xfrm>
                  <a:off x="1187280" y="5013360"/>
                  <a:ext cx="151308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O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2" name="Rectangle 8"/>
          <p:cNvSpPr/>
          <p:nvPr/>
        </p:nvSpPr>
        <p:spPr>
          <a:xfrm>
            <a:off x="4226040" y="39247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9"/>
          <p:cNvGrpSpPr/>
          <p:nvPr/>
        </p:nvGrpSpPr>
        <p:grpSpPr>
          <a:xfrm>
            <a:off x="3059280" y="5013360"/>
            <a:ext cx="1873080" cy="1292760"/>
            <a:chOff x="3059280" y="5013360"/>
            <a:chExt cx="1873080" cy="1292760"/>
          </a:xfrm>
        </p:grpSpPr>
        <mc:AlternateContent>
          <mc:Choice xmlns:a14="http://schemas.microsoft.com/office/drawing/2010/main" Requires="a14">
            <p:sp>
              <p:nvSpPr>
                <p:cNvPr id="744" name="Object 10"/>
                <p:cNvSpPr txBox="1"/>
                <p:nvPr/>
              </p:nvSpPr>
              <p:spPr>
                <a:xfrm>
                  <a:off x="3564000" y="5013360"/>
                  <a:ext cx="136836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5" name="Text Box 11"/>
            <p:cNvSpPr/>
            <p:nvPr/>
          </p:nvSpPr>
          <p:spPr>
            <a:xfrm>
              <a:off x="3059280" y="5229360"/>
              <a:ext cx="64764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oup 13"/>
          <p:cNvGrpSpPr/>
          <p:nvPr/>
        </p:nvGrpSpPr>
        <p:grpSpPr>
          <a:xfrm>
            <a:off x="684360" y="5959440"/>
            <a:ext cx="2519280" cy="1224360"/>
            <a:chOff x="684360" y="5959440"/>
            <a:chExt cx="2519280" cy="1224360"/>
          </a:xfrm>
        </p:grpSpPr>
        <p:sp>
          <p:nvSpPr>
            <p:cNvPr id="748" name="Text Box 14"/>
            <p:cNvSpPr/>
            <p:nvPr/>
          </p:nvSpPr>
          <p:spPr>
            <a:xfrm>
              <a:off x="684360" y="6107040"/>
              <a:ext cx="57780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Object 15"/>
                <p:cNvSpPr txBox="1"/>
                <p:nvPr/>
              </p:nvSpPr>
              <p:spPr>
                <a:xfrm>
                  <a:off x="1187640" y="5959440"/>
                  <a:ext cx="201600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0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17"/>
          <p:cNvGrpSpPr/>
          <p:nvPr/>
        </p:nvGrpSpPr>
        <p:grpSpPr>
          <a:xfrm>
            <a:off x="3708360" y="5951520"/>
            <a:ext cx="4032360" cy="574560"/>
            <a:chOff x="3708360" y="5951520"/>
            <a:chExt cx="4032360" cy="574560"/>
          </a:xfrm>
        </p:grpSpPr>
        <mc:AlternateContent>
          <mc:Choice xmlns:a14="http://schemas.microsoft.com/office/drawing/2010/main" Requires="a14">
            <p:sp>
              <p:nvSpPr>
                <p:cNvPr id="752" name="Object 18"/>
                <p:cNvSpPr txBox="1"/>
                <p:nvPr/>
              </p:nvSpPr>
              <p:spPr>
                <a:xfrm>
                  <a:off x="3924360" y="5951520"/>
                  <a:ext cx="2016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3" name="Text Box 19"/>
            <p:cNvSpPr/>
            <p:nvPr/>
          </p:nvSpPr>
          <p:spPr>
            <a:xfrm>
              <a:off x="3708360" y="6005520"/>
              <a:ext cx="40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(                        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Text Box 20"/>
          <p:cNvSpPr/>
          <p:nvPr/>
        </p:nvSpPr>
        <p:spPr>
          <a:xfrm>
            <a:off x="755640" y="414972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PO=∠C,∠A=∠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∴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P∽⊿A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1"/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7107120" y="320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Group 23"/>
          <p:cNvGrpSpPr/>
          <p:nvPr/>
        </p:nvGrpSpPr>
        <p:grpSpPr>
          <a:xfrm>
            <a:off x="5076720" y="1700280"/>
            <a:ext cx="4067280" cy="3690360"/>
            <a:chOff x="5076720" y="1700280"/>
            <a:chExt cx="4067280" cy="3690360"/>
          </a:xfrm>
        </p:grpSpPr>
        <p:sp>
          <p:nvSpPr>
            <p:cNvPr id="758" name="Text Box 24"/>
            <p:cNvSpPr/>
            <p:nvPr/>
          </p:nvSpPr>
          <p:spPr>
            <a:xfrm>
              <a:off x="7883280" y="1700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动画演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9" name="Picture 25" descr=""/>
            <p:cNvPicPr/>
            <p:nvPr/>
          </p:nvPicPr>
          <p:blipFill>
            <a:blip r:embed="rId1"/>
            <a:stretch/>
          </p:blipFill>
          <p:spPr>
            <a:xfrm>
              <a:off x="5076720" y="2707920"/>
              <a:ext cx="4067280" cy="268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08000" y="115920"/>
            <a:ext cx="856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(2)P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半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有公共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可能相切，可能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所以只要排除相切即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28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半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切，∴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P⊥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5"/>
          <p:cNvGrpSpPr/>
          <p:nvPr/>
        </p:nvGrpSpPr>
        <p:grpSpPr>
          <a:xfrm>
            <a:off x="538200" y="1757520"/>
            <a:ext cx="3602160" cy="520560"/>
            <a:chOff x="538200" y="1757520"/>
            <a:chExt cx="3602160" cy="520560"/>
          </a:xfrm>
        </p:grpSpPr>
        <mc:AlternateContent>
          <mc:Choice xmlns:a14="http://schemas.microsoft.com/office/drawing/2010/main" Requires="a14">
            <p:sp>
              <p:nvSpPr>
                <p:cNvPr id="764" name="Object 6"/>
                <p:cNvSpPr txBox="1"/>
                <p:nvPr/>
              </p:nvSpPr>
              <p:spPr>
                <a:xfrm>
                  <a:off x="1187640" y="1757520"/>
                  <a:ext cx="29527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Text Box 7"/>
            <p:cNvSpPr/>
            <p:nvPr/>
          </p:nvSpPr>
          <p:spPr>
            <a:xfrm>
              <a:off x="538200" y="17575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Rectangle 8"/>
          <p:cNvSpPr/>
          <p:nvPr/>
        </p:nvSpPr>
        <p:spPr>
          <a:xfrm>
            <a:off x="4007160" y="35121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9"/>
          <p:cNvGrpSpPr/>
          <p:nvPr/>
        </p:nvGrpSpPr>
        <p:grpSpPr>
          <a:xfrm>
            <a:off x="538200" y="2205000"/>
            <a:ext cx="3746520" cy="664920"/>
            <a:chOff x="538200" y="2205000"/>
            <a:chExt cx="3746520" cy="664920"/>
          </a:xfrm>
        </p:grpSpPr>
        <mc:AlternateContent>
          <mc:Choice xmlns:a14="http://schemas.microsoft.com/office/drawing/2010/main" Requires="a14">
            <p:sp>
              <p:nvSpPr>
                <p:cNvPr id="768" name="Object 10"/>
                <p:cNvSpPr txBox="1"/>
                <p:nvPr/>
              </p:nvSpPr>
              <p:spPr>
                <a:xfrm>
                  <a:off x="1116000" y="2205000"/>
                  <a:ext cx="316872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69" name="Text Box 11"/>
            <p:cNvSpPr/>
            <p:nvPr/>
          </p:nvSpPr>
          <p:spPr>
            <a:xfrm>
              <a:off x="538200" y="23493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Group 13"/>
          <p:cNvGrpSpPr/>
          <p:nvPr/>
        </p:nvGrpSpPr>
        <p:grpSpPr>
          <a:xfrm>
            <a:off x="539640" y="2629080"/>
            <a:ext cx="2627280" cy="871200"/>
            <a:chOff x="539640" y="2629080"/>
            <a:chExt cx="2627280" cy="871200"/>
          </a:xfrm>
        </p:grpSpPr>
        <p:sp>
          <p:nvSpPr>
            <p:cNvPr id="772" name="Text Box 14"/>
            <p:cNvSpPr/>
            <p:nvPr/>
          </p:nvSpPr>
          <p:spPr>
            <a:xfrm>
              <a:off x="539640" y="284472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又∵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Object 15"/>
                <p:cNvSpPr txBox="1"/>
                <p:nvPr/>
              </p:nvSpPr>
              <p:spPr>
                <a:xfrm>
                  <a:off x="1403280" y="2629080"/>
                  <a:ext cx="1763640" cy="87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4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7"/>
          <p:cNvGrpSpPr/>
          <p:nvPr/>
        </p:nvGrpSpPr>
        <p:grpSpPr>
          <a:xfrm>
            <a:off x="431640" y="3429000"/>
            <a:ext cx="4211280" cy="617400"/>
            <a:chOff x="431640" y="3429000"/>
            <a:chExt cx="4211280" cy="617400"/>
          </a:xfrm>
        </p:grpSpPr>
        <mc:AlternateContent>
          <mc:Choice xmlns:a14="http://schemas.microsoft.com/office/drawing/2010/main" Requires="a14">
            <p:sp>
              <p:nvSpPr>
                <p:cNvPr id="776" name="Object 18"/>
                <p:cNvSpPr txBox="1"/>
                <p:nvPr/>
              </p:nvSpPr>
              <p:spPr>
                <a:xfrm>
                  <a:off x="884160" y="3429000"/>
                  <a:ext cx="37587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77" name="Text Box 19"/>
            <p:cNvSpPr/>
            <p:nvPr/>
          </p:nvSpPr>
          <p:spPr>
            <a:xfrm>
              <a:off x="431640" y="3456000"/>
              <a:ext cx="7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Text Box 20"/>
          <p:cNvSpPr/>
          <p:nvPr/>
        </p:nvSpPr>
        <p:spPr>
          <a:xfrm>
            <a:off x="468360" y="4076640"/>
            <a:ext cx="59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4,   y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- 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舍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Group 22"/>
          <p:cNvGrpSpPr/>
          <p:nvPr/>
        </p:nvGrpSpPr>
        <p:grpSpPr>
          <a:xfrm>
            <a:off x="468360" y="4581360"/>
            <a:ext cx="2302920" cy="1215360"/>
            <a:chOff x="468360" y="4581360"/>
            <a:chExt cx="2302920" cy="1215360"/>
          </a:xfrm>
        </p:grpSpPr>
        <p:sp>
          <p:nvSpPr>
            <p:cNvPr id="781" name="Text Box 23"/>
            <p:cNvSpPr/>
            <p:nvPr/>
          </p:nvSpPr>
          <p:spPr>
            <a:xfrm>
              <a:off x="468360" y="4627440"/>
              <a:ext cx="1294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此时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2" name="Object 24"/>
                <p:cNvSpPr txBox="1"/>
                <p:nvPr/>
              </p:nvSpPr>
              <p:spPr>
                <a:xfrm>
                  <a:off x="1763280" y="4581360"/>
                  <a:ext cx="100800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3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Group 26"/>
          <p:cNvGrpSpPr/>
          <p:nvPr/>
        </p:nvGrpSpPr>
        <p:grpSpPr>
          <a:xfrm>
            <a:off x="395280" y="5084640"/>
            <a:ext cx="5832360" cy="542880"/>
            <a:chOff x="395280" y="5084640"/>
            <a:chExt cx="5832360" cy="542880"/>
          </a:xfrm>
        </p:grpSpPr>
        <p:sp>
          <p:nvSpPr>
            <p:cNvPr id="785" name="Text Box 27"/>
            <p:cNvSpPr/>
            <p:nvPr/>
          </p:nvSpPr>
          <p:spPr>
            <a:xfrm>
              <a:off x="395280" y="5106960"/>
              <a:ext cx="58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=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切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Object 28"/>
                <p:cNvSpPr txBox="1"/>
                <p:nvPr/>
              </p:nvSpPr>
              <p:spPr>
                <a:xfrm>
                  <a:off x="1258920" y="5084640"/>
                  <a:ext cx="7207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31"/>
          <p:cNvGrpSpPr/>
          <p:nvPr/>
        </p:nvGrpSpPr>
        <p:grpSpPr>
          <a:xfrm>
            <a:off x="395280" y="5589720"/>
            <a:ext cx="8064360" cy="556920"/>
            <a:chOff x="395280" y="5589720"/>
            <a:chExt cx="8064360" cy="556920"/>
          </a:xfrm>
        </p:grpSpPr>
        <p:sp>
          <p:nvSpPr>
            <p:cNvPr id="790" name="Text Box 32"/>
            <p:cNvSpPr/>
            <p:nvPr/>
          </p:nvSpPr>
          <p:spPr>
            <a:xfrm>
              <a:off x="395280" y="5626080"/>
              <a:ext cx="80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当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且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≠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与圆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相交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1" name="Object 33"/>
                <p:cNvSpPr txBox="1"/>
                <p:nvPr/>
              </p:nvSpPr>
              <p:spPr>
                <a:xfrm>
                  <a:off x="826920" y="5631120"/>
                  <a:ext cx="180036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Object 34"/>
                <p:cNvSpPr txBox="1"/>
                <p:nvPr/>
              </p:nvSpPr>
              <p:spPr>
                <a:xfrm>
                  <a:off x="3637080" y="5589720"/>
                  <a:ext cx="7189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3" name="Text Box 35"/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36"/>
          <p:cNvGrpSpPr/>
          <p:nvPr/>
        </p:nvGrpSpPr>
        <p:grpSpPr>
          <a:xfrm>
            <a:off x="5076720" y="1700280"/>
            <a:ext cx="4067280" cy="3690360"/>
            <a:chOff x="5076720" y="1700280"/>
            <a:chExt cx="4067280" cy="3690360"/>
          </a:xfrm>
        </p:grpSpPr>
        <p:sp>
          <p:nvSpPr>
            <p:cNvPr id="795" name="Text Box 37"/>
            <p:cNvSpPr/>
            <p:nvPr/>
          </p:nvSpPr>
          <p:spPr>
            <a:xfrm>
              <a:off x="7883280" y="1700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动画演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Picture 38" descr=""/>
            <p:cNvPicPr/>
            <p:nvPr/>
          </p:nvPicPr>
          <p:blipFill>
            <a:blip r:embed="rId1"/>
            <a:stretch/>
          </p:blipFill>
          <p:spPr>
            <a:xfrm>
              <a:off x="5076720" y="2707920"/>
              <a:ext cx="4067280" cy="26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Text Box 39"/>
          <p:cNvSpPr/>
          <p:nvPr/>
        </p:nvSpPr>
        <p:spPr>
          <a:xfrm>
            <a:off x="179280" y="6021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324000" y="54936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次函数与一元二次方程关系密切，解题的关键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要善于进行转化，且注意根的判别式的取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179280" y="44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纳总结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324000" y="206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次函数的最值在实际问题中的运用广泛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解时应注意自变量的取值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24000" y="31417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次函数在几何问题中的运用，在求解进应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图形位置的变化，注意运用分类讨论的思想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WordArt 2"/>
          <p:cNvSpPr txBox="1"/>
          <p:nvPr/>
        </p:nvSpPr>
        <p:spPr>
          <a:xfrm>
            <a:off x="971640" y="1125360"/>
            <a:ext cx="489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谢谢光临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803" name="WordArt 3"/>
          <p:cNvSpPr txBox="1"/>
          <p:nvPr/>
        </p:nvSpPr>
        <p:spPr>
          <a:xfrm>
            <a:off x="3059280" y="4292640"/>
            <a:ext cx="345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请提宝贵意见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1116000" y="6237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G07L0069"/>
          <p:cNvPicPr/>
          <p:nvPr/>
        </p:nvPicPr>
        <p:blipFill>
          <a:blip r:embed="rId1"/>
          <a:stretch/>
        </p:blipFill>
        <p:spPr>
          <a:xfrm>
            <a:off x="0" y="0"/>
            <a:ext cx="103633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1619280" y="1268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二次函数的应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7812000" y="621180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Object 2"/>
          <p:cNvGraphicFramePr/>
          <p:nvPr/>
        </p:nvGraphicFramePr>
        <p:xfrm>
          <a:off x="5727600" y="836640"/>
          <a:ext cx="34164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836640"/>
                    <a:ext cx="34164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3"/>
          <p:cNvSpPr/>
          <p:nvPr/>
        </p:nvSpPr>
        <p:spPr>
          <a:xfrm>
            <a:off x="539640" y="4046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请研究二次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4x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象及其性质，并尽可能多地写出有关结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066680" y="213372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24000" y="1557360"/>
            <a:ext cx="410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解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的开口方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顶点坐标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称轴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交点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交点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交点关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称轴的对称点坐标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最大值或最小值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正负性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的平移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图象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上截得的线段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3205080" y="1557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2122560" y="1808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1908000" y="2133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=-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3276720" y="2455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，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3274920" y="27446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3492360" y="339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2916360" y="3679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=-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最小值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= 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973080" y="425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=-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=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；当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-3&lt;x&lt;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&lt;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；当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&gt;-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&lt;-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71640" y="490392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=x</a:t>
            </a:r>
            <a:r>
              <a:rPr b="0" lang="zh-CN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向左平移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个单位，再向下平移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个单位得到抛物线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=x</a:t>
            </a:r>
            <a:r>
              <a:rPr b="0" lang="zh-CN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+4x+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3995640" y="519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324000" y="566100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对称抛物线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=x</a:t>
            </a:r>
            <a:r>
              <a:rPr b="0" lang="zh-CN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+4x+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关于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轴对称的抛物线为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y=-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+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x+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8028000" y="6035760"/>
            <a:ext cx="11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Lucida Handwriting"/>
                <a:hlinkClick r:id="rId3" action="ppaction://hlinksldjump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：用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铁丝围成一个矩形，一边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cm.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c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何时矩形的面积最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∵周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cm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边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cm  , 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边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0" y="4079880"/>
            <a:ext cx="7308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韦达定理得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•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6"/>
          <p:cNvSpPr/>
          <p:nvPr/>
        </p:nvSpPr>
        <p:spPr>
          <a:xfrm flipH="1" flipV="1">
            <a:off x="4006800" y="3522600"/>
            <a:ext cx="10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7"/>
          <p:cNvGrpSpPr/>
          <p:nvPr/>
        </p:nvGrpSpPr>
        <p:grpSpPr>
          <a:xfrm>
            <a:off x="324000" y="4395960"/>
            <a:ext cx="8278200" cy="1338120"/>
            <a:chOff x="324000" y="4395960"/>
            <a:chExt cx="8278200" cy="1338120"/>
          </a:xfrm>
        </p:grpSpPr>
        <p:sp>
          <p:nvSpPr>
            <p:cNvPr id="562" name="Text Box 8"/>
            <p:cNvSpPr/>
            <p:nvPr/>
          </p:nvSpPr>
          <p:spPr>
            <a:xfrm>
              <a:off x="1403280" y="4437360"/>
              <a:ext cx="71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(x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x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•x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k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(2k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k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k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1403280" y="5059440"/>
              <a:ext cx="28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(k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10"/>
                <p:cNvSpPr txBox="1"/>
                <p:nvPr/>
              </p:nvSpPr>
              <p:spPr>
                <a:xfrm>
                  <a:off x="2557080" y="4889520"/>
                  <a:ext cx="3268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11"/>
                <p:cNvSpPr txBox="1"/>
                <p:nvPr/>
              </p:nvSpPr>
              <p:spPr>
                <a:xfrm>
                  <a:off x="324000" y="4395960"/>
                  <a:ext cx="11520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Group 12"/>
          <p:cNvGrpSpPr/>
          <p:nvPr/>
        </p:nvGrpSpPr>
        <p:grpSpPr>
          <a:xfrm>
            <a:off x="539640" y="5516640"/>
            <a:ext cx="7488360" cy="844560"/>
            <a:chOff x="539640" y="5516640"/>
            <a:chExt cx="7488360" cy="844560"/>
          </a:xfrm>
        </p:grpSpPr>
        <mc:AlternateContent>
          <mc:Choice xmlns:a14="http://schemas.microsoft.com/office/drawing/2010/main" Requires="a14">
            <p:sp>
              <p:nvSpPr>
                <p:cNvPr id="567" name="Object 13"/>
                <p:cNvSpPr txBox="1"/>
                <p:nvPr/>
              </p:nvSpPr>
              <p:spPr>
                <a:xfrm>
                  <a:off x="1763640" y="5516640"/>
                  <a:ext cx="3268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68" name="Group 14"/>
            <p:cNvGrpSpPr/>
            <p:nvPr/>
          </p:nvGrpSpPr>
          <p:grpSpPr>
            <a:xfrm>
              <a:off x="539640" y="5589720"/>
              <a:ext cx="7488360" cy="546120"/>
              <a:chOff x="539640" y="5589720"/>
              <a:chExt cx="7488360" cy="546120"/>
            </a:xfrm>
          </p:grpSpPr>
          <p:sp>
            <p:nvSpPr>
              <p:cNvPr id="569" name="Text Box 15"/>
              <p:cNvSpPr/>
              <p:nvPr/>
            </p:nvSpPr>
            <p:spPr>
              <a:xfrm>
                <a:off x="539640" y="5661000"/>
                <a:ext cx="748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∴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当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 时，                  有最小值，最小值为１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16"/>
                  <p:cNvSpPr txBox="1"/>
                  <p:nvPr/>
                </p:nvSpPr>
                <p:spPr>
                  <a:xfrm>
                    <a:off x="2916000" y="5589720"/>
                    <a:ext cx="1152720" cy="54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71" name="Text Box 17"/>
          <p:cNvSpPr/>
          <p:nvPr/>
        </p:nvSpPr>
        <p:spPr>
          <a:xfrm>
            <a:off x="682560" y="1052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＝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x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&lt; x&lt;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0" y="18334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&lt;0, ∴ 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最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最大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此时矩形的另一边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179280" y="2637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矩形的两边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为正方形时，矩形的面积最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0" y="3141720"/>
            <a:ext cx="9144000" cy="1066320"/>
            <a:chOff x="0" y="3141720"/>
            <a:chExt cx="9144000" cy="1066320"/>
          </a:xfrm>
        </p:grpSpPr>
        <p:sp>
          <p:nvSpPr>
            <p:cNvPr id="575" name="Text Box 21"/>
            <p:cNvSpPr/>
            <p:nvPr/>
          </p:nvSpPr>
          <p:spPr>
            <a:xfrm>
              <a:off x="0" y="3141720"/>
              <a:ext cx="9144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练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已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一元二次方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k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两根，求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最小值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22"/>
                <p:cNvSpPr txBox="1"/>
                <p:nvPr/>
              </p:nvSpPr>
              <p:spPr>
                <a:xfrm>
                  <a:off x="1332000" y="3530520"/>
                  <a:ext cx="1152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7" name="Text Box 23"/>
          <p:cNvSpPr/>
          <p:nvPr/>
        </p:nvSpPr>
        <p:spPr>
          <a:xfrm>
            <a:off x="7596360" y="616572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Lucida Handwriting"/>
                <a:hlinkClick r:id="rId1" action="ppaction://hlinksldjump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0" y="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在一面靠墙的空地上用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篱笆，围成中间隔有二道篱笆的长方形花圃，设花圃的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面积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函数关系式及自变量的取值范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何值时所围成的花圃面积最大，最大值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墙的最大可用长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则求围成花圃的最大面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5724360" y="2709360"/>
            <a:ext cx="3419640" cy="1514160"/>
            <a:chOff x="5724360" y="2709360"/>
            <a:chExt cx="3419640" cy="1514160"/>
          </a:xfrm>
        </p:grpSpPr>
        <p:grpSp>
          <p:nvGrpSpPr>
            <p:cNvPr id="580" name="Group 4"/>
            <p:cNvGrpSpPr/>
            <p:nvPr/>
          </p:nvGrpSpPr>
          <p:grpSpPr>
            <a:xfrm>
              <a:off x="5724360" y="2709360"/>
              <a:ext cx="3419640" cy="1440360"/>
              <a:chOff x="5724360" y="2709360"/>
              <a:chExt cx="3419640" cy="1440360"/>
            </a:xfrm>
          </p:grpSpPr>
          <p:grpSp>
            <p:nvGrpSpPr>
              <p:cNvPr id="581" name="Group 5"/>
              <p:cNvGrpSpPr/>
              <p:nvPr/>
            </p:nvGrpSpPr>
            <p:grpSpPr>
              <a:xfrm>
                <a:off x="5724360" y="2711160"/>
                <a:ext cx="3419640" cy="1438560"/>
                <a:chOff x="5724360" y="2711160"/>
                <a:chExt cx="3419640" cy="1438560"/>
              </a:xfrm>
            </p:grpSpPr>
            <p:grpSp>
              <p:nvGrpSpPr>
                <p:cNvPr id="582" name="Group 6"/>
                <p:cNvGrpSpPr/>
                <p:nvPr/>
              </p:nvGrpSpPr>
              <p:grpSpPr>
                <a:xfrm>
                  <a:off x="6005880" y="2711160"/>
                  <a:ext cx="3134520" cy="1438560"/>
                  <a:chOff x="6005880" y="2711160"/>
                  <a:chExt cx="3134520" cy="1438560"/>
                </a:xfrm>
              </p:grpSpPr>
              <p:sp>
                <p:nvSpPr>
                  <p:cNvPr id="583" name="Rectangle 7"/>
                  <p:cNvSpPr/>
                  <p:nvPr/>
                </p:nvSpPr>
                <p:spPr>
                  <a:xfrm>
                    <a:off x="6148440" y="2999160"/>
                    <a:ext cx="854640" cy="1150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Rectangle 8"/>
                  <p:cNvSpPr/>
                  <p:nvPr/>
                </p:nvSpPr>
                <p:spPr>
                  <a:xfrm>
                    <a:off x="7858080" y="2999160"/>
                    <a:ext cx="855360" cy="1150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Line 9"/>
                  <p:cNvSpPr/>
                  <p:nvPr/>
                </p:nvSpPr>
                <p:spPr>
                  <a:xfrm flipV="1">
                    <a:off x="600588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Line 10"/>
                  <p:cNvSpPr/>
                  <p:nvPr/>
                </p:nvSpPr>
                <p:spPr>
                  <a:xfrm flipV="1">
                    <a:off x="6148440" y="2711160"/>
                    <a:ext cx="1418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Line 11"/>
                  <p:cNvSpPr/>
                  <p:nvPr/>
                </p:nvSpPr>
                <p:spPr>
                  <a:xfrm flipV="1">
                    <a:off x="6290640" y="2711520"/>
                    <a:ext cx="14292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Line 12"/>
                  <p:cNvSpPr/>
                  <p:nvPr/>
                </p:nvSpPr>
                <p:spPr>
                  <a:xfrm flipV="1">
                    <a:off x="6575400" y="2711520"/>
                    <a:ext cx="14292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Line 13"/>
                  <p:cNvSpPr/>
                  <p:nvPr/>
                </p:nvSpPr>
                <p:spPr>
                  <a:xfrm flipV="1">
                    <a:off x="6718320" y="2711520"/>
                    <a:ext cx="14184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Line 14"/>
                  <p:cNvSpPr/>
                  <p:nvPr/>
                </p:nvSpPr>
                <p:spPr>
                  <a:xfrm flipV="1">
                    <a:off x="686052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Line 15"/>
                  <p:cNvSpPr/>
                  <p:nvPr/>
                </p:nvSpPr>
                <p:spPr>
                  <a:xfrm flipV="1">
                    <a:off x="7003440" y="2711160"/>
                    <a:ext cx="1418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Line 16"/>
                  <p:cNvSpPr/>
                  <p:nvPr/>
                </p:nvSpPr>
                <p:spPr>
                  <a:xfrm flipV="1">
                    <a:off x="714528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Line 17"/>
                  <p:cNvSpPr/>
                  <p:nvPr/>
                </p:nvSpPr>
                <p:spPr>
                  <a:xfrm flipV="1">
                    <a:off x="7288200" y="2711520"/>
                    <a:ext cx="14292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Line 18"/>
                  <p:cNvSpPr/>
                  <p:nvPr/>
                </p:nvSpPr>
                <p:spPr>
                  <a:xfrm flipV="1">
                    <a:off x="7431120" y="2711520"/>
                    <a:ext cx="14004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Line 19"/>
                  <p:cNvSpPr/>
                  <p:nvPr/>
                </p:nvSpPr>
                <p:spPr>
                  <a:xfrm flipV="1">
                    <a:off x="7573320" y="2711520"/>
                    <a:ext cx="14256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Line 20"/>
                  <p:cNvSpPr/>
                  <p:nvPr/>
                </p:nvSpPr>
                <p:spPr>
                  <a:xfrm flipV="1">
                    <a:off x="7716240" y="2711520"/>
                    <a:ext cx="14184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Line 21"/>
                  <p:cNvSpPr/>
                  <p:nvPr/>
                </p:nvSpPr>
                <p:spPr>
                  <a:xfrm flipV="1">
                    <a:off x="785808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Line 22"/>
                  <p:cNvSpPr/>
                  <p:nvPr/>
                </p:nvSpPr>
                <p:spPr>
                  <a:xfrm flipV="1">
                    <a:off x="8001000" y="2711160"/>
                    <a:ext cx="1418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Line 23"/>
                  <p:cNvSpPr/>
                  <p:nvPr/>
                </p:nvSpPr>
                <p:spPr>
                  <a:xfrm flipV="1">
                    <a:off x="8143200" y="2711160"/>
                    <a:ext cx="1418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Line 24"/>
                  <p:cNvSpPr/>
                  <p:nvPr/>
                </p:nvSpPr>
                <p:spPr>
                  <a:xfrm flipV="1">
                    <a:off x="828504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Line 25"/>
                  <p:cNvSpPr/>
                  <p:nvPr/>
                </p:nvSpPr>
                <p:spPr>
                  <a:xfrm flipV="1">
                    <a:off x="8427960" y="2711520"/>
                    <a:ext cx="14364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Line 26"/>
                  <p:cNvSpPr/>
                  <p:nvPr/>
                </p:nvSpPr>
                <p:spPr>
                  <a:xfrm flipV="1">
                    <a:off x="8571960" y="2711520"/>
                    <a:ext cx="13932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Line 27"/>
                  <p:cNvSpPr/>
                  <p:nvPr/>
                </p:nvSpPr>
                <p:spPr>
                  <a:xfrm flipV="1">
                    <a:off x="8713080" y="2711520"/>
                    <a:ext cx="14364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Line 28"/>
                  <p:cNvSpPr/>
                  <p:nvPr/>
                </p:nvSpPr>
                <p:spPr>
                  <a:xfrm flipV="1">
                    <a:off x="8856720" y="2711520"/>
                    <a:ext cx="141120" cy="28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Line 29"/>
                  <p:cNvSpPr/>
                  <p:nvPr/>
                </p:nvSpPr>
                <p:spPr>
                  <a:xfrm flipV="1">
                    <a:off x="8997840" y="2711160"/>
                    <a:ext cx="14256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Rectangle 30"/>
                  <p:cNvSpPr/>
                  <p:nvPr/>
                </p:nvSpPr>
                <p:spPr>
                  <a:xfrm>
                    <a:off x="7003440" y="2999160"/>
                    <a:ext cx="855360" cy="1150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7" name="Line 31"/>
                <p:cNvSpPr/>
                <p:nvPr/>
              </p:nvSpPr>
              <p:spPr>
                <a:xfrm>
                  <a:off x="5724360" y="3001680"/>
                  <a:ext cx="341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Line 32"/>
              <p:cNvSpPr/>
              <p:nvPr/>
            </p:nvSpPr>
            <p:spPr>
              <a:xfrm flipV="1">
                <a:off x="6474240" y="2709360"/>
                <a:ext cx="14328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Text Box 33"/>
            <p:cNvSpPr/>
            <p:nvPr/>
          </p:nvSpPr>
          <p:spPr>
            <a:xfrm>
              <a:off x="6084720" y="2900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4"/>
            <p:cNvSpPr/>
            <p:nvPr/>
          </p:nvSpPr>
          <p:spPr>
            <a:xfrm>
              <a:off x="6083280" y="3763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5"/>
            <p:cNvSpPr/>
            <p:nvPr/>
          </p:nvSpPr>
          <p:spPr>
            <a:xfrm>
              <a:off x="8388360" y="37638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36"/>
            <p:cNvSpPr/>
            <p:nvPr/>
          </p:nvSpPr>
          <p:spPr>
            <a:xfrm>
              <a:off x="8388360" y="2923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Text Box 37"/>
          <p:cNvSpPr/>
          <p:nvPr/>
        </p:nvSpPr>
        <p:spPr>
          <a:xfrm>
            <a:off x="34920" y="26845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8"/>
          <p:cNvSpPr/>
          <p:nvPr/>
        </p:nvSpPr>
        <p:spPr>
          <a:xfrm>
            <a:off x="684360" y="2612880"/>
            <a:ext cx="4897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∵ A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米、篱笆长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∴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花圃宽为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米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9"/>
          <p:cNvSpPr/>
          <p:nvPr/>
        </p:nvSpPr>
        <p:spPr>
          <a:xfrm>
            <a:off x="647640" y="5170320"/>
            <a:ext cx="414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墙的可用长度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40"/>
          <p:cNvGrpSpPr/>
          <p:nvPr/>
        </p:nvGrpSpPr>
        <p:grpSpPr>
          <a:xfrm>
            <a:off x="611280" y="4211640"/>
            <a:ext cx="8532720" cy="801720"/>
            <a:chOff x="611280" y="4211640"/>
            <a:chExt cx="8532720" cy="801720"/>
          </a:xfrm>
        </p:grpSpPr>
        <p:sp>
          <p:nvSpPr>
            <p:cNvPr id="617" name="Text Box 41"/>
            <p:cNvSpPr/>
            <p:nvPr/>
          </p:nvSpPr>
          <p:spPr>
            <a:xfrm>
              <a:off x="611280" y="4414680"/>
              <a:ext cx="85327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＝               时，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600" spc="-1" strike="noStrike" baseline="-25000">
                  <a:solidFill>
                    <a:srgbClr val="000000"/>
                  </a:solidFill>
                  <a:latin typeface="Times New Roman"/>
                </a:rPr>
                <a:t>最大值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＝              ＝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（平方米）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Object 42"/>
                <p:cNvSpPr txBox="1"/>
                <p:nvPr/>
              </p:nvSpPr>
              <p:spPr>
                <a:xfrm>
                  <a:off x="2054160" y="4270320"/>
                  <a:ext cx="1078200" cy="74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9" name="Object 43"/>
                <p:cNvSpPr txBox="1"/>
                <p:nvPr/>
              </p:nvSpPr>
              <p:spPr>
                <a:xfrm>
                  <a:off x="5000760" y="4211640"/>
                  <a:ext cx="10843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0" name="Text Box 44"/>
          <p:cNvSpPr/>
          <p:nvPr/>
        </p:nvSpPr>
        <p:spPr>
          <a:xfrm>
            <a:off x="900000" y="3429000"/>
            <a:ext cx="48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 x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&lt;x&lt;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5"/>
          <p:cNvSpPr/>
          <p:nvPr/>
        </p:nvSpPr>
        <p:spPr>
          <a:xfrm>
            <a:off x="1116000" y="56358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&lt;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x ≤6    4≤x&lt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1116000" y="6165720"/>
            <a:ext cx="62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最大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0" y="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等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角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２，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同时出发，以相等的速度作直线运动，已知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射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动，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延长线运动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直线相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C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积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为何值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△PC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△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539640" y="400536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Object 4"/>
          <p:cNvGraphicFramePr/>
          <p:nvPr/>
        </p:nvGraphicFramePr>
        <p:xfrm>
          <a:off x="6877080" y="3357720"/>
          <a:ext cx="20336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3357720"/>
                    <a:ext cx="20336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Text Box 5"/>
          <p:cNvSpPr/>
          <p:nvPr/>
        </p:nvSpPr>
        <p:spPr>
          <a:xfrm>
            <a:off x="0" y="292428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（１）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点同时出发，速度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611280" y="43401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539640" y="4724280"/>
            <a:ext cx="2808360" cy="865080"/>
            <a:chOff x="539640" y="4724280"/>
            <a:chExt cx="2808360" cy="865080"/>
          </a:xfrm>
        </p:grpSpPr>
        <mc:AlternateContent>
          <mc:Choice xmlns:a14="http://schemas.microsoft.com/office/drawing/2010/main" Requires="a14">
            <p:sp>
              <p:nvSpPr>
                <p:cNvPr id="630" name="Object 8"/>
                <p:cNvSpPr txBox="1"/>
                <p:nvPr/>
              </p:nvSpPr>
              <p:spPr>
                <a:xfrm>
                  <a:off x="1931760" y="4724280"/>
                  <a:ext cx="33516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Text Box 9"/>
            <p:cNvSpPr/>
            <p:nvPr/>
          </p:nvSpPr>
          <p:spPr>
            <a:xfrm>
              <a:off x="539640" y="4960800"/>
              <a:ext cx="18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△PCQ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0"/>
            <p:cNvSpPr/>
            <p:nvPr/>
          </p:nvSpPr>
          <p:spPr>
            <a:xfrm>
              <a:off x="2195280" y="493524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Q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1"/>
          <p:cNvGrpSpPr/>
          <p:nvPr/>
        </p:nvGrpSpPr>
        <p:grpSpPr>
          <a:xfrm>
            <a:off x="3132000" y="4724280"/>
            <a:ext cx="2017800" cy="865080"/>
            <a:chOff x="3132000" y="4724280"/>
            <a:chExt cx="2017800" cy="865080"/>
          </a:xfrm>
        </p:grpSpPr>
        <mc:AlternateContent>
          <mc:Choice xmlns:a14="http://schemas.microsoft.com/office/drawing/2010/main" Requires="a14">
            <p:sp>
              <p:nvSpPr>
                <p:cNvPr id="634" name="Object 12"/>
                <p:cNvSpPr txBox="1"/>
                <p:nvPr/>
              </p:nvSpPr>
              <p:spPr>
                <a:xfrm>
                  <a:off x="3444840" y="4724280"/>
                  <a:ext cx="33480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5" name="Text Box 13"/>
            <p:cNvSpPr/>
            <p:nvPr/>
          </p:nvSpPr>
          <p:spPr>
            <a:xfrm>
              <a:off x="3132000" y="49352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4"/>
            <p:cNvSpPr/>
            <p:nvPr/>
          </p:nvSpPr>
          <p:spPr>
            <a:xfrm>
              <a:off x="3636720" y="491004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15"/>
          <p:cNvGrpSpPr/>
          <p:nvPr/>
        </p:nvGrpSpPr>
        <p:grpSpPr>
          <a:xfrm>
            <a:off x="4572000" y="4653000"/>
            <a:ext cx="2016000" cy="919080"/>
            <a:chOff x="4572000" y="4653000"/>
            <a:chExt cx="2016000" cy="919080"/>
          </a:xfrm>
        </p:grpSpPr>
        <mc:AlternateContent>
          <mc:Choice xmlns:a14="http://schemas.microsoft.com/office/drawing/2010/main" Requires="a14">
            <p:sp>
              <p:nvSpPr>
                <p:cNvPr id="638" name="Object 16"/>
                <p:cNvSpPr txBox="1"/>
                <p:nvPr/>
              </p:nvSpPr>
              <p:spPr>
                <a:xfrm>
                  <a:off x="5076720" y="4653000"/>
                  <a:ext cx="151128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Text Box 17"/>
            <p:cNvSpPr/>
            <p:nvPr/>
          </p:nvSpPr>
          <p:spPr>
            <a:xfrm>
              <a:off x="4572000" y="487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Text Box 18"/>
          <p:cNvSpPr/>
          <p:nvPr/>
        </p:nvSpPr>
        <p:spPr>
          <a:xfrm>
            <a:off x="1474920" y="364500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=CQ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20"/>
          <p:cNvGrpSpPr/>
          <p:nvPr/>
        </p:nvGrpSpPr>
        <p:grpSpPr>
          <a:xfrm>
            <a:off x="468360" y="5611680"/>
            <a:ext cx="5904000" cy="898560"/>
            <a:chOff x="468360" y="5611680"/>
            <a:chExt cx="5904000" cy="898560"/>
          </a:xfrm>
        </p:grpSpPr>
        <p:sp>
          <p:nvSpPr>
            <p:cNvPr id="643" name="Text Box 21"/>
            <p:cNvSpPr/>
            <p:nvPr/>
          </p:nvSpPr>
          <p:spPr>
            <a:xfrm>
              <a:off x="468360" y="5779800"/>
              <a:ext cx="59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                 　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0&lt;x&lt;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Object 22"/>
                <p:cNvSpPr txBox="1"/>
                <p:nvPr/>
              </p:nvSpPr>
              <p:spPr>
                <a:xfrm>
                  <a:off x="1474920" y="5611680"/>
                  <a:ext cx="15127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Text Box 23"/>
          <p:cNvSpPr/>
          <p:nvPr/>
        </p:nvSpPr>
        <p:spPr>
          <a:xfrm>
            <a:off x="7954920" y="2421000"/>
            <a:ext cx="6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动画演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349440" cy="5472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324000" y="10494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线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延长线上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2556000" y="227664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"/>
          <p:cNvGrpSpPr/>
          <p:nvPr/>
        </p:nvGrpSpPr>
        <p:grpSpPr>
          <a:xfrm>
            <a:off x="900000" y="1557360"/>
            <a:ext cx="4751280" cy="936720"/>
            <a:chOff x="900000" y="1557360"/>
            <a:chExt cx="4751280" cy="936720"/>
          </a:xfrm>
        </p:grpSpPr>
        <p:sp>
          <p:nvSpPr>
            <p:cNvPr id="650" name="Text Box 6"/>
            <p:cNvSpPr/>
            <p:nvPr/>
          </p:nvSpPr>
          <p:spPr>
            <a:xfrm>
              <a:off x="900000" y="1846440"/>
              <a:ext cx="475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400" spc="-1" strike="noStrike" baseline="-25000">
                  <a:solidFill>
                    <a:srgbClr val="000000"/>
                  </a:solidFill>
                  <a:latin typeface="Times New Roman"/>
                </a:rPr>
                <a:t>△PCQ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7"/>
                <p:cNvSpPr txBox="1"/>
                <p:nvPr/>
              </p:nvSpPr>
              <p:spPr>
                <a:xfrm>
                  <a:off x="2124000" y="1557360"/>
                  <a:ext cx="3618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2" name="Object 8"/>
                <p:cNvSpPr txBox="1"/>
                <p:nvPr/>
              </p:nvSpPr>
              <p:spPr>
                <a:xfrm>
                  <a:off x="2484360" y="1684440"/>
                  <a:ext cx="2521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Q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P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Group 9"/>
          <p:cNvGrpSpPr/>
          <p:nvPr/>
        </p:nvGrpSpPr>
        <p:grpSpPr>
          <a:xfrm>
            <a:off x="826920" y="2421000"/>
            <a:ext cx="4608360" cy="797040"/>
            <a:chOff x="826920" y="2421000"/>
            <a:chExt cx="4608360" cy="797040"/>
          </a:xfrm>
        </p:grpSpPr>
        <mc:AlternateContent>
          <mc:Choice xmlns:a14="http://schemas.microsoft.com/office/drawing/2010/main" Requires="a14">
            <p:sp>
              <p:nvSpPr>
                <p:cNvPr id="654" name="Object 10"/>
                <p:cNvSpPr txBox="1"/>
                <p:nvPr/>
              </p:nvSpPr>
              <p:spPr>
                <a:xfrm>
                  <a:off x="1763640" y="2421000"/>
                  <a:ext cx="107928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Text Box 11"/>
            <p:cNvSpPr/>
            <p:nvPr/>
          </p:nvSpPr>
          <p:spPr>
            <a:xfrm>
              <a:off x="826920" y="256392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　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x&gt;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Text Box 12"/>
          <p:cNvSpPr/>
          <p:nvPr/>
        </p:nvSpPr>
        <p:spPr>
          <a:xfrm>
            <a:off x="179280" y="6021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2430360" cy="28083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2924280" cy="39592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4"/>
          <p:cNvSpPr/>
          <p:nvPr/>
        </p:nvSpPr>
        <p:spPr>
          <a:xfrm>
            <a:off x="324000" y="549360"/>
            <a:ext cx="50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△PC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611280" y="1341360"/>
            <a:ext cx="3456000" cy="858960"/>
            <a:chOff x="611280" y="1341360"/>
            <a:chExt cx="3456000" cy="858960"/>
          </a:xfrm>
        </p:grpSpPr>
        <p:sp>
          <p:nvSpPr>
            <p:cNvPr id="661" name="Text Box 6"/>
            <p:cNvSpPr/>
            <p:nvPr/>
          </p:nvSpPr>
          <p:spPr>
            <a:xfrm>
              <a:off x="611280" y="140796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2" name="Object 7"/>
                <p:cNvSpPr txBox="1"/>
                <p:nvPr/>
              </p:nvSpPr>
              <p:spPr>
                <a:xfrm>
                  <a:off x="1548000" y="1341360"/>
                  <a:ext cx="143964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3" name="Group 8"/>
          <p:cNvGrpSpPr/>
          <p:nvPr/>
        </p:nvGrpSpPr>
        <p:grpSpPr>
          <a:xfrm>
            <a:off x="611280" y="2852640"/>
            <a:ext cx="5257800" cy="1875960"/>
            <a:chOff x="611280" y="2852640"/>
            <a:chExt cx="5257800" cy="1875960"/>
          </a:xfrm>
        </p:grpSpPr>
        <p:sp>
          <p:nvSpPr>
            <p:cNvPr id="664" name="Text Box 9"/>
            <p:cNvSpPr/>
            <p:nvPr/>
          </p:nvSpPr>
          <p:spPr>
            <a:xfrm>
              <a:off x="611280" y="317160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            ＝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　　 　　　　　　　　　　　　　　　　　　　　　　　　　　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Object 10"/>
                <p:cNvSpPr txBox="1"/>
                <p:nvPr/>
              </p:nvSpPr>
              <p:spPr>
                <a:xfrm>
                  <a:off x="1276560" y="2852640"/>
                  <a:ext cx="1334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6" name="Object 11"/>
              <p:cNvSpPr txBox="1"/>
              <p:nvPr/>
            </p:nvSpPr>
            <p:spPr>
              <a:xfrm>
                <a:off x="1187280" y="3933720"/>
                <a:ext cx="2737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7" name="Group 12"/>
          <p:cNvGrpSpPr/>
          <p:nvPr/>
        </p:nvGrpSpPr>
        <p:grpSpPr>
          <a:xfrm>
            <a:off x="611280" y="4581360"/>
            <a:ext cx="6696000" cy="579600"/>
            <a:chOff x="611280" y="4581360"/>
            <a:chExt cx="6696000" cy="579600"/>
          </a:xfrm>
        </p:grpSpPr>
        <p:sp>
          <p:nvSpPr>
            <p:cNvPr id="668" name="Text Box 13"/>
            <p:cNvSpPr/>
            <p:nvPr/>
          </p:nvSpPr>
          <p:spPr>
            <a:xfrm>
              <a:off x="611280" y="4581360"/>
              <a:ext cx="669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1+       ,    x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－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舍去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)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9" name="Object 14"/>
                <p:cNvSpPr txBox="1"/>
                <p:nvPr/>
              </p:nvSpPr>
              <p:spPr>
                <a:xfrm>
                  <a:off x="1979640" y="4654440"/>
                  <a:ext cx="5032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0" name="Object 15"/>
                <p:cNvSpPr txBox="1"/>
                <p:nvPr/>
              </p:nvSpPr>
              <p:spPr>
                <a:xfrm>
                  <a:off x="4068720" y="4654440"/>
                  <a:ext cx="5032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1" name="Group 16"/>
          <p:cNvGrpSpPr/>
          <p:nvPr/>
        </p:nvGrpSpPr>
        <p:grpSpPr>
          <a:xfrm>
            <a:off x="-34920" y="5229360"/>
            <a:ext cx="7270920" cy="650880"/>
            <a:chOff x="-34920" y="5229360"/>
            <a:chExt cx="7270920" cy="650880"/>
          </a:xfrm>
        </p:grpSpPr>
        <p:sp>
          <p:nvSpPr>
            <p:cNvPr id="672" name="Text Box 17"/>
            <p:cNvSpPr/>
            <p:nvPr/>
          </p:nvSpPr>
          <p:spPr>
            <a:xfrm>
              <a:off x="-34920" y="5300640"/>
              <a:ext cx="727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长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1+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△PCQ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△AB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Object 18"/>
                <p:cNvSpPr txBox="1"/>
                <p:nvPr/>
              </p:nvSpPr>
              <p:spPr>
                <a:xfrm>
                  <a:off x="2340720" y="5229360"/>
                  <a:ext cx="5745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4" name="Text Box 19"/>
          <p:cNvSpPr/>
          <p:nvPr/>
        </p:nvSpPr>
        <p:spPr>
          <a:xfrm>
            <a:off x="1258920" y="206064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方程无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某公司推出了一种高效环保型洗涤用品，年初上市后，公司经历了从亏损到盈利的过程．下面的二次函数图象（部分）刻画了该公司年初以来累积利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万元）与销售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月）之间的关系（即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的利润总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的关系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Object 3"/>
          <p:cNvGraphicFramePr/>
          <p:nvPr/>
        </p:nvGraphicFramePr>
        <p:xfrm>
          <a:off x="5761080" y="1700280"/>
          <a:ext cx="3382920" cy="48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1080" y="1700280"/>
                    <a:ext cx="33829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920" y="2340000"/>
            <a:ext cx="568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图象提供的信息，解答下列问题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已知图象上的三点坐标，求累积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万元）与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月）之间的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截止到几月末公司累积利润可达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公司所获利润是多少万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>
            <a:hlinkClick r:id="rId3" action="ppaction://hlinksldjump"/>
          </p:cNvPr>
          <p:cNvSpPr/>
          <p:nvPr/>
        </p:nvSpPr>
        <p:spPr>
          <a:xfrm>
            <a:off x="8099280" y="623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Handwriting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3:02:52Z</dcterms:created>
  <dc:creator/>
  <dc:description/>
  <cp:keywords>幻灯片之家 http:/www.eeppt.com</cp:keywords>
  <dc:language>en-US</dc:language>
  <cp:lastModifiedBy/>
  <dcterms:modified xsi:type="dcterms:W3CDTF">2015-07-20T01:59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