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1.gif" ContentType="image/gif"/>
  <Override PartName="/ppt/media/image7.wmf" ContentType="image/x-wmf"/>
  <Override PartName="/ppt/media/image12.wmf" ContentType="image/x-wmf"/>
  <Override PartName="/ppt/media/image20.gif" ContentType="image/gif"/>
  <Override PartName="/ppt/media/image19.jpeg" ContentType="image/jpeg"/>
  <Override PartName="/ppt/media/image18.wmf" ContentType="image/x-wmf"/>
  <Override PartName="/ppt/media/image17.wmf" ContentType="image/x-wmf"/>
  <Override PartName="/ppt/media/type.wav" ContentType="audio/x-wav"/>
  <Override PartName="/ppt/media/image16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5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8ED-3BE2-47FF-8C21-382A594A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164-302F-40AD-B6D4-3180D50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59C4E-5320-43CE-BC5B-6B47F7EC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45A1D-079A-4DEA-AB9F-D7E4BD3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5F439-0720-41E4-865B-C4A11E2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86BA-68AA-40BA-BD8F-323774C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F9267-3A61-4142-A868-016803E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9D1F4-0CDC-4BFB-BB23-3E775F1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243F2-7475-4F8F-B523-1DC07A5C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F7746-278F-4BCA-90D2-BC70433F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9AEDD-5983-41FC-B91A-7120EA0C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813D9-D904-4487-BD18-4E369A4E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544-6D79-45DA-8C28-D3057371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3084B-127A-48E1-A1B0-CB054FC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CD7EE-36B9-4ADB-AC9C-F78A235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E603F-AE22-4259-8110-72721DD1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4C41-15DF-45B2-9027-F6CCB38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3389E-FBAD-4F4D-963A-E11C205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901C-1526-47EE-87AF-793A1B3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84FB7-EF50-4EC6-9A23-5F10A8B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2483B-6504-46E5-A484-24EA9CD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B4F9A-CF80-4249-9C0A-E18BE089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4882-AB17-4EA7-A676-35D31560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33B-D110-4157-B1AD-1F034E2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22F20-507F-4BF0-80EE-D5FF5346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32B8A-10AF-4F96-AD59-DECD37C4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09500-7B26-48CA-8BB8-A62715B4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A28E6-D47E-4316-B6D0-4A3E89C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4631F-6B1C-48BF-B443-F22A87D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A723B-28DD-43A2-9059-346EA0B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17819-F407-4CFB-BDC5-829147A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DCB41-1052-4F89-9839-A2FCE9B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9BAB6-0422-4460-ACEF-A322F68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6E64C-547E-48A8-B8BD-4CB0F8D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63E5-885B-4966-938C-8D63E3C8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3A01-BD2F-40CC-851A-A2911447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1BF53-36FA-4BA9-86E7-AA3DC3D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393D3-D79C-4E20-9468-0460AEA9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957D0-AD26-4EC3-AA85-75C84308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B83E3-7534-4FBC-9A74-5577A99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1D99F-DAE7-4E63-93D1-B3E6CF4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CD6DA-73F2-431C-9B6A-B6AB71C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710FF-1B56-4CB3-8C88-4B97D4B9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26CF7-B754-4545-8ABC-6E3D0D32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5F40F-5915-4D5E-ABAF-BC74430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3EA3-F650-4B9C-9C08-FF195169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9991D-C8AB-4D77-ADC6-5CC76F5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E6DBE-102B-4B67-819F-58D5E81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916EB-8C39-4797-B9BE-89F2586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0805A-4D3C-44DE-82D0-B5F3E935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CF40F-E834-4029-876B-DCCB749D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EBF8A-F89E-4E0A-BA87-64423980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4D2D5-1F24-456A-BE34-8E8D154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42663-441D-4C50-B198-B1A62F6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B2AF5-DD64-47A5-8249-D51D324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E15BF-FE26-4AF6-9898-7FA60689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328-10D1-486B-9174-DDB70949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9FB64-7FD8-4FE2-A976-5695810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2773E-D626-4529-B195-D0414753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2A434-8C0E-47C7-BB4D-472B131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6B376-0415-49A3-9E3A-EFD3307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4F762-B142-4D72-813C-CA8A9996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B6760-DE87-44C2-A4DA-BE8A17DE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D48D8-DE13-4488-9F4F-C587FDC0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E33B3-E91E-48DC-B7FD-1192FCC1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3C8FD-2A5D-4280-9D9F-04413F8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DD620-3A58-4B0E-8D42-604AB22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903-7BD8-4ACB-A722-92DF603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17A67-C51D-4DB1-9105-FCCC150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0B66F-2177-4D90-BA6C-1A6DF5A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FB917-848A-4458-A34C-F74E914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E2166-3896-435E-B14F-112011E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E53C1-AA7A-4843-8455-9BFAAF6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8560A-AE39-4AA7-8E1D-F696231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99C23-8059-4873-9956-7B8EED4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60B49-BAF3-419A-B8E5-001DC4D8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7774E-4012-42E4-B794-145A7E25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1E98-5F93-484A-913A-D1988B0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B74-7DDC-456A-B85C-119FB0C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5B88-9D6B-4374-801B-0D7775D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7B7-91A4-4979-81A7-4BB3774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04E9-5240-4D49-91AA-1E60A5F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D09F-2B01-433C-9666-EF2DEC6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93D-3ABD-42CF-BE1C-0BFC043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0476-2339-4F09-A4C0-B00FCCA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C1D-A006-4449-BE3F-EF191C11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3A0A-A4B9-4864-B248-7865A0E4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DAEE-AECB-4E27-B860-BC39DAA3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FDCD-5209-474C-92D0-2F9386AA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DA6C-1E77-4BAD-ADB3-2410923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25AC-36EF-4607-9323-A79A51A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065-6524-4A2E-9051-39F189A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FE44-1294-40D1-916A-94CFC23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A4A8-7CA5-4AA9-850A-0C25E8F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CE45-7D27-4824-903A-ADF4D12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3FDD-6E71-49ED-8D08-B0896C3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0528-D9E8-4E3E-AC6E-3B3D24CE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FE3C-4667-4E59-A389-7EE82492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F80C-551D-490A-917A-41713336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B3AD-7800-4DF7-BD43-8923AB70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1BED-E57E-41E7-A785-D703970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04D7-B7D9-4C11-888A-D1250BBC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D72-5201-4CCB-B908-C36AF78C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9929-7DD3-4E8E-AC51-881BB7CD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1485-66C9-4D0E-BD1E-BEBBC90A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5B807-2B98-4D2E-B79F-7D8DC6E5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D3F8-2BDB-43E2-BF8A-4454FAA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1738-76AB-4F6A-9D23-70602C3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0BB3-1EF9-4A95-AA25-87E87F1E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7311-427B-4FC4-BAFA-FF577B80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1435-36E7-4188-87FB-5A5014DA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013E-1A7C-49EE-80F0-98074DB1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6862-4C82-40D1-BEDE-2693D956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6A2-F69F-4BFC-9D2A-1C4FEEA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B1806-39A3-42AB-A08B-FBD588D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1C4F-5245-48A6-B6BF-5C77F60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51E3-87D1-45EF-9755-543AB81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6384-18C4-4FD8-85F0-E589E37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EC19-6349-417A-AA0B-AE0D91E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F034-D336-4537-91CD-914B764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73A6-4C6C-4660-A0F4-B199063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3A7F-35A7-46A6-98F4-F71EFFBF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71A3-3304-4EC1-9768-F97DBA3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FF0E-9C20-4454-9B2B-63D161C6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FD6-C8A6-4466-9EEC-D65AAA46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53EF-9265-48E8-833D-317CE25E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EF9F2-F86C-4DBC-A2D0-E385B0C2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3AE00-3BA4-44D4-B088-8B761CF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E332-6CC6-489A-A30C-1F8CB41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16BC-8E0F-4B5F-962E-1B64F69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5ACB-4747-427F-B389-40DA4D0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86386-0297-4DC8-9C4F-450F19E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F32B-6706-4B20-9B63-3FC0AC0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FC718-A85D-460D-A7CB-6712D61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CFA8-F1C8-4D05-9930-B684F12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47B-AE19-40B5-8B42-899F5D6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F029-AD4E-4595-9832-72B8EA55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974F-48AE-45D9-8C53-80813795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8D58-E87A-46BF-B792-262C68C8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1A1F-890E-4DEC-8690-25102AAB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28EA-8E5E-49EC-AC17-9F423E3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09B8-4FF2-413F-971B-A0A4B57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EC68E-B104-440E-9762-159AA3F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1FC63-496B-4874-A93E-D6F30390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81B87-CD3B-4E3B-9645-0621FBBD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0DA3-6C40-456A-A152-E64F321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FEB-A4F0-47E2-8723-6E1919C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611B-3526-43A0-8C98-D9F03C9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F35C0-6D1D-41F0-8022-BC32AA0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880C-D2EE-4B6F-B630-245B228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88BC-0620-47E9-BC7C-051A7600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334FE-81E2-4870-B537-3C3F4D4A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14CFB-B1D5-44C7-A30F-331EBEE1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2103-A867-446E-8415-15B4FDC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E899-E300-49EF-9F63-8DE0A75D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B089-45E4-4F4E-9D32-6C8406F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3324-0A0A-4EC9-B393-0E3BEE0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955-516D-412E-BD6D-984C4B6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74130-62CA-4E9D-AB91-A46A752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B905-FD68-4595-B535-D01E420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BE713-F7BC-4286-833D-95E7AB0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9096-1A2F-42DB-9188-92E8F78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6429-B02C-4A76-8B83-4405FDD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4541-7A84-466D-9553-83BBAD9C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E96E2-D3B4-4312-8892-EB09DB4D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E3470-78F8-424E-AADF-6BBB22EB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57190-63BA-4193-B6AF-D3F73996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826F-4243-43ED-ACB6-B98A289D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7E8A-637E-451A-B833-73C9D062CA9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C5E-9AFE-4228-AD4C-0FE83D2388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0C1-7319-4529-8FF3-5508B7E19D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7155-36DD-4BB9-A015-D76A8A89C6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97A-633D-494C-BB78-F003C5DFAE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FA6D-9F7B-4CAB-B44B-98C37C4C73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9997-82A4-41AF-AFBA-E688356AED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D481-6939-4B82-89F6-A937FC7D1E1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DD8-6E68-4ECC-A279-FEDE9AA1B0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B228-0053-49AA-B8B8-4FBB496D8C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40C-D766-46C5-8009-367E6931B5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9320-2174-4F18-987F-9A28AD540A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5C97-D764-439D-BC54-22A8697E8A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6D0-64CA-4E90-A5A8-5536D9AC58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304920" y="1066680"/>
            <a:ext cx="84582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课题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反比例函数的应用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            ——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一面积问题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4" name="Picture 3" descr="05-精灵"/>
          <p:cNvPicPr/>
          <p:nvPr/>
        </p:nvPicPr>
        <p:blipFill>
          <a:blip r:embed="rId1"/>
          <a:stretch/>
        </p:blipFill>
        <p:spPr>
          <a:xfrm>
            <a:off x="0" y="4800600"/>
            <a:ext cx="2627280" cy="1844640"/>
          </a:xfrm>
          <a:prstGeom prst="rect">
            <a:avLst/>
          </a:prstGeom>
          <a:ln w="0">
            <a:noFill/>
          </a:ln>
        </p:spPr>
      </p:pic>
      <p:sp>
        <p:nvSpPr>
          <p:cNvPr id="585" name="矩形 6"/>
          <p:cNvSpPr/>
          <p:nvPr/>
        </p:nvSpPr>
        <p:spPr>
          <a:xfrm>
            <a:off x="300240" y="64753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b5249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※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已知平面直角坐标系内有一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(3,4),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请问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的距离是多少？　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4876920" y="5029200"/>
            <a:ext cx="3809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Line 4"/>
          <p:cNvSpPr/>
          <p:nvPr/>
        </p:nvSpPr>
        <p:spPr>
          <a:xfrm flipV="1">
            <a:off x="6705720" y="2514240"/>
            <a:ext cx="0" cy="43434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84582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6324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Line 7"/>
          <p:cNvSpPr/>
          <p:nvPr/>
        </p:nvSpPr>
        <p:spPr>
          <a:xfrm flipV="1">
            <a:off x="7238880" y="3124080"/>
            <a:ext cx="0" cy="190512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6705720" y="3124080"/>
            <a:ext cx="533160" cy="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6705720" y="4495680"/>
            <a:ext cx="1600200" cy="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Line 10"/>
          <p:cNvSpPr/>
          <p:nvPr/>
        </p:nvSpPr>
        <p:spPr>
          <a:xfrm flipV="1">
            <a:off x="8381880" y="4495680"/>
            <a:ext cx="0" cy="53352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5" name="Picture 11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1009800" cy="4395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2"/>
          <p:cNvSpPr/>
          <p:nvPr/>
        </p:nvSpPr>
        <p:spPr>
          <a:xfrm>
            <a:off x="6324480" y="4967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6705720" y="4495680"/>
            <a:ext cx="1676160" cy="5335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6705720" y="3124080"/>
            <a:ext cx="533160" cy="1905120"/>
          </a:xfrm>
          <a:prstGeom prst="rect">
            <a:avLst/>
          </a:prstGeom>
          <a:solidFill>
            <a:srgbClr val="ff00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99" name="Picture 15" descr="兰花1"/>
          <p:cNvPicPr/>
          <p:nvPr/>
        </p:nvPicPr>
        <p:blipFill>
          <a:blip r:embed="rId2"/>
          <a:stretch/>
        </p:blipFill>
        <p:spPr>
          <a:xfrm>
            <a:off x="380880" y="4821120"/>
            <a:ext cx="3200400" cy="196056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6"/>
          <p:cNvGrpSpPr/>
          <p:nvPr/>
        </p:nvGrpSpPr>
        <p:grpSpPr>
          <a:xfrm>
            <a:off x="7467480" y="3505320"/>
            <a:ext cx="1066680" cy="459720"/>
            <a:chOff x="7467480" y="3505320"/>
            <a:chExt cx="1066680" cy="459720"/>
          </a:xfrm>
        </p:grpSpPr>
        <p:sp>
          <p:nvSpPr>
            <p:cNvPr id="601" name="AutoShape 17"/>
            <p:cNvSpPr/>
            <p:nvPr/>
          </p:nvSpPr>
          <p:spPr>
            <a:xfrm>
              <a:off x="7467480" y="3810240"/>
              <a:ext cx="76320" cy="75960"/>
            </a:xfrm>
            <a:prstGeom prst="flowChartConnector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2" name="Text Box 18"/>
            <p:cNvSpPr/>
            <p:nvPr/>
          </p:nvSpPr>
          <p:spPr>
            <a:xfrm>
              <a:off x="754380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P(3,4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603" name="Oval 19"/>
          <p:cNvSpPr/>
          <p:nvPr/>
        </p:nvSpPr>
        <p:spPr>
          <a:xfrm flipH="1">
            <a:off x="8305200" y="4495680"/>
            <a:ext cx="75960" cy="73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4" name="Group 20"/>
          <p:cNvGrpSpPr/>
          <p:nvPr/>
        </p:nvGrpSpPr>
        <p:grpSpPr>
          <a:xfrm>
            <a:off x="7238880" y="2666880"/>
            <a:ext cx="1147680" cy="530280"/>
            <a:chOff x="7238880" y="2666880"/>
            <a:chExt cx="1147680" cy="530280"/>
          </a:xfrm>
        </p:grpSpPr>
        <p:sp>
          <p:nvSpPr>
            <p:cNvPr id="605" name="Oval 21"/>
            <p:cNvSpPr/>
            <p:nvPr/>
          </p:nvSpPr>
          <p:spPr>
            <a:xfrm>
              <a:off x="7238880" y="3124080"/>
              <a:ext cx="76320" cy="730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06" name="Picture 22" descr=""/>
            <p:cNvPicPr/>
            <p:nvPr/>
          </p:nvPicPr>
          <p:blipFill>
            <a:blip r:embed="rId3"/>
            <a:stretch/>
          </p:blipFill>
          <p:spPr>
            <a:xfrm>
              <a:off x="7404120" y="2666880"/>
              <a:ext cx="982440" cy="4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23"/>
          <p:cNvGrpSpPr/>
          <p:nvPr/>
        </p:nvGrpSpPr>
        <p:grpSpPr>
          <a:xfrm>
            <a:off x="4800600" y="2666520"/>
            <a:ext cx="4038120" cy="4115160"/>
            <a:chOff x="4800600" y="2666520"/>
            <a:chExt cx="4038120" cy="4115160"/>
          </a:xfrm>
        </p:grpSpPr>
        <p:sp>
          <p:nvSpPr>
            <p:cNvPr id="608" name="Arc 24"/>
            <p:cNvSpPr/>
            <p:nvPr/>
          </p:nvSpPr>
          <p:spPr>
            <a:xfrm flipH="1" flipV="1">
              <a:off x="7238160" y="2666160"/>
              <a:ext cx="1600200" cy="1947960"/>
            </a:xfrm>
            <a:custGeom>
              <a:avLst/>
              <a:gdLst/>
              <a:ahLst/>
              <a:rect l="l" t="t" r="r" b="b"/>
              <a:pathLst>
                <a:path fill="none" w="21600" h="239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401"/>
                    <a:pt x="21555" y="23202"/>
                    <a:pt x="21466" y="23999"/>
                  </a:cubicBezTo>
                </a:path>
                <a:path stroke="0" w="21600" h="2399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401"/>
                    <a:pt x="21555" y="23202"/>
                    <a:pt x="21466" y="2399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9" name="Arc 25"/>
            <p:cNvSpPr/>
            <p:nvPr/>
          </p:nvSpPr>
          <p:spPr>
            <a:xfrm>
              <a:off x="4800600" y="5486400"/>
              <a:ext cx="1371600" cy="1295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10" name="Group 26"/>
          <p:cNvGrpSpPr/>
          <p:nvPr/>
        </p:nvGrpSpPr>
        <p:grpSpPr>
          <a:xfrm>
            <a:off x="692280" y="1600200"/>
            <a:ext cx="6165720" cy="1559160"/>
            <a:chOff x="692280" y="1600200"/>
            <a:chExt cx="6165720" cy="1559160"/>
          </a:xfrm>
        </p:grpSpPr>
        <p:pic>
          <p:nvPicPr>
            <p:cNvPr id="611" name="Picture 27" descr=""/>
            <p:cNvPicPr/>
            <p:nvPr/>
          </p:nvPicPr>
          <p:blipFill>
            <a:blip r:embed="rId4"/>
            <a:stretch/>
          </p:blipFill>
          <p:spPr>
            <a:xfrm>
              <a:off x="5873760" y="1600200"/>
              <a:ext cx="984240" cy="87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Group 28"/>
            <p:cNvGrpSpPr/>
            <p:nvPr/>
          </p:nvGrpSpPr>
          <p:grpSpPr>
            <a:xfrm>
              <a:off x="692280" y="1633680"/>
              <a:ext cx="6095880" cy="1525680"/>
              <a:chOff x="692280" y="1633680"/>
              <a:chExt cx="6095880" cy="1525680"/>
            </a:xfrm>
          </p:grpSpPr>
          <p:sp>
            <p:nvSpPr>
              <p:cNvPr id="613" name="Rectangle 29"/>
              <p:cNvSpPr/>
              <p:nvPr/>
            </p:nvSpPr>
            <p:spPr>
              <a:xfrm>
                <a:off x="692280" y="1785600"/>
                <a:ext cx="60958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3399"/>
                    </a:solidFill>
                    <a:latin typeface="Times New Roman"/>
                  </a:rPr>
                  <a:t>※</a:t>
                </a:r>
                <a:r>
                  <a:rPr b="1" lang="zh-CN" sz="2800" spc="-1" strike="noStrike">
                    <a:solidFill>
                      <a:srgbClr val="ff3399"/>
                    </a:solidFill>
                    <a:latin typeface="Times New Roman"/>
                  </a:rPr>
                  <a:t>问题</a:t>
                </a:r>
                <a:r>
                  <a:rPr b="1" lang="zh-CN" sz="2800" spc="-1" strike="noStrike">
                    <a:solidFill>
                      <a:srgbClr val="ff3399"/>
                    </a:solidFill>
                    <a:latin typeface="Times New Roman"/>
                  </a:rPr>
                  <a:t>2</a:t>
                </a:r>
                <a:r>
                  <a:rPr b="0" lang="zh-CN" sz="2400" spc="-1" strike="noStrike">
                    <a:solidFill>
                      <a:srgbClr val="ff3399"/>
                    </a:solidFill>
                    <a:latin typeface="Times New Roman"/>
                  </a:rPr>
                  <a:t>：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如图：     是反比例函数            图象上的一点且     的横坐标为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，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5b5249"/>
                    </a:solidFill>
                    <a:latin typeface="Times New Roman"/>
                  </a:rPr>
                  <a:t>那么     的纵坐标是多少？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614" name="Picture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3198960" y="163368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6480" y="247140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3283200" y="2166840"/>
                <a:ext cx="465120" cy="56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7" name="Rectangle 33"/>
          <p:cNvSpPr/>
          <p:nvPr/>
        </p:nvSpPr>
        <p:spPr>
          <a:xfrm>
            <a:off x="1553400" y="3200400"/>
            <a:ext cx="40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※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这两个矩形的面积相等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Text Box 34"/>
          <p:cNvSpPr/>
          <p:nvPr/>
        </p:nvSpPr>
        <p:spPr>
          <a:xfrm>
            <a:off x="708660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Line 2"/>
          <p:cNvSpPr/>
          <p:nvPr/>
        </p:nvSpPr>
        <p:spPr>
          <a:xfrm>
            <a:off x="6019920" y="4952880"/>
            <a:ext cx="31240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Line 3"/>
          <p:cNvSpPr/>
          <p:nvPr/>
        </p:nvSpPr>
        <p:spPr>
          <a:xfrm flipV="1">
            <a:off x="7315200" y="3123720"/>
            <a:ext cx="0" cy="35053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Arc 4"/>
          <p:cNvSpPr/>
          <p:nvPr/>
        </p:nvSpPr>
        <p:spPr>
          <a:xfrm>
            <a:off x="5867280" y="5181480"/>
            <a:ext cx="1219320" cy="160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Arc 5"/>
          <p:cNvSpPr/>
          <p:nvPr/>
        </p:nvSpPr>
        <p:spPr>
          <a:xfrm flipH="1" flipV="1">
            <a:off x="7619400" y="3276720"/>
            <a:ext cx="106668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Line 6"/>
          <p:cNvSpPr/>
          <p:nvPr/>
        </p:nvSpPr>
        <p:spPr>
          <a:xfrm flipV="1">
            <a:off x="7315200" y="4191120"/>
            <a:ext cx="60948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7924680" y="4191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Line 8"/>
          <p:cNvSpPr/>
          <p:nvPr/>
        </p:nvSpPr>
        <p:spPr>
          <a:xfrm flipH="1">
            <a:off x="6705360" y="4952880"/>
            <a:ext cx="60948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6" name="Line 9"/>
          <p:cNvSpPr/>
          <p:nvPr/>
        </p:nvSpPr>
        <p:spPr>
          <a:xfrm flipV="1">
            <a:off x="6705720" y="4952520"/>
            <a:ext cx="121896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4008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77724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Line 12"/>
          <p:cNvSpPr/>
          <p:nvPr/>
        </p:nvSpPr>
        <p:spPr>
          <a:xfrm flipV="1">
            <a:off x="6705720" y="4952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647712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8763120" y="5119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69343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3" name="Picture 16" descr="兰花1"/>
          <p:cNvPicPr/>
          <p:nvPr/>
        </p:nvPicPr>
        <p:blipFill>
          <a:blip r:embed="rId1"/>
          <a:stretch/>
        </p:blipFill>
        <p:spPr>
          <a:xfrm>
            <a:off x="250920" y="5437080"/>
            <a:ext cx="2035080" cy="1247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7"/>
          <p:cNvSpPr/>
          <p:nvPr/>
        </p:nvSpPr>
        <p:spPr>
          <a:xfrm>
            <a:off x="6858000" y="4692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533520" y="10666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如图，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(a,b)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是反比例函数                       图象上的一点，从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轴的垂线，垂足为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36" name="Picture 19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011320" cy="9586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0"/>
          <p:cNvSpPr/>
          <p:nvPr/>
        </p:nvSpPr>
        <p:spPr>
          <a:xfrm>
            <a:off x="715320" y="205740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试求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ΔAO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457200" y="25146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若延长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O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交图象的另一支于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试求△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457200" y="34290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⑶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过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作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的垂线，垂足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试求四边形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CB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0" name="Picture 23" descr=""/>
          <p:cNvPicPr/>
          <p:nvPr/>
        </p:nvPicPr>
        <p:blipFill>
          <a:blip r:embed="rId3"/>
          <a:stretch/>
        </p:blipFill>
        <p:spPr>
          <a:xfrm>
            <a:off x="7821720" y="3809880"/>
            <a:ext cx="1046160" cy="452520"/>
          </a:xfrm>
          <a:prstGeom prst="rect">
            <a:avLst/>
          </a:prstGeom>
          <a:ln w="0">
            <a:noFill/>
          </a:ln>
        </p:spPr>
      </p:pic>
      <p:sp>
        <p:nvSpPr>
          <p:cNvPr id="641" name="Line 24"/>
          <p:cNvSpPr/>
          <p:nvPr/>
        </p:nvSpPr>
        <p:spPr>
          <a:xfrm flipV="1">
            <a:off x="6705720" y="4191120"/>
            <a:ext cx="1218960" cy="7617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457200" y="434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小结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3" name="Picture 26" descr=""/>
          <p:cNvPicPr/>
          <p:nvPr/>
        </p:nvPicPr>
        <p:blipFill>
          <a:blip r:embed="rId4"/>
          <a:stretch/>
        </p:blipFill>
        <p:spPr>
          <a:xfrm>
            <a:off x="1752480" y="4191120"/>
            <a:ext cx="41911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533520" y="0"/>
            <a:ext cx="18288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ddf1"/>
                </a:solidFill>
                <a:latin typeface="华文行楷"/>
              </a:rPr>
              <a:t>施展空间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9ddf1"/>
              </a:solidFill>
              <a:latin typeface="华文行楷"/>
              <a:ea typeface="华文行楷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457200" y="12193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１、已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反比例函数图象上的点，阴影部分的面积为５，则该反比例函数的解析式是</a:t>
            </a:r>
            <a:r>
              <a:rPr b="0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　   　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838080" y="3200400"/>
            <a:ext cx="687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57200" y="2666880"/>
            <a:ext cx="6705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正半轴上的一个动点，过点Ｑ作Ｘ轴的垂线交双曲线              于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连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当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沿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轴、的正方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运动时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Rt△OQ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面积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(   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逐渐增大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逐渐减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保持不变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无法确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48" name="Picture 6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1218960" cy="862200"/>
          </a:xfrm>
          <a:prstGeom prst="rect">
            <a:avLst/>
          </a:prstGeom>
          <a:ln w="0">
            <a:noFill/>
          </a:ln>
        </p:spPr>
      </p:pic>
      <p:sp>
        <p:nvSpPr>
          <p:cNvPr id="649" name="Line 7"/>
          <p:cNvSpPr/>
          <p:nvPr/>
        </p:nvSpPr>
        <p:spPr>
          <a:xfrm>
            <a:off x="6553080" y="4800600"/>
            <a:ext cx="22100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0" name="Line 8"/>
          <p:cNvSpPr/>
          <p:nvPr/>
        </p:nvSpPr>
        <p:spPr>
          <a:xfrm flipV="1">
            <a:off x="7238880" y="3733560"/>
            <a:ext cx="0" cy="28954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1" name="Arc 9"/>
          <p:cNvSpPr/>
          <p:nvPr/>
        </p:nvSpPr>
        <p:spPr>
          <a:xfrm flipH="1">
            <a:off x="7543800" y="5105520"/>
            <a:ext cx="990720" cy="952560"/>
          </a:xfrm>
          <a:custGeom>
            <a:avLst/>
            <a:gdLst/>
            <a:ahLst/>
            <a:rect l="l" t="t" r="r" b="b"/>
            <a:pathLst>
              <a:path fill="none" w="21600" h="20753">
                <a:moveTo>
                  <a:pt x="5990" y="0"/>
                </a:moveTo>
                <a:cubicBezTo>
                  <a:pt x="15235" y="2669"/>
                  <a:pt x="21600" y="11130"/>
                  <a:pt x="21600" y="20753"/>
                </a:cubicBezTo>
              </a:path>
              <a:path stroke="0" w="21600" h="20753">
                <a:moveTo>
                  <a:pt x="5990" y="0"/>
                </a:moveTo>
                <a:cubicBezTo>
                  <a:pt x="15235" y="2669"/>
                  <a:pt x="21600" y="11130"/>
                  <a:pt x="21600" y="20753"/>
                </a:cubicBezTo>
                <a:lnTo>
                  <a:pt x="0" y="20753"/>
                </a:lnTo>
                <a:lnTo>
                  <a:pt x="5990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7620120" y="5334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Line 11"/>
          <p:cNvSpPr/>
          <p:nvPr/>
        </p:nvSpPr>
        <p:spPr>
          <a:xfrm flipV="1">
            <a:off x="7772400" y="480024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4" name="Line 12"/>
          <p:cNvSpPr/>
          <p:nvPr/>
        </p:nvSpPr>
        <p:spPr>
          <a:xfrm flipH="1" flipV="1">
            <a:off x="7238880" y="4800240"/>
            <a:ext cx="53352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7543800" y="4357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6781680" y="47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Text Box 15"/>
          <p:cNvSpPr/>
          <p:nvPr/>
        </p:nvSpPr>
        <p:spPr>
          <a:xfrm>
            <a:off x="685800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Text Box 16"/>
          <p:cNvSpPr/>
          <p:nvPr/>
        </p:nvSpPr>
        <p:spPr>
          <a:xfrm>
            <a:off x="8458200" y="4724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9" name="Line 17"/>
          <p:cNvSpPr/>
          <p:nvPr/>
        </p:nvSpPr>
        <p:spPr>
          <a:xfrm>
            <a:off x="7010280" y="2590920"/>
            <a:ext cx="175284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Line 18"/>
          <p:cNvSpPr/>
          <p:nvPr/>
        </p:nvSpPr>
        <p:spPr>
          <a:xfrm flipV="1">
            <a:off x="8229600" y="1218960"/>
            <a:ext cx="0" cy="19810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Arc 19"/>
          <p:cNvSpPr/>
          <p:nvPr/>
        </p:nvSpPr>
        <p:spPr>
          <a:xfrm flipV="1">
            <a:off x="7086600" y="1295280"/>
            <a:ext cx="914400" cy="1067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2" name="Text Box 20"/>
          <p:cNvSpPr/>
          <p:nvPr/>
        </p:nvSpPr>
        <p:spPr>
          <a:xfrm>
            <a:off x="79246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Text Box 21"/>
          <p:cNvSpPr/>
          <p:nvPr/>
        </p:nvSpPr>
        <p:spPr>
          <a:xfrm>
            <a:off x="8458200" y="24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Text Box 22"/>
          <p:cNvSpPr/>
          <p:nvPr/>
        </p:nvSpPr>
        <p:spPr>
          <a:xfrm>
            <a:off x="822960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Rectangle 23"/>
          <p:cNvSpPr/>
          <p:nvPr/>
        </p:nvSpPr>
        <p:spPr>
          <a:xfrm>
            <a:off x="7391520" y="2286000"/>
            <a:ext cx="838080" cy="304920"/>
          </a:xfrm>
          <a:prstGeom prst="rect">
            <a:avLst/>
          </a:prstGeom>
          <a:solidFill>
            <a:srgbClr val="5b524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66" name="Picture 24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1981080" cy="769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25"/>
          <p:cNvSpPr/>
          <p:nvPr/>
        </p:nvSpPr>
        <p:spPr>
          <a:xfrm>
            <a:off x="487692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380880" y="304920"/>
            <a:ext cx="7772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■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：已知一次函数   　                           的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象与反比例函数　         的图象交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两点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横坐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点的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纵坐标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都是－２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求一次函数的解析式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求△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的面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Line 3"/>
          <p:cNvSpPr/>
          <p:nvPr/>
        </p:nvSpPr>
        <p:spPr>
          <a:xfrm>
            <a:off x="5181480" y="3886200"/>
            <a:ext cx="36576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6934320" y="1828440"/>
            <a:ext cx="0" cy="35053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4" name="Line 5"/>
          <p:cNvSpPr/>
          <p:nvPr/>
        </p:nvSpPr>
        <p:spPr>
          <a:xfrm>
            <a:off x="6019920" y="2514600"/>
            <a:ext cx="2590560" cy="25909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5" name="Arc 6"/>
          <p:cNvSpPr/>
          <p:nvPr/>
        </p:nvSpPr>
        <p:spPr>
          <a:xfrm flipH="1">
            <a:off x="7162200" y="4114800"/>
            <a:ext cx="1447560" cy="1295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6" name="Arc 7"/>
          <p:cNvSpPr/>
          <p:nvPr/>
        </p:nvSpPr>
        <p:spPr>
          <a:xfrm flipV="1">
            <a:off x="5257800" y="2209680"/>
            <a:ext cx="1447920" cy="1524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77" name="Picture 8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2971800" cy="571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9" descr=""/>
          <p:cNvPicPr/>
          <p:nvPr/>
        </p:nvPicPr>
        <p:blipFill>
          <a:blip r:embed="rId2"/>
          <a:stretch/>
        </p:blipFill>
        <p:spPr>
          <a:xfrm>
            <a:off x="3048120" y="76212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679" name="Line 10"/>
          <p:cNvSpPr/>
          <p:nvPr/>
        </p:nvSpPr>
        <p:spPr>
          <a:xfrm>
            <a:off x="6477120" y="2971800"/>
            <a:ext cx="457200" cy="914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6934320" y="3886200"/>
            <a:ext cx="91440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8610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2" name="Text Box 13"/>
          <p:cNvSpPr/>
          <p:nvPr/>
        </p:nvSpPr>
        <p:spPr>
          <a:xfrm>
            <a:off x="66294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65530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60958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76960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73152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7" name="Line 18"/>
          <p:cNvSpPr/>
          <p:nvPr/>
        </p:nvSpPr>
        <p:spPr>
          <a:xfrm>
            <a:off x="6553080" y="297180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8" name="Line 19"/>
          <p:cNvSpPr/>
          <p:nvPr/>
        </p:nvSpPr>
        <p:spPr>
          <a:xfrm flipV="1">
            <a:off x="7848720" y="388620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9" name="Line 20"/>
          <p:cNvSpPr/>
          <p:nvPr/>
        </p:nvSpPr>
        <p:spPr>
          <a:xfrm>
            <a:off x="6553080" y="297180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0" name="Line 21"/>
          <p:cNvSpPr/>
          <p:nvPr/>
        </p:nvSpPr>
        <p:spPr>
          <a:xfrm>
            <a:off x="6477120" y="304812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248520" y="3886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76960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93" name="Group 24"/>
          <p:cNvGrpSpPr/>
          <p:nvPr/>
        </p:nvGrpSpPr>
        <p:grpSpPr>
          <a:xfrm>
            <a:off x="5181480" y="5181480"/>
            <a:ext cx="3962520" cy="1676520"/>
            <a:chOff x="5181480" y="5181480"/>
            <a:chExt cx="3962520" cy="1676520"/>
          </a:xfrm>
        </p:grpSpPr>
        <p:pic>
          <p:nvPicPr>
            <p:cNvPr id="694" name="Picture 25" descr="NewsMedia_1793"/>
            <p:cNvPicPr/>
            <p:nvPr/>
          </p:nvPicPr>
          <p:blipFill>
            <a:blip r:embed="rId3"/>
            <a:stretch/>
          </p:blipFill>
          <p:spPr>
            <a:xfrm>
              <a:off x="5181480" y="5181480"/>
              <a:ext cx="3962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26" descr="sailing2"/>
            <p:cNvPicPr/>
            <p:nvPr/>
          </p:nvPicPr>
          <p:blipFill>
            <a:blip r:embed="rId4"/>
            <a:stretch/>
          </p:blipFill>
          <p:spPr>
            <a:xfrm>
              <a:off x="7029000" y="5920560"/>
              <a:ext cx="924840" cy="9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7" descr="sailing2"/>
            <p:cNvPicPr/>
            <p:nvPr/>
          </p:nvPicPr>
          <p:blipFill>
            <a:blip r:embed="rId5"/>
            <a:stretch/>
          </p:blipFill>
          <p:spPr>
            <a:xfrm>
              <a:off x="8100360" y="5934240"/>
              <a:ext cx="4590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8" descr="sailing2"/>
            <p:cNvPicPr/>
            <p:nvPr/>
          </p:nvPicPr>
          <p:blipFill>
            <a:blip r:embed="rId6"/>
            <a:stretch/>
          </p:blipFill>
          <p:spPr>
            <a:xfrm>
              <a:off x="5957640" y="6138720"/>
              <a:ext cx="2325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9" descr="sailing2"/>
            <p:cNvPicPr/>
            <p:nvPr/>
          </p:nvPicPr>
          <p:blipFill>
            <a:blip r:embed="rId7"/>
            <a:stretch/>
          </p:blipFill>
          <p:spPr>
            <a:xfrm>
              <a:off x="5398920" y="5861520"/>
              <a:ext cx="69192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Text Box 30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71240" y="2133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3399"/>
                </a:solidFill>
                <a:latin typeface="Times New Roman"/>
                <a:ea typeface="隶书"/>
              </a:rPr>
              <a:t>谈谈你的收获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01" name="Picture 3" descr="兰花1"/>
          <p:cNvPicPr/>
          <p:nvPr/>
        </p:nvPicPr>
        <p:blipFill>
          <a:blip r:embed="rId1"/>
          <a:stretch/>
        </p:blipFill>
        <p:spPr>
          <a:xfrm>
            <a:off x="0" y="4897440"/>
            <a:ext cx="3200400" cy="1960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jp1"/>
          <p:cNvPicPr/>
          <p:nvPr/>
        </p:nvPicPr>
        <p:blipFill>
          <a:blip r:embed="rId2"/>
          <a:stretch/>
        </p:blipFill>
        <p:spPr>
          <a:xfrm>
            <a:off x="5181480" y="4311720"/>
            <a:ext cx="396252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WordArt 2"/>
          <p:cNvSpPr txBox="1"/>
          <p:nvPr/>
        </p:nvSpPr>
        <p:spPr>
          <a:xfrm>
            <a:off x="2133720" y="1981080"/>
            <a:ext cx="510516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指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704" name="WordArt 3"/>
          <p:cNvSpPr txBox="1"/>
          <p:nvPr/>
        </p:nvSpPr>
        <p:spPr>
          <a:xfrm rot="5400000">
            <a:off x="3280320" y="3196440"/>
            <a:ext cx="2583000" cy="3047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再见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5" name="Text Box 4">
            <a:hlinkClick r:id="" action="ppaction://hlinkshowjump?jump=firstslide"/>
          </p:cNvPr>
          <p:cNvSpPr/>
          <p:nvPr/>
        </p:nvSpPr>
        <p:spPr>
          <a:xfrm>
            <a:off x="533520" y="76212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147636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幻灯片之家 http:/www.eeppt.com</cp:keywords>
  <dc:language>en-US</dc:language>
  <cp:lastModifiedBy/>
  <dcterms:modified xsi:type="dcterms:W3CDTF">2015-07-20T02:04:44Z</dcterms:modified>
  <cp:revision>0</cp:revision>
  <dc:subject/>
  <dc:title/>
</cp:coreProperties>
</file>