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C11-361A-4A69-A2DC-17F00498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7BB-24C8-47C0-B5A8-02F8183B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FBA-A8DA-41AC-90DE-E9FA882D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C92-8A38-4B09-82C5-CFE765AC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240-9534-44F8-B459-D314D70D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DFF-0001-45F7-B787-EB668380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910-5EC6-4A98-8242-92EDFBEA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39C-9729-460C-B452-EEAADD33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FF4-9087-4F8A-9E9E-33DCBD29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1F8-80B9-41CE-B4C2-0CDCC4F6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4FF-C37F-427B-B9A6-C5CEB78B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E47-74EF-46D4-BBEA-3871FE1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49C3-561E-4CFA-916D-9E2A0F905A9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CFA1-8AF4-418B-B0CF-AB6EE5C774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869200" y="741240"/>
            <a:ext cx="3590280" cy="3567240"/>
            <a:chOff x="2869200" y="741240"/>
            <a:chExt cx="3590280" cy="3567240"/>
          </a:xfrm>
        </p:grpSpPr>
        <p:sp>
          <p:nvSpPr>
            <p:cNvPr id="42" name="任意多边形 50"/>
            <p:cNvSpPr/>
            <p:nvPr/>
          </p:nvSpPr>
          <p:spPr>
            <a:xfrm flipH="1" rot="571200">
              <a:off x="4299840" y="2378880"/>
              <a:ext cx="1072080" cy="1167840"/>
            </a:xfrm>
            <a:custGeom>
              <a:avLst/>
              <a:gdLst>
                <a:gd name="textAreaLeft" fmla="*/ 360 w 1072080"/>
                <a:gd name="textAreaRight" fmla="*/ 1072800 w 1072080"/>
                <a:gd name="textAreaTop" fmla="*/ 0 h 1167840"/>
                <a:gd name="textAreaBottom" fmla="*/ 1168200 h 116784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51"/>
            <p:cNvSpPr/>
            <p:nvPr/>
          </p:nvSpPr>
          <p:spPr>
            <a:xfrm rot="19540800">
              <a:off x="4238280" y="1672560"/>
              <a:ext cx="1231920" cy="134172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1341720"/>
                <a:gd name="textAreaBottom" fmla="*/ 1342080 h 134172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52"/>
            <p:cNvSpPr/>
            <p:nvPr/>
          </p:nvSpPr>
          <p:spPr>
            <a:xfrm flipH="1">
              <a:off x="3502800" y="741240"/>
              <a:ext cx="1332360" cy="133236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53"/>
            <p:cNvSpPr/>
            <p:nvPr/>
          </p:nvSpPr>
          <p:spPr>
            <a:xfrm flipH="1">
              <a:off x="4661280" y="1451880"/>
              <a:ext cx="1105200" cy="1104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54"/>
            <p:cNvSpPr/>
            <p:nvPr/>
          </p:nvSpPr>
          <p:spPr>
            <a:xfrm>
              <a:off x="3338280" y="2057760"/>
              <a:ext cx="1688400" cy="22507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250720"/>
                <a:gd name="textAreaBottom" fmla="*/ 2251080 h 2250720"/>
              </a:gdLst>
              <a:ahLst/>
              <a:rect l="textAreaLeft" t="textAreaTop" r="textAreaRight" b="textAreaBottom"/>
              <a:pathLst>
                <a:path w="2015264" h="1539400">
                  <a:moveTo>
                    <a:pt x="1007632" y="0"/>
                  </a:moveTo>
                  <a:cubicBezTo>
                    <a:pt x="1501691" y="0"/>
                    <a:pt x="1913899" y="630345"/>
                    <a:pt x="2009231" y="1468303"/>
                  </a:cubicBezTo>
                  <a:lnTo>
                    <a:pt x="2015264" y="1539400"/>
                  </a:lnTo>
                  <a:lnTo>
                    <a:pt x="0" y="1539400"/>
                  </a:lnTo>
                  <a:lnTo>
                    <a:pt x="6033" y="1468303"/>
                  </a:lnTo>
                  <a:cubicBezTo>
                    <a:pt x="101365" y="630345"/>
                    <a:pt x="513573" y="0"/>
                    <a:pt x="100763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55"/>
            <p:cNvSpPr/>
            <p:nvPr/>
          </p:nvSpPr>
          <p:spPr>
            <a:xfrm>
              <a:off x="4694400" y="2511000"/>
              <a:ext cx="1348560" cy="1797480"/>
            </a:xfrm>
            <a:custGeom>
              <a:avLst/>
              <a:gdLst>
                <a:gd name="textAreaLeft" fmla="*/ 0 w 1348560"/>
                <a:gd name="textAreaRight" fmla="*/ 1348920 w 1348560"/>
                <a:gd name="textAreaTop" fmla="*/ 0 h 1797480"/>
                <a:gd name="textAreaBottom" fmla="*/ 1797840 h 1797480"/>
              </a:gdLst>
              <a:ahLst/>
              <a:rect l="textAreaLeft" t="textAreaTop" r="textAreaRight" b="textAreaBottom"/>
              <a:pathLst>
                <a:path w="2015264" h="1539400">
                  <a:moveTo>
                    <a:pt x="1007632" y="0"/>
                  </a:moveTo>
                  <a:cubicBezTo>
                    <a:pt x="1501691" y="0"/>
                    <a:pt x="1913899" y="630345"/>
                    <a:pt x="2009231" y="1468303"/>
                  </a:cubicBezTo>
                  <a:lnTo>
                    <a:pt x="2015264" y="1539400"/>
                  </a:lnTo>
                  <a:lnTo>
                    <a:pt x="0" y="1539400"/>
                  </a:lnTo>
                  <a:lnTo>
                    <a:pt x="6033" y="1468303"/>
                  </a:lnTo>
                  <a:cubicBezTo>
                    <a:pt x="101365" y="630345"/>
                    <a:pt x="513573" y="0"/>
                    <a:pt x="1007632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56"/>
            <p:cNvSpPr/>
            <p:nvPr/>
          </p:nvSpPr>
          <p:spPr>
            <a:xfrm flipH="1" rot="20952600">
              <a:off x="2984040" y="2196360"/>
              <a:ext cx="1231920" cy="1341720"/>
            </a:xfrm>
            <a:custGeom>
              <a:avLst/>
              <a:gdLst>
                <a:gd name="textAreaLeft" fmla="*/ 360 w 1231920"/>
                <a:gd name="textAreaRight" fmla="*/ 1232640 w 1231920"/>
                <a:gd name="textAreaTop" fmla="*/ 0 h 1341720"/>
                <a:gd name="textAreaBottom" fmla="*/ 1342080 h 134172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57"/>
            <p:cNvSpPr/>
            <p:nvPr/>
          </p:nvSpPr>
          <p:spPr>
            <a:xfrm rot="1038000">
              <a:off x="5238000" y="2643840"/>
              <a:ext cx="1072080" cy="1167480"/>
            </a:xfrm>
            <a:custGeom>
              <a:avLst/>
              <a:gdLst>
                <a:gd name="textAreaLeft" fmla="*/ 0 w 1072080"/>
                <a:gd name="textAreaRight" fmla="*/ 1072440 w 1072080"/>
                <a:gd name="textAreaTop" fmla="*/ 0 h 1167480"/>
                <a:gd name="textAreaBottom" fmla="*/ 1167840 h 116748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13"/>
          <p:cNvSpPr/>
          <p:nvPr/>
        </p:nvSpPr>
        <p:spPr>
          <a:xfrm>
            <a:off x="7496280" y="279576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事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5604120" y="2371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6081120" y="28764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6249600" y="3814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7039800" y="39085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3568320" y="3016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922280" y="31431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4"/>
          <p:cNvSpPr/>
          <p:nvPr/>
        </p:nvSpPr>
        <p:spPr>
          <a:xfrm>
            <a:off x="0" y="5283360"/>
            <a:ext cx="12192120" cy="1574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5"/>
          <p:cNvSpPr/>
          <p:nvPr/>
        </p:nvSpPr>
        <p:spPr>
          <a:xfrm>
            <a:off x="0" y="-46080"/>
            <a:ext cx="12192120" cy="6224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"/>
          <p:cNvSpPr/>
          <p:nvPr/>
        </p:nvSpPr>
        <p:spPr>
          <a:xfrm>
            <a:off x="4422600" y="461160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方正吕建德字体"/>
                <a:ea typeface="方正吕建德字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3"/>
          <p:cNvSpPr/>
          <p:nvPr/>
        </p:nvSpPr>
        <p:spPr>
          <a:xfrm>
            <a:off x="8731440" y="2089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任意多边形 34"/>
          <p:cNvSpPr/>
          <p:nvPr/>
        </p:nvSpPr>
        <p:spPr>
          <a:xfrm flipH="1" rot="571200">
            <a:off x="6291360" y="1450440"/>
            <a:ext cx="511200" cy="557280"/>
          </a:xfrm>
          <a:custGeom>
            <a:avLst/>
            <a:gdLst>
              <a:gd name="textAreaLeft" fmla="*/ 360 w 511200"/>
              <a:gd name="textAreaRight" fmla="*/ 511920 w 5112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33"/>
          <p:cNvSpPr/>
          <p:nvPr/>
        </p:nvSpPr>
        <p:spPr>
          <a:xfrm rot="19540800">
            <a:off x="6260760" y="1112400"/>
            <a:ext cx="588960" cy="641520"/>
          </a:xfrm>
          <a:custGeom>
            <a:avLst/>
            <a:gdLst>
              <a:gd name="textAreaLeft" fmla="*/ 0 w 588960"/>
              <a:gd name="textAreaRight" fmla="*/ 589320 w 58896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8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5"/>
          <p:cNvSpPr/>
          <p:nvPr/>
        </p:nvSpPr>
        <p:spPr>
          <a:xfrm flipH="1">
            <a:off x="5910120" y="668160"/>
            <a:ext cx="635040" cy="636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26"/>
          <p:cNvSpPr/>
          <p:nvPr/>
        </p:nvSpPr>
        <p:spPr>
          <a:xfrm flipH="1">
            <a:off x="6462720" y="1008000"/>
            <a:ext cx="527040" cy="527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29"/>
          <p:cNvSpPr/>
          <p:nvPr/>
        </p:nvSpPr>
        <p:spPr>
          <a:xfrm>
            <a:off x="5830920" y="1297080"/>
            <a:ext cx="806400" cy="1074600"/>
          </a:xfrm>
          <a:custGeom>
            <a:avLst/>
            <a:gdLst>
              <a:gd name="textAreaLeft" fmla="*/ 0 w 806400"/>
              <a:gd name="textAreaRight" fmla="*/ 806760 w 80640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2015264" h="1539400">
                <a:moveTo>
                  <a:pt x="1007632" y="0"/>
                </a:moveTo>
                <a:cubicBezTo>
                  <a:pt x="1501691" y="0"/>
                  <a:pt x="1913899" y="630345"/>
                  <a:pt x="2009231" y="1468303"/>
                </a:cubicBezTo>
                <a:lnTo>
                  <a:pt x="2015264" y="1539400"/>
                </a:lnTo>
                <a:lnTo>
                  <a:pt x="0" y="1539400"/>
                </a:lnTo>
                <a:lnTo>
                  <a:pt x="6033" y="1468303"/>
                </a:lnTo>
                <a:cubicBezTo>
                  <a:pt x="101365" y="630345"/>
                  <a:pt x="513573" y="0"/>
                  <a:pt x="1007632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30"/>
          <p:cNvSpPr/>
          <p:nvPr/>
        </p:nvSpPr>
        <p:spPr>
          <a:xfrm>
            <a:off x="6478560" y="1514520"/>
            <a:ext cx="644400" cy="857160"/>
          </a:xfrm>
          <a:custGeom>
            <a:avLst/>
            <a:gdLst>
              <a:gd name="textAreaLeft" fmla="*/ 0 w 644400"/>
              <a:gd name="textAreaRight" fmla="*/ 644760 w 6444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015264" h="1539400">
                <a:moveTo>
                  <a:pt x="1007632" y="0"/>
                </a:moveTo>
                <a:cubicBezTo>
                  <a:pt x="1501691" y="0"/>
                  <a:pt x="1913899" y="630345"/>
                  <a:pt x="2009231" y="1468303"/>
                </a:cubicBezTo>
                <a:lnTo>
                  <a:pt x="2015264" y="1539400"/>
                </a:lnTo>
                <a:lnTo>
                  <a:pt x="0" y="1539400"/>
                </a:lnTo>
                <a:lnTo>
                  <a:pt x="6033" y="1468303"/>
                </a:lnTo>
                <a:cubicBezTo>
                  <a:pt x="101365" y="630345"/>
                  <a:pt x="513573" y="0"/>
                  <a:pt x="1007632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31"/>
          <p:cNvSpPr/>
          <p:nvPr/>
        </p:nvSpPr>
        <p:spPr>
          <a:xfrm flipH="1" rot="20952600">
            <a:off x="5662080" y="1363680"/>
            <a:ext cx="587520" cy="639360"/>
          </a:xfrm>
          <a:custGeom>
            <a:avLst/>
            <a:gdLst>
              <a:gd name="textAreaLeft" fmla="*/ 0 w 587520"/>
              <a:gd name="textAreaRight" fmla="*/ 587520 w 587520"/>
              <a:gd name="textAreaTop" fmla="*/ 0 h 639360"/>
              <a:gd name="textAreaBottom" fmla="*/ 639720 h 63936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32"/>
          <p:cNvSpPr/>
          <p:nvPr/>
        </p:nvSpPr>
        <p:spPr>
          <a:xfrm rot="1038000">
            <a:off x="6737040" y="1577520"/>
            <a:ext cx="512640" cy="557280"/>
          </a:xfrm>
          <a:custGeom>
            <a:avLst/>
            <a:gdLst>
              <a:gd name="textAreaLeft" fmla="*/ 0 w 512640"/>
              <a:gd name="textAreaRight" fmla="*/ 513000 w 512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1692000" y="3271680"/>
            <a:ext cx="1804680" cy="2491920"/>
            <a:chOff x="1692000" y="3271680"/>
            <a:chExt cx="1804680" cy="2491920"/>
          </a:xfrm>
        </p:grpSpPr>
        <p:sp>
          <p:nvSpPr>
            <p:cNvPr id="236" name="椭圆 10"/>
            <p:cNvSpPr/>
            <p:nvPr/>
          </p:nvSpPr>
          <p:spPr>
            <a:xfrm flipH="1">
              <a:off x="2353680" y="3271680"/>
              <a:ext cx="717120" cy="716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11"/>
            <p:cNvSpPr/>
            <p:nvPr/>
          </p:nvSpPr>
          <p:spPr>
            <a:xfrm flipH="1" rot="20428200">
              <a:off x="1887840" y="4098240"/>
              <a:ext cx="774720" cy="843480"/>
            </a:xfrm>
            <a:custGeom>
              <a:avLst/>
              <a:gdLst>
                <a:gd name="textAreaLeft" fmla="*/ 360 w 774720"/>
                <a:gd name="textAreaRight" fmla="*/ 775440 w 77472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12"/>
            <p:cNvSpPr/>
            <p:nvPr/>
          </p:nvSpPr>
          <p:spPr>
            <a:xfrm rot="1465800">
              <a:off x="2273040" y="4594680"/>
              <a:ext cx="904320" cy="1027800"/>
            </a:xfrm>
            <a:custGeom>
              <a:avLst/>
              <a:gdLst>
                <a:gd name="textAreaLeft" fmla="*/ 0 w 904320"/>
                <a:gd name="textAreaRight" fmla="*/ 904680 w 904320"/>
                <a:gd name="textAreaTop" fmla="*/ 0 h 1027800"/>
                <a:gd name="textAreaBottom" fmla="*/ 1028160 h 1027800"/>
              </a:gdLst>
              <a:ahLst/>
              <a:rect l="textAreaLeft" t="textAreaTop" r="textAreaRight" b="textAreaBottom"/>
              <a:pathLst>
                <a:path w="1674503" h="1904878">
                  <a:moveTo>
                    <a:pt x="58579" y="0"/>
                  </a:moveTo>
                  <a:lnTo>
                    <a:pt x="0" y="355313"/>
                  </a:lnTo>
                  <a:cubicBezTo>
                    <a:pt x="70574" y="416195"/>
                    <a:pt x="185888" y="668939"/>
                    <a:pt x="256462" y="729821"/>
                  </a:cubicBezTo>
                  <a:cubicBezTo>
                    <a:pt x="456432" y="874212"/>
                    <a:pt x="1154036" y="827239"/>
                    <a:pt x="1357518" y="1013968"/>
                  </a:cubicBezTo>
                  <a:cubicBezTo>
                    <a:pt x="1561000" y="1200697"/>
                    <a:pt x="1466562" y="1637216"/>
                    <a:pt x="1477356" y="1850195"/>
                  </a:cubicBezTo>
                  <a:lnTo>
                    <a:pt x="1478877" y="1867785"/>
                  </a:lnTo>
                  <a:lnTo>
                    <a:pt x="1665741" y="1904878"/>
                  </a:lnTo>
                  <a:cubicBezTo>
                    <a:pt x="1665963" y="1891593"/>
                    <a:pt x="1666186" y="1878307"/>
                    <a:pt x="1666408" y="1865022"/>
                  </a:cubicBezTo>
                  <a:cubicBezTo>
                    <a:pt x="1673244" y="1634650"/>
                    <a:pt x="1718487" y="1166955"/>
                    <a:pt x="1488679" y="884355"/>
                  </a:cubicBezTo>
                  <a:cubicBezTo>
                    <a:pt x="1226041" y="561384"/>
                    <a:pt x="309079" y="164856"/>
                    <a:pt x="90914" y="10163"/>
                  </a:cubicBezTo>
                  <a:lnTo>
                    <a:pt x="5857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13"/>
            <p:cNvSpPr/>
            <p:nvPr/>
          </p:nvSpPr>
          <p:spPr>
            <a:xfrm flipV="1" rot="6805800">
              <a:off x="2766600" y="3991320"/>
              <a:ext cx="467280" cy="87912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360 h 879120"/>
                <a:gd name="textAreaBottom" fmla="*/ 879840 h 879120"/>
              </a:gdLst>
              <a:ahLst/>
              <a:rect l="textAreaLeft" t="textAreaTop" r="textAreaRight" b="textAreaBottom"/>
              <a:pathLst>
                <a:path w="1394634" h="1628614">
                  <a:moveTo>
                    <a:pt x="0" y="0"/>
                  </a:moveTo>
                  <a:lnTo>
                    <a:pt x="32335" y="10163"/>
                  </a:lnTo>
                  <a:cubicBezTo>
                    <a:pt x="922286" y="337660"/>
                    <a:pt x="1319117" y="586682"/>
                    <a:pt x="1394634" y="1588740"/>
                  </a:cubicBezTo>
                  <a:cubicBezTo>
                    <a:pt x="1289203" y="1596686"/>
                    <a:pt x="1371125" y="1620668"/>
                    <a:pt x="1265694" y="1628614"/>
                  </a:cubicBezTo>
                  <a:cubicBezTo>
                    <a:pt x="1205280" y="826974"/>
                    <a:pt x="791967" y="714521"/>
                    <a:pt x="112687" y="388246"/>
                  </a:cubicBezTo>
                  <a:lnTo>
                    <a:pt x="11290" y="279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圆角矩形 23"/>
            <p:cNvSpPr/>
            <p:nvPr/>
          </p:nvSpPr>
          <p:spPr>
            <a:xfrm flipH="1">
              <a:off x="2322000" y="3981240"/>
              <a:ext cx="534240" cy="101412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26792" h="1879302">
                  <a:moveTo>
                    <a:pt x="0" y="460200"/>
                  </a:moveTo>
                  <a:cubicBezTo>
                    <a:pt x="0" y="206039"/>
                    <a:pt x="206039" y="0"/>
                    <a:pt x="460200" y="0"/>
                  </a:cubicBezTo>
                  <a:lnTo>
                    <a:pt x="460200" y="0"/>
                  </a:lnTo>
                  <a:cubicBezTo>
                    <a:pt x="714361" y="0"/>
                    <a:pt x="920400" y="206039"/>
                    <a:pt x="920400" y="460200"/>
                  </a:cubicBezTo>
                  <a:cubicBezTo>
                    <a:pt x="920400" y="779834"/>
                    <a:pt x="934783" y="1232984"/>
                    <a:pt x="920399" y="1419102"/>
                  </a:cubicBezTo>
                  <a:cubicBezTo>
                    <a:pt x="906015" y="1605220"/>
                    <a:pt x="910797" y="1500206"/>
                    <a:pt x="834097" y="1576906"/>
                  </a:cubicBezTo>
                  <a:cubicBezTo>
                    <a:pt x="757397" y="1653606"/>
                    <a:pt x="530560" y="1828903"/>
                    <a:pt x="460199" y="1879302"/>
                  </a:cubicBezTo>
                  <a:lnTo>
                    <a:pt x="460200" y="1879301"/>
                  </a:lnTo>
                  <a:cubicBezTo>
                    <a:pt x="206039" y="1879301"/>
                    <a:pt x="25758" y="1802051"/>
                    <a:pt x="25758" y="1547890"/>
                  </a:cubicBezTo>
                  <a:cubicBezTo>
                    <a:pt x="25758" y="1228256"/>
                    <a:pt x="0" y="779834"/>
                    <a:pt x="0" y="46020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15"/>
            <p:cNvSpPr/>
            <p:nvPr/>
          </p:nvSpPr>
          <p:spPr>
            <a:xfrm rot="2967600">
              <a:off x="1929600" y="4560120"/>
              <a:ext cx="903600" cy="104184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1041840"/>
                <a:gd name="textAreaBottom" fmla="*/ 1042200 h 1041840"/>
              </a:gdLst>
              <a:ahLst/>
              <a:rect l="textAreaLeft" t="textAreaTop" r="textAreaRight" b="textAreaBottom"/>
              <a:pathLst>
                <a:path w="1674503" h="1928834">
                  <a:moveTo>
                    <a:pt x="248533" y="0"/>
                  </a:moveTo>
                  <a:lnTo>
                    <a:pt x="0" y="379269"/>
                  </a:lnTo>
                  <a:cubicBezTo>
                    <a:pt x="70574" y="440151"/>
                    <a:pt x="301868" y="570704"/>
                    <a:pt x="372442" y="631586"/>
                  </a:cubicBezTo>
                  <a:cubicBezTo>
                    <a:pt x="572412" y="775977"/>
                    <a:pt x="1173366" y="830830"/>
                    <a:pt x="1357518" y="1037924"/>
                  </a:cubicBezTo>
                  <a:cubicBezTo>
                    <a:pt x="1541670" y="1245018"/>
                    <a:pt x="1466562" y="1661172"/>
                    <a:pt x="1477356" y="1874151"/>
                  </a:cubicBezTo>
                  <a:lnTo>
                    <a:pt x="1478877" y="1891741"/>
                  </a:lnTo>
                  <a:lnTo>
                    <a:pt x="1665741" y="1928834"/>
                  </a:lnTo>
                  <a:cubicBezTo>
                    <a:pt x="1665963" y="1915549"/>
                    <a:pt x="1666186" y="1902263"/>
                    <a:pt x="1666408" y="1888978"/>
                  </a:cubicBezTo>
                  <a:cubicBezTo>
                    <a:pt x="1673244" y="1658606"/>
                    <a:pt x="1718487" y="1190911"/>
                    <a:pt x="1488679" y="908311"/>
                  </a:cubicBezTo>
                  <a:cubicBezTo>
                    <a:pt x="1315074" y="642384"/>
                    <a:pt x="934492" y="369184"/>
                    <a:pt x="701531" y="223485"/>
                  </a:cubicBezTo>
                  <a:cubicBezTo>
                    <a:pt x="468570" y="77786"/>
                    <a:pt x="153621" y="83021"/>
                    <a:pt x="90914" y="34119"/>
                  </a:cubicBezTo>
                  <a:lnTo>
                    <a:pt x="24853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8"/>
          <p:cNvGrpSpPr/>
          <p:nvPr/>
        </p:nvGrpSpPr>
        <p:grpSpPr>
          <a:xfrm>
            <a:off x="4501800" y="2559960"/>
            <a:ext cx="5537160" cy="3086640"/>
            <a:chOff x="4501800" y="2559960"/>
            <a:chExt cx="5537160" cy="3086640"/>
          </a:xfrm>
        </p:grpSpPr>
        <p:sp>
          <p:nvSpPr>
            <p:cNvPr id="243" name="矩形 37"/>
            <p:cNvSpPr/>
            <p:nvPr/>
          </p:nvSpPr>
          <p:spPr>
            <a:xfrm flipH="1">
              <a:off x="9184320" y="4533480"/>
              <a:ext cx="480240" cy="1051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38"/>
            <p:cNvSpPr/>
            <p:nvPr/>
          </p:nvSpPr>
          <p:spPr>
            <a:xfrm flipH="1">
              <a:off x="7601040" y="331308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39"/>
            <p:cNvSpPr/>
            <p:nvPr/>
          </p:nvSpPr>
          <p:spPr>
            <a:xfrm flipH="1" rot="1683000">
              <a:off x="8047440" y="3789000"/>
              <a:ext cx="4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40"/>
            <p:cNvSpPr/>
            <p:nvPr/>
          </p:nvSpPr>
          <p:spPr>
            <a:xfrm flipH="1" rot="4978200">
              <a:off x="8332920" y="2524680"/>
              <a:ext cx="44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41"/>
            <p:cNvSpPr/>
            <p:nvPr/>
          </p:nvSpPr>
          <p:spPr>
            <a:xfrm flipH="1">
              <a:off x="4995000" y="4617360"/>
              <a:ext cx="4761360" cy="10292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42"/>
            <p:cNvSpPr/>
            <p:nvPr/>
          </p:nvSpPr>
          <p:spPr>
            <a:xfrm flipH="1">
              <a:off x="9756000" y="3260160"/>
              <a:ext cx="282600" cy="2386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43"/>
            <p:cNvSpPr/>
            <p:nvPr/>
          </p:nvSpPr>
          <p:spPr>
            <a:xfrm flipH="1">
              <a:off x="9064440" y="3996720"/>
              <a:ext cx="594000" cy="59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44"/>
            <p:cNvSpPr/>
            <p:nvPr/>
          </p:nvSpPr>
          <p:spPr>
            <a:xfrm flipH="1">
              <a:off x="4501800" y="3929040"/>
              <a:ext cx="4857120" cy="1600920"/>
            </a:xfrm>
            <a:custGeom>
              <a:avLst/>
              <a:gdLst>
                <a:gd name="textAreaLeft" fmla="*/ 360 w 4857120"/>
                <a:gd name="textAreaRight" fmla="*/ 4857840 w 4857120"/>
                <a:gd name="textAreaTop" fmla="*/ 0 h 1600920"/>
                <a:gd name="textAreaBottom" fmla="*/ 1601280 h 1600920"/>
              </a:gdLst>
              <a:ahLst/>
              <a:rect l="textAreaLeft" t="textAreaTop" r="textAreaRight" b="textAreaBottom"/>
              <a:pathLst>
                <a:path w="6325608" h="2085253">
                  <a:moveTo>
                    <a:pt x="455095" y="373426"/>
                  </a:moveTo>
                  <a:cubicBezTo>
                    <a:pt x="593818" y="398826"/>
                    <a:pt x="732541" y="424226"/>
                    <a:pt x="830233" y="396872"/>
                  </a:cubicBezTo>
                  <a:cubicBezTo>
                    <a:pt x="927925" y="369518"/>
                    <a:pt x="986541" y="232749"/>
                    <a:pt x="1041249" y="209303"/>
                  </a:cubicBezTo>
                  <a:cubicBezTo>
                    <a:pt x="1095957" y="185857"/>
                    <a:pt x="978726" y="283549"/>
                    <a:pt x="1158480" y="256195"/>
                  </a:cubicBezTo>
                  <a:cubicBezTo>
                    <a:pt x="1338234" y="228841"/>
                    <a:pt x="1869680" y="52995"/>
                    <a:pt x="2119772" y="45180"/>
                  </a:cubicBezTo>
                  <a:cubicBezTo>
                    <a:pt x="2369864" y="37365"/>
                    <a:pt x="2428479" y="181949"/>
                    <a:pt x="2659033" y="209303"/>
                  </a:cubicBezTo>
                  <a:cubicBezTo>
                    <a:pt x="2889587" y="236657"/>
                    <a:pt x="3284264" y="221026"/>
                    <a:pt x="3503095" y="209303"/>
                  </a:cubicBezTo>
                  <a:cubicBezTo>
                    <a:pt x="3721926" y="197580"/>
                    <a:pt x="3768818" y="158502"/>
                    <a:pt x="3972018" y="138964"/>
                  </a:cubicBezTo>
                  <a:cubicBezTo>
                    <a:pt x="4175218" y="119425"/>
                    <a:pt x="4421403" y="99887"/>
                    <a:pt x="4722295" y="92072"/>
                  </a:cubicBezTo>
                  <a:cubicBezTo>
                    <a:pt x="5023187" y="84257"/>
                    <a:pt x="5511649" y="-111128"/>
                    <a:pt x="5777372" y="92072"/>
                  </a:cubicBezTo>
                  <a:cubicBezTo>
                    <a:pt x="6043095" y="295272"/>
                    <a:pt x="6261925" y="1049457"/>
                    <a:pt x="6316633" y="1311272"/>
                  </a:cubicBezTo>
                  <a:cubicBezTo>
                    <a:pt x="6371341" y="1573087"/>
                    <a:pt x="6160326" y="1569179"/>
                    <a:pt x="6105618" y="1662964"/>
                  </a:cubicBezTo>
                  <a:cubicBezTo>
                    <a:pt x="6050910" y="1756749"/>
                    <a:pt x="6035279" y="1842719"/>
                    <a:pt x="5988387" y="1873980"/>
                  </a:cubicBezTo>
                  <a:cubicBezTo>
                    <a:pt x="5941495" y="1905241"/>
                    <a:pt x="5918048" y="1846625"/>
                    <a:pt x="5824264" y="1850533"/>
                  </a:cubicBezTo>
                  <a:cubicBezTo>
                    <a:pt x="5730480" y="1854441"/>
                    <a:pt x="5601526" y="1881795"/>
                    <a:pt x="5425680" y="1897426"/>
                  </a:cubicBezTo>
                  <a:cubicBezTo>
                    <a:pt x="5249834" y="1913057"/>
                    <a:pt x="5019279" y="1944318"/>
                    <a:pt x="4769187" y="1944318"/>
                  </a:cubicBezTo>
                  <a:cubicBezTo>
                    <a:pt x="4519095" y="1944318"/>
                    <a:pt x="4370603" y="1873980"/>
                    <a:pt x="3925126" y="1897426"/>
                  </a:cubicBezTo>
                  <a:cubicBezTo>
                    <a:pt x="3479649" y="1920872"/>
                    <a:pt x="2631680" y="2092810"/>
                    <a:pt x="2096326" y="2084995"/>
                  </a:cubicBezTo>
                  <a:cubicBezTo>
                    <a:pt x="1560972" y="2077180"/>
                    <a:pt x="1009988" y="1885702"/>
                    <a:pt x="713003" y="1850533"/>
                  </a:cubicBezTo>
                  <a:cubicBezTo>
                    <a:pt x="416018" y="1815364"/>
                    <a:pt x="412110" y="1897426"/>
                    <a:pt x="314418" y="1873980"/>
                  </a:cubicBezTo>
                  <a:cubicBezTo>
                    <a:pt x="216726" y="1850534"/>
                    <a:pt x="177649" y="1791919"/>
                    <a:pt x="126849" y="1709857"/>
                  </a:cubicBezTo>
                  <a:cubicBezTo>
                    <a:pt x="76049" y="1627795"/>
                    <a:pt x="29156" y="1463672"/>
                    <a:pt x="9618" y="1381610"/>
                  </a:cubicBezTo>
                  <a:cubicBezTo>
                    <a:pt x="-9920" y="1299548"/>
                    <a:pt x="5710" y="1260471"/>
                    <a:pt x="9618" y="1217487"/>
                  </a:cubicBezTo>
                  <a:cubicBezTo>
                    <a:pt x="13526" y="1174503"/>
                    <a:pt x="21341" y="1154965"/>
                    <a:pt x="33064" y="1123703"/>
                  </a:cubicBezTo>
                  <a:cubicBezTo>
                    <a:pt x="44787" y="1092442"/>
                    <a:pt x="60417" y="1061180"/>
                    <a:pt x="79956" y="1029918"/>
                  </a:cubicBezTo>
                  <a:cubicBezTo>
                    <a:pt x="99494" y="998656"/>
                    <a:pt x="134664" y="955672"/>
                    <a:pt x="150295" y="93613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45"/>
            <p:cNvSpPr/>
            <p:nvPr/>
          </p:nvSpPr>
          <p:spPr>
            <a:xfrm flipH="1" rot="2825400">
              <a:off x="7404840" y="3081240"/>
              <a:ext cx="34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46"/>
            <p:cNvSpPr/>
            <p:nvPr/>
          </p:nvSpPr>
          <p:spPr>
            <a:xfrm flipH="1" rot="18794400">
              <a:off x="7029360" y="335520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47"/>
            <p:cNvSpPr/>
            <p:nvPr/>
          </p:nvSpPr>
          <p:spPr>
            <a:xfrm flipH="1" rot="2763600">
              <a:off x="7386120" y="346104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48"/>
            <p:cNvSpPr/>
            <p:nvPr/>
          </p:nvSpPr>
          <p:spPr>
            <a:xfrm flipH="1" rot="7887600">
              <a:off x="6423840" y="294084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49"/>
            <p:cNvSpPr/>
            <p:nvPr/>
          </p:nvSpPr>
          <p:spPr>
            <a:xfrm flipH="1" rot="3552000">
              <a:off x="6261480" y="428652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50"/>
            <p:cNvSpPr/>
            <p:nvPr/>
          </p:nvSpPr>
          <p:spPr>
            <a:xfrm flipH="1" rot="19258200">
              <a:off x="5845680" y="478908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51"/>
            <p:cNvSpPr/>
            <p:nvPr/>
          </p:nvSpPr>
          <p:spPr>
            <a:xfrm flipH="1" rot="1028400">
              <a:off x="5938560" y="306828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52"/>
            <p:cNvSpPr/>
            <p:nvPr/>
          </p:nvSpPr>
          <p:spPr>
            <a:xfrm flipH="1" rot="3637200">
              <a:off x="5483880" y="502488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53"/>
            <p:cNvSpPr/>
            <p:nvPr/>
          </p:nvSpPr>
          <p:spPr>
            <a:xfrm flipH="1" rot="489000">
              <a:off x="5578560" y="337788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平行四边形 58"/>
          <p:cNvSpPr/>
          <p:nvPr/>
        </p:nvSpPr>
        <p:spPr>
          <a:xfrm flipH="1" rot="16581600">
            <a:off x="3352320" y="4568400"/>
            <a:ext cx="363600" cy="500400"/>
          </a:xfrm>
          <a:prstGeom prst="parallelogram">
            <a:avLst>
              <a:gd name="adj" fmla="val 25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4"/>
          <p:cNvSpPr/>
          <p:nvPr/>
        </p:nvSpPr>
        <p:spPr>
          <a:xfrm>
            <a:off x="5472000" y="425520"/>
            <a:ext cx="1943280" cy="1939680"/>
          </a:xfrm>
          <a:prstGeom prst="rect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9"/>
          <p:cNvSpPr/>
          <p:nvPr/>
        </p:nvSpPr>
        <p:spPr>
          <a:xfrm>
            <a:off x="6634800" y="541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粗黑简体"/>
                <a:ea typeface="方正正粗黑简体"/>
              </a:rPr>
              <a:t>结婚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0"/>
          <p:cNvSpPr/>
          <p:nvPr/>
        </p:nvSpPr>
        <p:spPr>
          <a:xfrm>
            <a:off x="1667520" y="1044720"/>
            <a:ext cx="4650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晚上丈夫给妻子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留了一张纸条写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明天我有个会议早</a:t>
            </a:r>
            <a:r>
              <a:rPr b="0" lang="en-US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点叫我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1"/>
          <p:cNvSpPr/>
          <p:nvPr/>
        </p:nvSpPr>
        <p:spPr>
          <a:xfrm>
            <a:off x="8721360" y="1851120"/>
            <a:ext cx="2283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然后放在妻子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床头放心睡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92"/>
          <p:cNvSpPr/>
          <p:nvPr/>
        </p:nvSpPr>
        <p:spPr>
          <a:xfrm>
            <a:off x="8101080" y="3193920"/>
            <a:ext cx="3524040" cy="1191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8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7"/>
          <p:cNvSpPr/>
          <p:nvPr/>
        </p:nvSpPr>
        <p:spPr>
          <a:xfrm>
            <a:off x="2252520" y="4533840"/>
            <a:ext cx="478080" cy="104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41"/>
          <p:cNvSpPr/>
          <p:nvPr/>
        </p:nvSpPr>
        <p:spPr>
          <a:xfrm>
            <a:off x="2158920" y="4618080"/>
            <a:ext cx="4761000" cy="1028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42"/>
          <p:cNvSpPr/>
          <p:nvPr/>
        </p:nvSpPr>
        <p:spPr>
          <a:xfrm>
            <a:off x="1860480" y="3456000"/>
            <a:ext cx="298440" cy="219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44"/>
          <p:cNvSpPr/>
          <p:nvPr/>
        </p:nvSpPr>
        <p:spPr>
          <a:xfrm>
            <a:off x="3154320" y="3929040"/>
            <a:ext cx="4260960" cy="160164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6325608" h="2085253">
                <a:moveTo>
                  <a:pt x="455095" y="373426"/>
                </a:moveTo>
                <a:cubicBezTo>
                  <a:pt x="593818" y="398826"/>
                  <a:pt x="732541" y="424226"/>
                  <a:pt x="830233" y="396872"/>
                </a:cubicBezTo>
                <a:cubicBezTo>
                  <a:pt x="927925" y="369518"/>
                  <a:pt x="986541" y="232749"/>
                  <a:pt x="1041249" y="209303"/>
                </a:cubicBezTo>
                <a:cubicBezTo>
                  <a:pt x="1095957" y="185857"/>
                  <a:pt x="978726" y="283549"/>
                  <a:pt x="1158480" y="256195"/>
                </a:cubicBezTo>
                <a:cubicBezTo>
                  <a:pt x="1338234" y="228841"/>
                  <a:pt x="1869680" y="52995"/>
                  <a:pt x="2119772" y="45180"/>
                </a:cubicBezTo>
                <a:cubicBezTo>
                  <a:pt x="2369864" y="37365"/>
                  <a:pt x="2428479" y="181949"/>
                  <a:pt x="2659033" y="209303"/>
                </a:cubicBezTo>
                <a:cubicBezTo>
                  <a:pt x="2889587" y="236657"/>
                  <a:pt x="3284264" y="221026"/>
                  <a:pt x="3503095" y="209303"/>
                </a:cubicBezTo>
                <a:cubicBezTo>
                  <a:pt x="3721926" y="197580"/>
                  <a:pt x="3768818" y="158502"/>
                  <a:pt x="3972018" y="138964"/>
                </a:cubicBezTo>
                <a:cubicBezTo>
                  <a:pt x="4175218" y="119425"/>
                  <a:pt x="4421403" y="99887"/>
                  <a:pt x="4722295" y="92072"/>
                </a:cubicBezTo>
                <a:cubicBezTo>
                  <a:pt x="5023187" y="84257"/>
                  <a:pt x="5511649" y="-111128"/>
                  <a:pt x="5777372" y="92072"/>
                </a:cubicBezTo>
                <a:cubicBezTo>
                  <a:pt x="6043095" y="295272"/>
                  <a:pt x="6261925" y="1049457"/>
                  <a:pt x="6316633" y="1311272"/>
                </a:cubicBezTo>
                <a:cubicBezTo>
                  <a:pt x="6371341" y="1573087"/>
                  <a:pt x="6160326" y="1569179"/>
                  <a:pt x="6105618" y="1662964"/>
                </a:cubicBezTo>
                <a:cubicBezTo>
                  <a:pt x="6050910" y="1756749"/>
                  <a:pt x="6035279" y="1842719"/>
                  <a:pt x="5988387" y="1873980"/>
                </a:cubicBezTo>
                <a:cubicBezTo>
                  <a:pt x="5941495" y="1905241"/>
                  <a:pt x="5918048" y="1846625"/>
                  <a:pt x="5824264" y="1850533"/>
                </a:cubicBezTo>
                <a:cubicBezTo>
                  <a:pt x="5730480" y="1854441"/>
                  <a:pt x="5601526" y="1881795"/>
                  <a:pt x="5425680" y="1897426"/>
                </a:cubicBezTo>
                <a:cubicBezTo>
                  <a:pt x="5249834" y="1913057"/>
                  <a:pt x="5019279" y="1944318"/>
                  <a:pt x="4769187" y="1944318"/>
                </a:cubicBezTo>
                <a:cubicBezTo>
                  <a:pt x="4519095" y="1944318"/>
                  <a:pt x="4370603" y="1873980"/>
                  <a:pt x="3925126" y="1897426"/>
                </a:cubicBezTo>
                <a:cubicBezTo>
                  <a:pt x="3479649" y="1920872"/>
                  <a:pt x="2631680" y="2092810"/>
                  <a:pt x="2096326" y="2084995"/>
                </a:cubicBezTo>
                <a:cubicBezTo>
                  <a:pt x="1560972" y="2077180"/>
                  <a:pt x="1009988" y="1885702"/>
                  <a:pt x="713003" y="1850533"/>
                </a:cubicBezTo>
                <a:cubicBezTo>
                  <a:pt x="416018" y="1815364"/>
                  <a:pt x="412110" y="1897426"/>
                  <a:pt x="314418" y="1873980"/>
                </a:cubicBezTo>
                <a:cubicBezTo>
                  <a:pt x="216726" y="1850534"/>
                  <a:pt x="177649" y="1791919"/>
                  <a:pt x="126849" y="1709857"/>
                </a:cubicBezTo>
                <a:cubicBezTo>
                  <a:pt x="76049" y="1627795"/>
                  <a:pt x="29156" y="1463672"/>
                  <a:pt x="9618" y="1381610"/>
                </a:cubicBezTo>
                <a:cubicBezTo>
                  <a:pt x="-9920" y="1299548"/>
                  <a:pt x="5710" y="1260471"/>
                  <a:pt x="9618" y="1217487"/>
                </a:cubicBezTo>
                <a:cubicBezTo>
                  <a:pt x="13526" y="1174503"/>
                  <a:pt x="21341" y="1154965"/>
                  <a:pt x="33064" y="1123703"/>
                </a:cubicBezTo>
                <a:cubicBezTo>
                  <a:pt x="44787" y="1092442"/>
                  <a:pt x="60417" y="1061180"/>
                  <a:pt x="79956" y="1029918"/>
                </a:cubicBezTo>
                <a:cubicBezTo>
                  <a:pt x="99494" y="998656"/>
                  <a:pt x="134664" y="955672"/>
                  <a:pt x="150295" y="93613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66"/>
          <p:cNvSpPr/>
          <p:nvPr/>
        </p:nvSpPr>
        <p:spPr>
          <a:xfrm flipH="1">
            <a:off x="2842560" y="3041640"/>
            <a:ext cx="718920" cy="7207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67"/>
          <p:cNvSpPr/>
          <p:nvPr/>
        </p:nvSpPr>
        <p:spPr>
          <a:xfrm flipH="1" rot="20428200">
            <a:off x="2406240" y="3925800"/>
            <a:ext cx="779400" cy="847440"/>
          </a:xfrm>
          <a:custGeom>
            <a:avLst/>
            <a:gdLst>
              <a:gd name="textAreaLeft" fmla="*/ -360 w 779400"/>
              <a:gd name="textAreaRight" fmla="*/ 779400 w 77940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68"/>
          <p:cNvSpPr/>
          <p:nvPr/>
        </p:nvSpPr>
        <p:spPr>
          <a:xfrm flipV="1" rot="6805800">
            <a:off x="3288960" y="3817080"/>
            <a:ext cx="469800" cy="885960"/>
          </a:xfrm>
          <a:custGeom>
            <a:avLst/>
            <a:gdLst>
              <a:gd name="textAreaLeft" fmla="*/ 0 w 469800"/>
              <a:gd name="textAreaRight" fmla="*/ 470160 w 469800"/>
              <a:gd name="textAreaTop" fmla="*/ -360 h 885960"/>
              <a:gd name="textAreaBottom" fmla="*/ 885960 h 88596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23"/>
          <p:cNvSpPr/>
          <p:nvPr/>
        </p:nvSpPr>
        <p:spPr>
          <a:xfrm flipH="1">
            <a:off x="2843280" y="3808440"/>
            <a:ext cx="534960" cy="1020600"/>
          </a:xfrm>
          <a:custGeom>
            <a:avLst/>
            <a:gdLst>
              <a:gd name="textAreaLeft" fmla="*/ 360 w 534960"/>
              <a:gd name="textAreaRight" fmla="*/ 535680 w 53496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70"/>
          <p:cNvSpPr/>
          <p:nvPr/>
        </p:nvSpPr>
        <p:spPr>
          <a:xfrm>
            <a:off x="3816360" y="4390920"/>
            <a:ext cx="52200" cy="409680"/>
          </a:xfrm>
          <a:custGeom>
            <a:avLst/>
            <a:gdLst>
              <a:gd name="textAreaLeft" fmla="*/ 0 w 52200"/>
              <a:gd name="textAreaRight" fmla="*/ 52560 w 522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646096" h="4925517">
                <a:moveTo>
                  <a:pt x="0" y="0"/>
                </a:moveTo>
                <a:lnTo>
                  <a:pt x="457200" y="0"/>
                </a:lnTo>
                <a:lnTo>
                  <a:pt x="457200" y="345462"/>
                </a:lnTo>
                <a:lnTo>
                  <a:pt x="644103" y="345462"/>
                </a:lnTo>
                <a:lnTo>
                  <a:pt x="644103" y="366735"/>
                </a:lnTo>
                <a:lnTo>
                  <a:pt x="646096" y="366735"/>
                </a:lnTo>
                <a:lnTo>
                  <a:pt x="646096" y="2427244"/>
                </a:lnTo>
                <a:lnTo>
                  <a:pt x="552654" y="2427244"/>
                </a:lnTo>
                <a:lnTo>
                  <a:pt x="552654" y="599047"/>
                </a:lnTo>
                <a:lnTo>
                  <a:pt x="457200" y="599047"/>
                </a:lnTo>
                <a:lnTo>
                  <a:pt x="457200" y="2965471"/>
                </a:lnTo>
                <a:lnTo>
                  <a:pt x="409972" y="2965471"/>
                </a:lnTo>
                <a:lnTo>
                  <a:pt x="409972" y="3909980"/>
                </a:lnTo>
                <a:lnTo>
                  <a:pt x="377159" y="3909980"/>
                </a:lnTo>
                <a:lnTo>
                  <a:pt x="299852" y="4730871"/>
                </a:lnTo>
                <a:lnTo>
                  <a:pt x="259850" y="4730871"/>
                </a:lnTo>
                <a:lnTo>
                  <a:pt x="259850" y="4883512"/>
                </a:lnTo>
                <a:cubicBezTo>
                  <a:pt x="259850" y="4906711"/>
                  <a:pt x="241044" y="4925517"/>
                  <a:pt x="217845" y="4925517"/>
                </a:cubicBezTo>
                <a:cubicBezTo>
                  <a:pt x="194646" y="4925517"/>
                  <a:pt x="175840" y="4906711"/>
                  <a:pt x="175840" y="4883512"/>
                </a:cubicBezTo>
                <a:lnTo>
                  <a:pt x="175840" y="4730871"/>
                </a:lnTo>
                <a:lnTo>
                  <a:pt x="144848" y="4730871"/>
                </a:lnTo>
                <a:lnTo>
                  <a:pt x="67540" y="3909980"/>
                </a:lnTo>
                <a:lnTo>
                  <a:pt x="47228" y="3909980"/>
                </a:lnTo>
                <a:lnTo>
                  <a:pt x="47228" y="2965471"/>
                </a:lnTo>
                <a:lnTo>
                  <a:pt x="0" y="2965471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同心圆 4"/>
          <p:cNvSpPr/>
          <p:nvPr/>
        </p:nvSpPr>
        <p:spPr>
          <a:xfrm>
            <a:off x="4021200" y="434880"/>
            <a:ext cx="1774800" cy="1773360"/>
          </a:xfrm>
          <a:custGeom>
            <a:avLst/>
            <a:gdLst>
              <a:gd name="textAreaLeft" fmla="*/ 259920 w 1774800"/>
              <a:gd name="textAreaRight" fmla="*/ 1514880 w 1774800"/>
              <a:gd name="textAreaTop" fmla="*/ 259560 h 1773360"/>
              <a:gd name="textAreaBottom" fmla="*/ 1513800 h 177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50" y="10800"/>
                </a:moveTo>
                <a:cubicBezTo>
                  <a:pt x="1250" y="16074"/>
                  <a:pt x="5526" y="20350"/>
                  <a:pt x="10800" y="20350"/>
                </a:cubicBezTo>
                <a:cubicBezTo>
                  <a:pt x="16074" y="20350"/>
                  <a:pt x="20350" y="16074"/>
                  <a:pt x="20350" y="10800"/>
                </a:cubicBezTo>
                <a:cubicBezTo>
                  <a:pt x="20350" y="5526"/>
                  <a:pt x="16074" y="1250"/>
                  <a:pt x="10800" y="1250"/>
                </a:cubicBezTo>
                <a:cubicBezTo>
                  <a:pt x="5526" y="1250"/>
                  <a:pt x="1250" y="5526"/>
                  <a:pt x="1250" y="10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5"/>
          <p:cNvSpPr/>
          <p:nvPr/>
        </p:nvSpPr>
        <p:spPr>
          <a:xfrm rot="2727600">
            <a:off x="4711680" y="1145880"/>
            <a:ext cx="131760" cy="614160"/>
          </a:xfrm>
          <a:custGeom>
            <a:avLst/>
            <a:gdLst>
              <a:gd name="textAreaLeft" fmla="*/ 19080 w 131760"/>
              <a:gd name="textAreaRight" fmla="*/ 112680 w 131760"/>
              <a:gd name="textAreaTop" fmla="*/ 19080 h 614160"/>
              <a:gd name="textAreaBottom" fmla="*/ 595080 h 614160"/>
            </a:gdLst>
            <a:ahLst/>
            <a:rect l="textAreaLeft" t="textAreaTop" r="textAreaRight" b="textAreaBottom"/>
            <a:pathLst>
              <a:path w="21600" h="100466">
                <a:moveTo>
                  <a:pt x="10800" y="0"/>
                </a:moveTo>
                <a:arcTo wR="10800" hR="10800" stAng="16200000" swAng="-5400000"/>
                <a:lnTo>
                  <a:pt x="0" y="89666"/>
                </a:lnTo>
                <a:arcTo wR="10800" hR="10800" stAng="10800000" swAng="-5400000"/>
                <a:lnTo>
                  <a:pt x="10800" y="100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71"/>
          <p:cNvSpPr/>
          <p:nvPr/>
        </p:nvSpPr>
        <p:spPr>
          <a:xfrm>
            <a:off x="4843440" y="601560"/>
            <a:ext cx="108000" cy="935280"/>
          </a:xfrm>
          <a:custGeom>
            <a:avLst/>
            <a:gdLst>
              <a:gd name="textAreaLeft" fmla="*/ 15840 w 108000"/>
              <a:gd name="textAreaRight" fmla="*/ 92160 w 108000"/>
              <a:gd name="textAreaTop" fmla="*/ 15840 h 935280"/>
              <a:gd name="textAreaBottom" fmla="*/ 919440 h 935280"/>
            </a:gdLst>
            <a:ahLst/>
            <a:rect l="textAreaLeft" t="textAreaTop" r="textAreaRight" b="textAreaBottom"/>
            <a:pathLst>
              <a:path w="21600" h="186506">
                <a:moveTo>
                  <a:pt x="10800" y="0"/>
                </a:moveTo>
                <a:arcTo wR="10800" hR="10800" stAng="16200000" swAng="-5400000"/>
                <a:lnTo>
                  <a:pt x="0" y="175706"/>
                </a:lnTo>
                <a:arcTo wR="10800" hR="10800" stAng="10800000" swAng="-5400000"/>
                <a:lnTo>
                  <a:pt x="10800" y="1865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2"/>
          <p:cNvSpPr/>
          <p:nvPr/>
        </p:nvSpPr>
        <p:spPr>
          <a:xfrm>
            <a:off x="6960960" y="919080"/>
            <a:ext cx="25430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到第二天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丈夫醒来一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已经    点钟了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7198920" y="22096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692000" y="3271680"/>
            <a:ext cx="1804680" cy="2491920"/>
            <a:chOff x="1692000" y="3271680"/>
            <a:chExt cx="1804680" cy="2491920"/>
          </a:xfrm>
        </p:grpSpPr>
        <p:sp>
          <p:nvSpPr>
            <p:cNvPr id="282" name="椭圆 4"/>
            <p:cNvSpPr/>
            <p:nvPr/>
          </p:nvSpPr>
          <p:spPr>
            <a:xfrm flipH="1">
              <a:off x="2353680" y="3271680"/>
              <a:ext cx="717120" cy="716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"/>
            <p:cNvSpPr/>
            <p:nvPr/>
          </p:nvSpPr>
          <p:spPr>
            <a:xfrm flipH="1" rot="20428200">
              <a:off x="1887840" y="4098240"/>
              <a:ext cx="774720" cy="843480"/>
            </a:xfrm>
            <a:custGeom>
              <a:avLst/>
              <a:gdLst>
                <a:gd name="textAreaLeft" fmla="*/ 360 w 774720"/>
                <a:gd name="textAreaRight" fmla="*/ 775440 w 77472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6"/>
            <p:cNvSpPr/>
            <p:nvPr/>
          </p:nvSpPr>
          <p:spPr>
            <a:xfrm rot="1465800">
              <a:off x="2273040" y="4594680"/>
              <a:ext cx="904320" cy="1027800"/>
            </a:xfrm>
            <a:custGeom>
              <a:avLst/>
              <a:gdLst>
                <a:gd name="textAreaLeft" fmla="*/ 0 w 904320"/>
                <a:gd name="textAreaRight" fmla="*/ 904680 w 904320"/>
                <a:gd name="textAreaTop" fmla="*/ 0 h 1027800"/>
                <a:gd name="textAreaBottom" fmla="*/ 1028160 h 1027800"/>
              </a:gdLst>
              <a:ahLst/>
              <a:rect l="textAreaLeft" t="textAreaTop" r="textAreaRight" b="textAreaBottom"/>
              <a:pathLst>
                <a:path w="1674503" h="1904878">
                  <a:moveTo>
                    <a:pt x="58579" y="0"/>
                  </a:moveTo>
                  <a:lnTo>
                    <a:pt x="0" y="355313"/>
                  </a:lnTo>
                  <a:cubicBezTo>
                    <a:pt x="70574" y="416195"/>
                    <a:pt x="185888" y="668939"/>
                    <a:pt x="256462" y="729821"/>
                  </a:cubicBezTo>
                  <a:cubicBezTo>
                    <a:pt x="456432" y="874212"/>
                    <a:pt x="1154036" y="827239"/>
                    <a:pt x="1357518" y="1013968"/>
                  </a:cubicBezTo>
                  <a:cubicBezTo>
                    <a:pt x="1561000" y="1200697"/>
                    <a:pt x="1466562" y="1637216"/>
                    <a:pt x="1477356" y="1850195"/>
                  </a:cubicBezTo>
                  <a:lnTo>
                    <a:pt x="1478877" y="1867785"/>
                  </a:lnTo>
                  <a:lnTo>
                    <a:pt x="1665741" y="1904878"/>
                  </a:lnTo>
                  <a:cubicBezTo>
                    <a:pt x="1665963" y="1891593"/>
                    <a:pt x="1666186" y="1878307"/>
                    <a:pt x="1666408" y="1865022"/>
                  </a:cubicBezTo>
                  <a:cubicBezTo>
                    <a:pt x="1673244" y="1634650"/>
                    <a:pt x="1718487" y="1166955"/>
                    <a:pt x="1488679" y="884355"/>
                  </a:cubicBezTo>
                  <a:cubicBezTo>
                    <a:pt x="1226041" y="561384"/>
                    <a:pt x="309079" y="164856"/>
                    <a:pt x="90914" y="10163"/>
                  </a:cubicBezTo>
                  <a:lnTo>
                    <a:pt x="5857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7"/>
            <p:cNvSpPr/>
            <p:nvPr/>
          </p:nvSpPr>
          <p:spPr>
            <a:xfrm flipV="1" rot="6805800">
              <a:off x="2766600" y="3991320"/>
              <a:ext cx="467280" cy="87912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360 h 879120"/>
                <a:gd name="textAreaBottom" fmla="*/ 879840 h 879120"/>
              </a:gdLst>
              <a:ahLst/>
              <a:rect l="textAreaLeft" t="textAreaTop" r="textAreaRight" b="textAreaBottom"/>
              <a:pathLst>
                <a:path w="1394634" h="1628614">
                  <a:moveTo>
                    <a:pt x="0" y="0"/>
                  </a:moveTo>
                  <a:lnTo>
                    <a:pt x="32335" y="10163"/>
                  </a:lnTo>
                  <a:cubicBezTo>
                    <a:pt x="922286" y="337660"/>
                    <a:pt x="1319117" y="586682"/>
                    <a:pt x="1394634" y="1588740"/>
                  </a:cubicBezTo>
                  <a:cubicBezTo>
                    <a:pt x="1289203" y="1596686"/>
                    <a:pt x="1371125" y="1620668"/>
                    <a:pt x="1265694" y="1628614"/>
                  </a:cubicBezTo>
                  <a:cubicBezTo>
                    <a:pt x="1205280" y="826974"/>
                    <a:pt x="791967" y="714521"/>
                    <a:pt x="112687" y="388246"/>
                  </a:cubicBezTo>
                  <a:lnTo>
                    <a:pt x="11290" y="279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 23"/>
            <p:cNvSpPr/>
            <p:nvPr/>
          </p:nvSpPr>
          <p:spPr>
            <a:xfrm flipH="1">
              <a:off x="2322000" y="3981240"/>
              <a:ext cx="534240" cy="101412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26792" h="1879302">
                  <a:moveTo>
                    <a:pt x="0" y="460200"/>
                  </a:moveTo>
                  <a:cubicBezTo>
                    <a:pt x="0" y="206039"/>
                    <a:pt x="206039" y="0"/>
                    <a:pt x="460200" y="0"/>
                  </a:cubicBezTo>
                  <a:lnTo>
                    <a:pt x="460200" y="0"/>
                  </a:lnTo>
                  <a:cubicBezTo>
                    <a:pt x="714361" y="0"/>
                    <a:pt x="920400" y="206039"/>
                    <a:pt x="920400" y="460200"/>
                  </a:cubicBezTo>
                  <a:cubicBezTo>
                    <a:pt x="920400" y="779834"/>
                    <a:pt x="934783" y="1232984"/>
                    <a:pt x="920399" y="1419102"/>
                  </a:cubicBezTo>
                  <a:cubicBezTo>
                    <a:pt x="906015" y="1605220"/>
                    <a:pt x="910797" y="1500206"/>
                    <a:pt x="834097" y="1576906"/>
                  </a:cubicBezTo>
                  <a:cubicBezTo>
                    <a:pt x="757397" y="1653606"/>
                    <a:pt x="530560" y="1828903"/>
                    <a:pt x="460199" y="1879302"/>
                  </a:cubicBezTo>
                  <a:lnTo>
                    <a:pt x="460200" y="1879301"/>
                  </a:lnTo>
                  <a:cubicBezTo>
                    <a:pt x="206039" y="1879301"/>
                    <a:pt x="25758" y="1802051"/>
                    <a:pt x="25758" y="1547890"/>
                  </a:cubicBezTo>
                  <a:cubicBezTo>
                    <a:pt x="25758" y="1228256"/>
                    <a:pt x="0" y="779834"/>
                    <a:pt x="0" y="46020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9"/>
            <p:cNvSpPr/>
            <p:nvPr/>
          </p:nvSpPr>
          <p:spPr>
            <a:xfrm rot="2967600">
              <a:off x="1929600" y="4560120"/>
              <a:ext cx="903600" cy="104184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1041840"/>
                <a:gd name="textAreaBottom" fmla="*/ 1042200 h 1041840"/>
              </a:gdLst>
              <a:ahLst/>
              <a:rect l="textAreaLeft" t="textAreaTop" r="textAreaRight" b="textAreaBottom"/>
              <a:pathLst>
                <a:path w="1674503" h="1928834">
                  <a:moveTo>
                    <a:pt x="248533" y="0"/>
                  </a:moveTo>
                  <a:lnTo>
                    <a:pt x="0" y="379269"/>
                  </a:lnTo>
                  <a:cubicBezTo>
                    <a:pt x="70574" y="440151"/>
                    <a:pt x="301868" y="570704"/>
                    <a:pt x="372442" y="631586"/>
                  </a:cubicBezTo>
                  <a:cubicBezTo>
                    <a:pt x="572412" y="775977"/>
                    <a:pt x="1173366" y="830830"/>
                    <a:pt x="1357518" y="1037924"/>
                  </a:cubicBezTo>
                  <a:cubicBezTo>
                    <a:pt x="1541670" y="1245018"/>
                    <a:pt x="1466562" y="1661172"/>
                    <a:pt x="1477356" y="1874151"/>
                  </a:cubicBezTo>
                  <a:lnTo>
                    <a:pt x="1478877" y="1891741"/>
                  </a:lnTo>
                  <a:lnTo>
                    <a:pt x="1665741" y="1928834"/>
                  </a:lnTo>
                  <a:cubicBezTo>
                    <a:pt x="1665963" y="1915549"/>
                    <a:pt x="1666186" y="1902263"/>
                    <a:pt x="1666408" y="1888978"/>
                  </a:cubicBezTo>
                  <a:cubicBezTo>
                    <a:pt x="1673244" y="1658606"/>
                    <a:pt x="1718487" y="1190911"/>
                    <a:pt x="1488679" y="908311"/>
                  </a:cubicBezTo>
                  <a:cubicBezTo>
                    <a:pt x="1315074" y="642384"/>
                    <a:pt x="934492" y="369184"/>
                    <a:pt x="701531" y="223485"/>
                  </a:cubicBezTo>
                  <a:cubicBezTo>
                    <a:pt x="468570" y="77786"/>
                    <a:pt x="153621" y="83021"/>
                    <a:pt x="90914" y="34119"/>
                  </a:cubicBezTo>
                  <a:lnTo>
                    <a:pt x="24853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任意多边形 10"/>
          <p:cNvSpPr/>
          <p:nvPr/>
        </p:nvSpPr>
        <p:spPr>
          <a:xfrm flipH="1" rot="571200">
            <a:off x="6291360" y="1450440"/>
            <a:ext cx="511200" cy="557280"/>
          </a:xfrm>
          <a:custGeom>
            <a:avLst/>
            <a:gdLst>
              <a:gd name="textAreaLeft" fmla="*/ 360 w 511200"/>
              <a:gd name="textAreaRight" fmla="*/ 511920 w 5112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1"/>
          <p:cNvSpPr/>
          <p:nvPr/>
        </p:nvSpPr>
        <p:spPr>
          <a:xfrm rot="19540800">
            <a:off x="6260760" y="1112400"/>
            <a:ext cx="588960" cy="641520"/>
          </a:xfrm>
          <a:custGeom>
            <a:avLst/>
            <a:gdLst>
              <a:gd name="textAreaLeft" fmla="*/ 0 w 588960"/>
              <a:gd name="textAreaRight" fmla="*/ 589320 w 58896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2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13"/>
          <p:cNvSpPr/>
          <p:nvPr/>
        </p:nvSpPr>
        <p:spPr>
          <a:xfrm flipH="1">
            <a:off x="5910120" y="668160"/>
            <a:ext cx="635040" cy="636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14"/>
          <p:cNvSpPr/>
          <p:nvPr/>
        </p:nvSpPr>
        <p:spPr>
          <a:xfrm flipH="1">
            <a:off x="6462720" y="1008000"/>
            <a:ext cx="527040" cy="527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15"/>
          <p:cNvSpPr/>
          <p:nvPr/>
        </p:nvSpPr>
        <p:spPr>
          <a:xfrm>
            <a:off x="5830920" y="1297080"/>
            <a:ext cx="806400" cy="1074600"/>
          </a:xfrm>
          <a:custGeom>
            <a:avLst/>
            <a:gdLst>
              <a:gd name="textAreaLeft" fmla="*/ 0 w 806400"/>
              <a:gd name="textAreaRight" fmla="*/ 806760 w 80640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2015264" h="1539400">
                <a:moveTo>
                  <a:pt x="1007632" y="0"/>
                </a:moveTo>
                <a:cubicBezTo>
                  <a:pt x="1501691" y="0"/>
                  <a:pt x="1913899" y="630345"/>
                  <a:pt x="2009231" y="1468303"/>
                </a:cubicBezTo>
                <a:lnTo>
                  <a:pt x="2015264" y="1539400"/>
                </a:lnTo>
                <a:lnTo>
                  <a:pt x="0" y="1539400"/>
                </a:lnTo>
                <a:lnTo>
                  <a:pt x="6033" y="1468303"/>
                </a:lnTo>
                <a:cubicBezTo>
                  <a:pt x="101365" y="630345"/>
                  <a:pt x="513573" y="0"/>
                  <a:pt x="1007632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16"/>
          <p:cNvSpPr/>
          <p:nvPr/>
        </p:nvSpPr>
        <p:spPr>
          <a:xfrm>
            <a:off x="6478560" y="1514520"/>
            <a:ext cx="644400" cy="857160"/>
          </a:xfrm>
          <a:custGeom>
            <a:avLst/>
            <a:gdLst>
              <a:gd name="textAreaLeft" fmla="*/ 0 w 644400"/>
              <a:gd name="textAreaRight" fmla="*/ 644760 w 6444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015264" h="1539400">
                <a:moveTo>
                  <a:pt x="1007632" y="0"/>
                </a:moveTo>
                <a:cubicBezTo>
                  <a:pt x="1501691" y="0"/>
                  <a:pt x="1913899" y="630345"/>
                  <a:pt x="2009231" y="1468303"/>
                </a:cubicBezTo>
                <a:lnTo>
                  <a:pt x="2015264" y="1539400"/>
                </a:lnTo>
                <a:lnTo>
                  <a:pt x="0" y="1539400"/>
                </a:lnTo>
                <a:lnTo>
                  <a:pt x="6033" y="1468303"/>
                </a:lnTo>
                <a:cubicBezTo>
                  <a:pt x="101365" y="630345"/>
                  <a:pt x="513573" y="0"/>
                  <a:pt x="1007632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17"/>
          <p:cNvSpPr/>
          <p:nvPr/>
        </p:nvSpPr>
        <p:spPr>
          <a:xfrm flipH="1" rot="20952600">
            <a:off x="5662080" y="1363680"/>
            <a:ext cx="587520" cy="639360"/>
          </a:xfrm>
          <a:custGeom>
            <a:avLst/>
            <a:gdLst>
              <a:gd name="textAreaLeft" fmla="*/ 0 w 587520"/>
              <a:gd name="textAreaRight" fmla="*/ 587520 w 587520"/>
              <a:gd name="textAreaTop" fmla="*/ 0 h 639360"/>
              <a:gd name="textAreaBottom" fmla="*/ 639720 h 63936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18"/>
          <p:cNvSpPr/>
          <p:nvPr/>
        </p:nvSpPr>
        <p:spPr>
          <a:xfrm rot="1038000">
            <a:off x="6737040" y="1577520"/>
            <a:ext cx="512640" cy="557280"/>
          </a:xfrm>
          <a:custGeom>
            <a:avLst/>
            <a:gdLst>
              <a:gd name="textAreaLeft" fmla="*/ 0 w 512640"/>
              <a:gd name="textAreaRight" fmla="*/ 513000 w 512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4"/>
          <p:cNvSpPr/>
          <p:nvPr/>
        </p:nvSpPr>
        <p:spPr>
          <a:xfrm flipH="1">
            <a:off x="4995720" y="4618080"/>
            <a:ext cx="4762800" cy="1028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25"/>
          <p:cNvSpPr/>
          <p:nvPr/>
        </p:nvSpPr>
        <p:spPr>
          <a:xfrm flipH="1">
            <a:off x="9758520" y="3456000"/>
            <a:ext cx="295200" cy="219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37"/>
          <p:cNvSpPr/>
          <p:nvPr/>
        </p:nvSpPr>
        <p:spPr>
          <a:xfrm>
            <a:off x="5472000" y="425520"/>
            <a:ext cx="1943280" cy="1939680"/>
          </a:xfrm>
          <a:prstGeom prst="rect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8"/>
          <p:cNvSpPr/>
          <p:nvPr/>
        </p:nvSpPr>
        <p:spPr>
          <a:xfrm>
            <a:off x="6634800" y="541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粗黑简体"/>
                <a:ea typeface="方正正粗黑简体"/>
              </a:rPr>
              <a:t>结婚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2"/>
          <p:cNvGrpSpPr/>
          <p:nvPr/>
        </p:nvGrpSpPr>
        <p:grpSpPr>
          <a:xfrm>
            <a:off x="8826480" y="4154400"/>
            <a:ext cx="901800" cy="463680"/>
            <a:chOff x="8826480" y="4154400"/>
            <a:chExt cx="901800" cy="463680"/>
          </a:xfrm>
        </p:grpSpPr>
        <p:sp>
          <p:nvSpPr>
            <p:cNvPr id="302" name="圆角矩形 39"/>
            <p:cNvSpPr/>
            <p:nvPr/>
          </p:nvSpPr>
          <p:spPr>
            <a:xfrm>
              <a:off x="8826480" y="4154400"/>
              <a:ext cx="901800" cy="2286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圆角矩形 40"/>
            <p:cNvSpPr/>
            <p:nvPr/>
          </p:nvSpPr>
          <p:spPr>
            <a:xfrm>
              <a:off x="8826480" y="4389480"/>
              <a:ext cx="901800" cy="2286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圆角矩形 42"/>
            <p:cNvSpPr/>
            <p:nvPr/>
          </p:nvSpPr>
          <p:spPr>
            <a:xfrm>
              <a:off x="9618120" y="4164480"/>
              <a:ext cx="110160" cy="447120"/>
            </a:xfrm>
            <a:custGeom>
              <a:avLst/>
              <a:gdLst>
                <a:gd name="textAreaLeft" fmla="*/ 14400 w 110160"/>
                <a:gd name="textAreaRight" fmla="*/ 95760 w 110160"/>
                <a:gd name="textAreaTop" fmla="*/ 14400 h 447120"/>
                <a:gd name="textAreaBottom" fmla="*/ 432720 h 447120"/>
              </a:gdLst>
              <a:ahLst/>
              <a:rect l="textAreaLeft" t="textAreaTop" r="textAreaRight" b="textAreaBottom"/>
              <a:pathLst>
                <a:path w="21600" h="87455">
                  <a:moveTo>
                    <a:pt x="9757" y="0"/>
                  </a:moveTo>
                  <a:arcTo wR="9757" hR="9757" stAng="16200000" swAng="-5400000"/>
                  <a:lnTo>
                    <a:pt x="0" y="77698"/>
                  </a:lnTo>
                  <a:arcTo wR="9757" hR="9757" stAng="10800000" swAng="-5400000"/>
                  <a:lnTo>
                    <a:pt x="11843" y="87455"/>
                  </a:lnTo>
                  <a:arcTo wR="9757" hR="9757" stAng="5400000" swAng="-5400000"/>
                  <a:lnTo>
                    <a:pt x="21600" y="9757"/>
                  </a:lnTo>
                  <a:arcTo wR="9757" hR="9757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矩形 44"/>
          <p:cNvSpPr/>
          <p:nvPr/>
        </p:nvSpPr>
        <p:spPr>
          <a:xfrm>
            <a:off x="8883720" y="4284720"/>
            <a:ext cx="788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45"/>
          <p:cNvSpPr/>
          <p:nvPr/>
        </p:nvSpPr>
        <p:spPr>
          <a:xfrm>
            <a:off x="8894880" y="4479840"/>
            <a:ext cx="7887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6"/>
          <p:cNvSpPr/>
          <p:nvPr/>
        </p:nvSpPr>
        <p:spPr>
          <a:xfrm>
            <a:off x="2278440" y="1860480"/>
            <a:ext cx="26344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他非常气愤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想跑去质问妻子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47"/>
          <p:cNvSpPr/>
          <p:nvPr/>
        </p:nvSpPr>
        <p:spPr>
          <a:xfrm>
            <a:off x="4487400" y="3189240"/>
            <a:ext cx="4036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但发现妻子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已经不在家了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8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37"/>
          <p:cNvSpPr/>
          <p:nvPr/>
        </p:nvSpPr>
        <p:spPr>
          <a:xfrm>
            <a:off x="5554800" y="4533840"/>
            <a:ext cx="482400" cy="104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41"/>
          <p:cNvSpPr/>
          <p:nvPr/>
        </p:nvSpPr>
        <p:spPr>
          <a:xfrm>
            <a:off x="5462640" y="4618080"/>
            <a:ext cx="4762440" cy="1028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5167440" y="3456000"/>
            <a:ext cx="295200" cy="219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44"/>
          <p:cNvSpPr/>
          <p:nvPr/>
        </p:nvSpPr>
        <p:spPr>
          <a:xfrm>
            <a:off x="5462640" y="4403880"/>
            <a:ext cx="5254560" cy="1126800"/>
          </a:xfrm>
          <a:custGeom>
            <a:avLst/>
            <a:gdLst>
              <a:gd name="textAreaLeft" fmla="*/ 0 w 5254560"/>
              <a:gd name="textAreaRight" fmla="*/ 5254920 w 5254560"/>
              <a:gd name="textAreaTop" fmla="*/ 0 h 1126800"/>
              <a:gd name="textAreaBottom" fmla="*/ 1127160 h 1126800"/>
            </a:gdLst>
            <a:ahLst/>
            <a:rect l="textAreaLeft" t="textAreaTop" r="textAreaRight" b="textAreaBottom"/>
            <a:pathLst>
              <a:path w="6325608" h="2085253">
                <a:moveTo>
                  <a:pt x="455095" y="373426"/>
                </a:moveTo>
                <a:cubicBezTo>
                  <a:pt x="593818" y="398826"/>
                  <a:pt x="732541" y="424226"/>
                  <a:pt x="830233" y="396872"/>
                </a:cubicBezTo>
                <a:cubicBezTo>
                  <a:pt x="927925" y="369518"/>
                  <a:pt x="986541" y="232749"/>
                  <a:pt x="1041249" y="209303"/>
                </a:cubicBezTo>
                <a:cubicBezTo>
                  <a:pt x="1095957" y="185857"/>
                  <a:pt x="978726" y="283549"/>
                  <a:pt x="1158480" y="256195"/>
                </a:cubicBezTo>
                <a:cubicBezTo>
                  <a:pt x="1338234" y="228841"/>
                  <a:pt x="1869680" y="52995"/>
                  <a:pt x="2119772" y="45180"/>
                </a:cubicBezTo>
                <a:cubicBezTo>
                  <a:pt x="2369864" y="37365"/>
                  <a:pt x="2428479" y="181949"/>
                  <a:pt x="2659033" y="209303"/>
                </a:cubicBezTo>
                <a:cubicBezTo>
                  <a:pt x="2889587" y="236657"/>
                  <a:pt x="3284264" y="221026"/>
                  <a:pt x="3503095" y="209303"/>
                </a:cubicBezTo>
                <a:cubicBezTo>
                  <a:pt x="3721926" y="197580"/>
                  <a:pt x="3768818" y="158502"/>
                  <a:pt x="3972018" y="138964"/>
                </a:cubicBezTo>
                <a:cubicBezTo>
                  <a:pt x="4175218" y="119425"/>
                  <a:pt x="4421403" y="99887"/>
                  <a:pt x="4722295" y="92072"/>
                </a:cubicBezTo>
                <a:cubicBezTo>
                  <a:pt x="5023187" y="84257"/>
                  <a:pt x="5511649" y="-111128"/>
                  <a:pt x="5777372" y="92072"/>
                </a:cubicBezTo>
                <a:cubicBezTo>
                  <a:pt x="6043095" y="295272"/>
                  <a:pt x="6261925" y="1049457"/>
                  <a:pt x="6316633" y="1311272"/>
                </a:cubicBezTo>
                <a:cubicBezTo>
                  <a:pt x="6371341" y="1573087"/>
                  <a:pt x="6160326" y="1569179"/>
                  <a:pt x="6105618" y="1662964"/>
                </a:cubicBezTo>
                <a:cubicBezTo>
                  <a:pt x="6050910" y="1756749"/>
                  <a:pt x="6035279" y="1842719"/>
                  <a:pt x="5988387" y="1873980"/>
                </a:cubicBezTo>
                <a:cubicBezTo>
                  <a:pt x="5941495" y="1905241"/>
                  <a:pt x="5918048" y="1846625"/>
                  <a:pt x="5824264" y="1850533"/>
                </a:cubicBezTo>
                <a:cubicBezTo>
                  <a:pt x="5730480" y="1854441"/>
                  <a:pt x="5601526" y="1881795"/>
                  <a:pt x="5425680" y="1897426"/>
                </a:cubicBezTo>
                <a:cubicBezTo>
                  <a:pt x="5249834" y="1913057"/>
                  <a:pt x="5019279" y="1944318"/>
                  <a:pt x="4769187" y="1944318"/>
                </a:cubicBezTo>
                <a:cubicBezTo>
                  <a:pt x="4519095" y="1944318"/>
                  <a:pt x="4370603" y="1873980"/>
                  <a:pt x="3925126" y="1897426"/>
                </a:cubicBezTo>
                <a:cubicBezTo>
                  <a:pt x="3479649" y="1920872"/>
                  <a:pt x="2631680" y="2092810"/>
                  <a:pt x="2096326" y="2084995"/>
                </a:cubicBezTo>
                <a:cubicBezTo>
                  <a:pt x="1560972" y="2077180"/>
                  <a:pt x="1009988" y="1885702"/>
                  <a:pt x="713003" y="1850533"/>
                </a:cubicBezTo>
                <a:cubicBezTo>
                  <a:pt x="416018" y="1815364"/>
                  <a:pt x="412110" y="1897426"/>
                  <a:pt x="314418" y="1873980"/>
                </a:cubicBezTo>
                <a:cubicBezTo>
                  <a:pt x="216726" y="1850534"/>
                  <a:pt x="177649" y="1791919"/>
                  <a:pt x="126849" y="1709857"/>
                </a:cubicBezTo>
                <a:cubicBezTo>
                  <a:pt x="76049" y="1627795"/>
                  <a:pt x="29156" y="1463672"/>
                  <a:pt x="9618" y="1381610"/>
                </a:cubicBezTo>
                <a:cubicBezTo>
                  <a:pt x="-9920" y="1299548"/>
                  <a:pt x="5710" y="1260471"/>
                  <a:pt x="9618" y="1217487"/>
                </a:cubicBezTo>
                <a:cubicBezTo>
                  <a:pt x="13526" y="1174503"/>
                  <a:pt x="21341" y="1154965"/>
                  <a:pt x="33064" y="1123703"/>
                </a:cubicBezTo>
                <a:cubicBezTo>
                  <a:pt x="44787" y="1092442"/>
                  <a:pt x="60417" y="1061180"/>
                  <a:pt x="79956" y="1029918"/>
                </a:cubicBezTo>
                <a:cubicBezTo>
                  <a:pt x="99494" y="998656"/>
                  <a:pt x="134664" y="955672"/>
                  <a:pt x="150295" y="93613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同心圆 4"/>
          <p:cNvSpPr/>
          <p:nvPr/>
        </p:nvSpPr>
        <p:spPr>
          <a:xfrm>
            <a:off x="7326360" y="434880"/>
            <a:ext cx="1773360" cy="1773360"/>
          </a:xfrm>
          <a:custGeom>
            <a:avLst/>
            <a:gdLst>
              <a:gd name="textAreaLeft" fmla="*/ 259560 w 1773360"/>
              <a:gd name="textAreaRight" fmla="*/ 1513800 w 1773360"/>
              <a:gd name="textAreaTop" fmla="*/ 259560 h 1773360"/>
              <a:gd name="textAreaBottom" fmla="*/ 1513800 h 177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50" y="10800"/>
                </a:moveTo>
                <a:cubicBezTo>
                  <a:pt x="1250" y="16074"/>
                  <a:pt x="5526" y="20350"/>
                  <a:pt x="10800" y="20350"/>
                </a:cubicBezTo>
                <a:cubicBezTo>
                  <a:pt x="16074" y="20350"/>
                  <a:pt x="20350" y="16074"/>
                  <a:pt x="20350" y="10800"/>
                </a:cubicBezTo>
                <a:cubicBezTo>
                  <a:pt x="20350" y="5526"/>
                  <a:pt x="16074" y="1250"/>
                  <a:pt x="10800" y="1250"/>
                </a:cubicBezTo>
                <a:cubicBezTo>
                  <a:pt x="5526" y="1250"/>
                  <a:pt x="1250" y="5526"/>
                  <a:pt x="1250" y="10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5"/>
          <p:cNvSpPr/>
          <p:nvPr/>
        </p:nvSpPr>
        <p:spPr>
          <a:xfrm rot="2727600">
            <a:off x="8016840" y="1147320"/>
            <a:ext cx="131760" cy="611280"/>
          </a:xfrm>
          <a:custGeom>
            <a:avLst/>
            <a:gdLst>
              <a:gd name="textAreaLeft" fmla="*/ 19080 w 131760"/>
              <a:gd name="textAreaRight" fmla="*/ 112680 w 131760"/>
              <a:gd name="textAreaTop" fmla="*/ 19080 h 611280"/>
              <a:gd name="textAreaBottom" fmla="*/ 592200 h 611280"/>
            </a:gdLst>
            <a:ahLst/>
            <a:rect l="textAreaLeft" t="textAreaTop" r="textAreaRight" b="textAreaBottom"/>
            <a:pathLst>
              <a:path w="21600" h="99996">
                <a:moveTo>
                  <a:pt x="10800" y="0"/>
                </a:moveTo>
                <a:arcTo wR="10800" hR="10800" stAng="16200000" swAng="-5400000"/>
                <a:lnTo>
                  <a:pt x="0" y="89196"/>
                </a:lnTo>
                <a:arcTo wR="10800" hR="10800" stAng="10800000" swAng="-5400000"/>
                <a:lnTo>
                  <a:pt x="10800" y="999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71"/>
          <p:cNvSpPr/>
          <p:nvPr/>
        </p:nvSpPr>
        <p:spPr>
          <a:xfrm rot="3725400">
            <a:off x="8362080" y="735480"/>
            <a:ext cx="108000" cy="935280"/>
          </a:xfrm>
          <a:custGeom>
            <a:avLst/>
            <a:gdLst>
              <a:gd name="textAreaLeft" fmla="*/ 15840 w 108000"/>
              <a:gd name="textAreaRight" fmla="*/ 92160 w 108000"/>
              <a:gd name="textAreaTop" fmla="*/ 15840 h 935280"/>
              <a:gd name="textAreaBottom" fmla="*/ 919440 h 935280"/>
            </a:gdLst>
            <a:ahLst/>
            <a:rect l="textAreaLeft" t="textAreaTop" r="textAreaRight" b="textAreaBottom"/>
            <a:pathLst>
              <a:path w="21600" h="186506">
                <a:moveTo>
                  <a:pt x="10800" y="0"/>
                </a:moveTo>
                <a:arcTo wR="10800" hR="10800" stAng="16200000" swAng="-5400000"/>
                <a:lnTo>
                  <a:pt x="0" y="175706"/>
                </a:lnTo>
                <a:arcTo wR="10800" hR="10800" stAng="10800000" swAng="-5400000"/>
                <a:lnTo>
                  <a:pt x="10800" y="1865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0"/>
          <p:cNvGrpSpPr/>
          <p:nvPr/>
        </p:nvGrpSpPr>
        <p:grpSpPr>
          <a:xfrm>
            <a:off x="6580440" y="2711520"/>
            <a:ext cx="1752480" cy="2489760"/>
            <a:chOff x="6580440" y="2711520"/>
            <a:chExt cx="1752480" cy="2489760"/>
          </a:xfrm>
        </p:grpSpPr>
        <p:sp>
          <p:nvSpPr>
            <p:cNvPr id="318" name="椭圆 15"/>
            <p:cNvSpPr/>
            <p:nvPr/>
          </p:nvSpPr>
          <p:spPr>
            <a:xfrm>
              <a:off x="6957360" y="2711520"/>
              <a:ext cx="715320" cy="7160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16"/>
            <p:cNvSpPr/>
            <p:nvPr/>
          </p:nvSpPr>
          <p:spPr>
            <a:xfrm rot="1171800">
              <a:off x="7363440" y="3537360"/>
              <a:ext cx="772560" cy="842760"/>
            </a:xfrm>
            <a:custGeom>
              <a:avLst/>
              <a:gdLst>
                <a:gd name="textAreaLeft" fmla="*/ 0 w 772560"/>
                <a:gd name="textAreaRight" fmla="*/ 772920 w 772560"/>
                <a:gd name="textAreaTop" fmla="*/ 0 h 842760"/>
                <a:gd name="textAreaBottom" fmla="*/ 843120 h 842760"/>
              </a:gdLst>
              <a:ahLst/>
              <a:rect l="textAreaLeft" t="textAreaTop" r="textAreaRight" b="textAreaBottom"/>
              <a:pathLst>
                <a:path w="1434444" h="1562448">
                  <a:moveTo>
                    <a:pt x="43119" y="0"/>
                  </a:moveTo>
                  <a:lnTo>
                    <a:pt x="75454" y="10163"/>
                  </a:lnTo>
                  <a:cubicBezTo>
                    <a:pt x="965405" y="337660"/>
                    <a:pt x="1358927" y="527118"/>
                    <a:pt x="1434444" y="1529176"/>
                  </a:cubicBezTo>
                  <a:cubicBezTo>
                    <a:pt x="1329013" y="1537122"/>
                    <a:pt x="1391238" y="1554502"/>
                    <a:pt x="1285807" y="1562448"/>
                  </a:cubicBezTo>
                  <a:cubicBezTo>
                    <a:pt x="1225393" y="760808"/>
                    <a:pt x="835086" y="714521"/>
                    <a:pt x="155806" y="388246"/>
                  </a:cubicBezTo>
                  <a:lnTo>
                    <a:pt x="0" y="322330"/>
                  </a:lnTo>
                  <a:lnTo>
                    <a:pt x="4311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17"/>
            <p:cNvSpPr/>
            <p:nvPr/>
          </p:nvSpPr>
          <p:spPr>
            <a:xfrm flipH="1" rot="20134200">
              <a:off x="6850080" y="4033440"/>
              <a:ext cx="902160" cy="1027080"/>
            </a:xfrm>
            <a:custGeom>
              <a:avLst/>
              <a:gdLst>
                <a:gd name="textAreaLeft" fmla="*/ 360 w 902160"/>
                <a:gd name="textAreaRight" fmla="*/ 902880 w 90216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674503" h="1904878">
                  <a:moveTo>
                    <a:pt x="58579" y="0"/>
                  </a:moveTo>
                  <a:lnTo>
                    <a:pt x="0" y="355313"/>
                  </a:lnTo>
                  <a:cubicBezTo>
                    <a:pt x="70574" y="416195"/>
                    <a:pt x="185888" y="668939"/>
                    <a:pt x="256462" y="729821"/>
                  </a:cubicBezTo>
                  <a:cubicBezTo>
                    <a:pt x="456432" y="874212"/>
                    <a:pt x="1154036" y="827239"/>
                    <a:pt x="1357518" y="1013968"/>
                  </a:cubicBezTo>
                  <a:cubicBezTo>
                    <a:pt x="1561000" y="1200697"/>
                    <a:pt x="1466562" y="1637216"/>
                    <a:pt x="1477356" y="1850195"/>
                  </a:cubicBezTo>
                  <a:lnTo>
                    <a:pt x="1478877" y="1867785"/>
                  </a:lnTo>
                  <a:lnTo>
                    <a:pt x="1665741" y="1904878"/>
                  </a:lnTo>
                  <a:cubicBezTo>
                    <a:pt x="1665963" y="1891593"/>
                    <a:pt x="1666186" y="1878307"/>
                    <a:pt x="1666408" y="1865022"/>
                  </a:cubicBezTo>
                  <a:cubicBezTo>
                    <a:pt x="1673244" y="1634650"/>
                    <a:pt x="1718487" y="1166955"/>
                    <a:pt x="1488679" y="884355"/>
                  </a:cubicBezTo>
                  <a:cubicBezTo>
                    <a:pt x="1226041" y="561384"/>
                    <a:pt x="309079" y="164856"/>
                    <a:pt x="90914" y="10163"/>
                  </a:cubicBezTo>
                  <a:lnTo>
                    <a:pt x="5857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18"/>
            <p:cNvSpPr/>
            <p:nvPr/>
          </p:nvSpPr>
          <p:spPr>
            <a:xfrm flipH="1" flipV="1" rot="18592200">
              <a:off x="6832800" y="3248640"/>
              <a:ext cx="466560" cy="877320"/>
            </a:xfrm>
            <a:custGeom>
              <a:avLst/>
              <a:gdLst>
                <a:gd name="textAreaLeft" fmla="*/ 360 w 466560"/>
                <a:gd name="textAreaRight" fmla="*/ 467280 w 466560"/>
                <a:gd name="textAreaTop" fmla="*/ -360 h 877320"/>
                <a:gd name="textAreaBottom" fmla="*/ 877320 h 877320"/>
              </a:gdLst>
              <a:ahLst/>
              <a:rect l="textAreaLeft" t="textAreaTop" r="textAreaRight" b="textAreaBottom"/>
              <a:pathLst>
                <a:path w="1394634" h="1628614">
                  <a:moveTo>
                    <a:pt x="0" y="0"/>
                  </a:moveTo>
                  <a:lnTo>
                    <a:pt x="32335" y="10163"/>
                  </a:lnTo>
                  <a:cubicBezTo>
                    <a:pt x="922286" y="337660"/>
                    <a:pt x="1319117" y="586682"/>
                    <a:pt x="1394634" y="1588740"/>
                  </a:cubicBezTo>
                  <a:cubicBezTo>
                    <a:pt x="1289203" y="1596686"/>
                    <a:pt x="1371125" y="1620668"/>
                    <a:pt x="1265694" y="1628614"/>
                  </a:cubicBezTo>
                  <a:cubicBezTo>
                    <a:pt x="1205280" y="826974"/>
                    <a:pt x="791967" y="714521"/>
                    <a:pt x="112687" y="388246"/>
                  </a:cubicBezTo>
                  <a:lnTo>
                    <a:pt x="11290" y="279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圆角矩形 23"/>
            <p:cNvSpPr/>
            <p:nvPr/>
          </p:nvSpPr>
          <p:spPr>
            <a:xfrm>
              <a:off x="7171200" y="3420360"/>
              <a:ext cx="532800" cy="101340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926792" h="1879302">
                  <a:moveTo>
                    <a:pt x="0" y="460200"/>
                  </a:moveTo>
                  <a:cubicBezTo>
                    <a:pt x="0" y="206039"/>
                    <a:pt x="206039" y="0"/>
                    <a:pt x="460200" y="0"/>
                  </a:cubicBezTo>
                  <a:lnTo>
                    <a:pt x="460200" y="0"/>
                  </a:lnTo>
                  <a:cubicBezTo>
                    <a:pt x="714361" y="0"/>
                    <a:pt x="920400" y="206039"/>
                    <a:pt x="920400" y="460200"/>
                  </a:cubicBezTo>
                  <a:cubicBezTo>
                    <a:pt x="920400" y="779834"/>
                    <a:pt x="934783" y="1232984"/>
                    <a:pt x="920399" y="1419102"/>
                  </a:cubicBezTo>
                  <a:cubicBezTo>
                    <a:pt x="906015" y="1605220"/>
                    <a:pt x="910797" y="1500206"/>
                    <a:pt x="834097" y="1576906"/>
                  </a:cubicBezTo>
                  <a:cubicBezTo>
                    <a:pt x="757397" y="1653606"/>
                    <a:pt x="530560" y="1828903"/>
                    <a:pt x="460199" y="1879302"/>
                  </a:cubicBezTo>
                  <a:lnTo>
                    <a:pt x="460200" y="1879301"/>
                  </a:lnTo>
                  <a:cubicBezTo>
                    <a:pt x="206039" y="1879301"/>
                    <a:pt x="25758" y="1802051"/>
                    <a:pt x="25758" y="1547890"/>
                  </a:cubicBezTo>
                  <a:cubicBezTo>
                    <a:pt x="25758" y="1228256"/>
                    <a:pt x="0" y="779834"/>
                    <a:pt x="0" y="46020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0"/>
            <p:cNvSpPr/>
            <p:nvPr/>
          </p:nvSpPr>
          <p:spPr>
            <a:xfrm flipH="1" rot="18632400">
              <a:off x="7192800" y="3999600"/>
              <a:ext cx="902880" cy="1038960"/>
            </a:xfrm>
            <a:custGeom>
              <a:avLst/>
              <a:gdLst>
                <a:gd name="textAreaLeft" fmla="*/ 360 w 902880"/>
                <a:gd name="textAreaRight" fmla="*/ 903600 w 90288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1674503" h="1928834">
                  <a:moveTo>
                    <a:pt x="248533" y="0"/>
                  </a:moveTo>
                  <a:lnTo>
                    <a:pt x="0" y="379269"/>
                  </a:lnTo>
                  <a:cubicBezTo>
                    <a:pt x="70574" y="440151"/>
                    <a:pt x="301868" y="570704"/>
                    <a:pt x="372442" y="631586"/>
                  </a:cubicBezTo>
                  <a:cubicBezTo>
                    <a:pt x="572412" y="775977"/>
                    <a:pt x="1173366" y="830830"/>
                    <a:pt x="1357518" y="1037924"/>
                  </a:cubicBezTo>
                  <a:cubicBezTo>
                    <a:pt x="1541670" y="1245018"/>
                    <a:pt x="1466562" y="1661172"/>
                    <a:pt x="1477356" y="1874151"/>
                  </a:cubicBezTo>
                  <a:lnTo>
                    <a:pt x="1478877" y="1891741"/>
                  </a:lnTo>
                  <a:lnTo>
                    <a:pt x="1665741" y="1928834"/>
                  </a:lnTo>
                  <a:cubicBezTo>
                    <a:pt x="1665963" y="1915549"/>
                    <a:pt x="1666186" y="1902263"/>
                    <a:pt x="1666408" y="1888978"/>
                  </a:cubicBezTo>
                  <a:cubicBezTo>
                    <a:pt x="1673244" y="1658606"/>
                    <a:pt x="1718487" y="1190911"/>
                    <a:pt x="1488679" y="908311"/>
                  </a:cubicBezTo>
                  <a:cubicBezTo>
                    <a:pt x="1315074" y="642384"/>
                    <a:pt x="934492" y="369184"/>
                    <a:pt x="701531" y="223485"/>
                  </a:cubicBezTo>
                  <a:cubicBezTo>
                    <a:pt x="468570" y="77786"/>
                    <a:pt x="153621" y="83021"/>
                    <a:pt x="90914" y="34119"/>
                  </a:cubicBezTo>
                  <a:lnTo>
                    <a:pt x="24853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平行四边形 21"/>
          <p:cNvSpPr/>
          <p:nvPr/>
        </p:nvSpPr>
        <p:spPr>
          <a:xfrm flipH="1" rot="14199600">
            <a:off x="6474600" y="3345840"/>
            <a:ext cx="287640" cy="437760"/>
          </a:xfrm>
          <a:prstGeom prst="parallelogram">
            <a:avLst>
              <a:gd name="adj" fmla="val 25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2"/>
          <p:cNvSpPr/>
          <p:nvPr/>
        </p:nvSpPr>
        <p:spPr>
          <a:xfrm>
            <a:off x="2027160" y="1989000"/>
            <a:ext cx="368604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丈夫回到卧室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发现枕边有张纸条上写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死鬼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都</a:t>
            </a:r>
            <a:r>
              <a:rPr b="0" lang="en-US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7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点半了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还不起来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3"/>
          <p:cNvSpPr/>
          <p:nvPr/>
        </p:nvSpPr>
        <p:spPr>
          <a:xfrm>
            <a:off x="4334760" y="3765600"/>
            <a:ext cx="4402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这是两则关于       的故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希望对你有所启发和帮助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同心圆 4"/>
          <p:cNvSpPr/>
          <p:nvPr/>
        </p:nvSpPr>
        <p:spPr>
          <a:xfrm>
            <a:off x="5460840" y="685800"/>
            <a:ext cx="3048120" cy="3048120"/>
          </a:xfrm>
          <a:custGeom>
            <a:avLst/>
            <a:gdLst>
              <a:gd name="textAreaLeft" fmla="*/ 446400 w 3048120"/>
              <a:gd name="textAreaRight" fmla="*/ 2601720 w 3048120"/>
              <a:gd name="textAreaTop" fmla="*/ 446400 h 3048120"/>
              <a:gd name="textAreaBottom" fmla="*/ 26017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429" y="10800"/>
                </a:moveTo>
                <a:cubicBezTo>
                  <a:pt x="1429" y="15975"/>
                  <a:pt x="5625" y="20171"/>
                  <a:pt x="10800" y="20171"/>
                </a:cubicBezTo>
                <a:cubicBezTo>
                  <a:pt x="15975" y="20171"/>
                  <a:pt x="20171" y="15975"/>
                  <a:pt x="20171" y="10800"/>
                </a:cubicBezTo>
                <a:cubicBezTo>
                  <a:pt x="20171" y="5625"/>
                  <a:pt x="15975" y="1429"/>
                  <a:pt x="10800" y="1429"/>
                </a:cubicBezTo>
                <a:cubicBezTo>
                  <a:pt x="5625" y="1429"/>
                  <a:pt x="1429" y="5625"/>
                  <a:pt x="1429" y="10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6"/>
          <p:cNvSpPr/>
          <p:nvPr/>
        </p:nvSpPr>
        <p:spPr>
          <a:xfrm>
            <a:off x="6177240" y="1476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沟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7"/>
          <p:cNvSpPr/>
          <p:nvPr/>
        </p:nvSpPr>
        <p:spPr>
          <a:xfrm>
            <a:off x="6477120" y="3568680"/>
            <a:ext cx="990360" cy="762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椭圆 3"/>
          <p:cNvSpPr/>
          <p:nvPr/>
        </p:nvSpPr>
        <p:spPr>
          <a:xfrm>
            <a:off x="4122720" y="1411200"/>
            <a:ext cx="3546360" cy="35449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365800" y="25844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故事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3695760" y="2025720"/>
            <a:ext cx="1490760" cy="1374840"/>
            <a:chOff x="3695760" y="2025720"/>
            <a:chExt cx="1490760" cy="1374840"/>
          </a:xfrm>
        </p:grpSpPr>
        <p:sp>
          <p:nvSpPr>
            <p:cNvPr id="65" name="圆角矩形 1"/>
            <p:cNvSpPr/>
            <p:nvPr/>
          </p:nvSpPr>
          <p:spPr>
            <a:xfrm>
              <a:off x="3827520" y="2025720"/>
              <a:ext cx="1218240" cy="663480"/>
            </a:xfrm>
            <a:prstGeom prst="roundRect">
              <a:avLst>
                <a:gd name="adj" fmla="val 12088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41"/>
            <p:cNvSpPr/>
            <p:nvPr/>
          </p:nvSpPr>
          <p:spPr>
            <a:xfrm>
              <a:off x="3902760" y="2081880"/>
              <a:ext cx="1060200" cy="5349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梯形 2"/>
            <p:cNvSpPr/>
            <p:nvPr/>
          </p:nvSpPr>
          <p:spPr>
            <a:xfrm flipV="1">
              <a:off x="4089960" y="2631600"/>
              <a:ext cx="684720" cy="121320"/>
            </a:xfrm>
            <a:custGeom>
              <a:avLst/>
              <a:gdLst>
                <a:gd name="textAreaLeft" fmla="*/ 72000 w 684720"/>
                <a:gd name="textAreaRight" fmla="*/ 612720 w 684720"/>
                <a:gd name="textAreaTop" fmla="*/ 12600 h 121320"/>
                <a:gd name="textAreaBottom" fmla="*/ 108720 h 12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58" y="21600"/>
                  </a:lnTo>
                  <a:lnTo>
                    <a:pt x="2064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"/>
            <p:cNvSpPr/>
            <p:nvPr/>
          </p:nvSpPr>
          <p:spPr>
            <a:xfrm>
              <a:off x="3695760" y="2750760"/>
              <a:ext cx="1490760" cy="92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6"/>
            <p:cNvSpPr/>
            <p:nvPr/>
          </p:nvSpPr>
          <p:spPr>
            <a:xfrm>
              <a:off x="3827520" y="2834640"/>
              <a:ext cx="138600" cy="565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5"/>
            <p:cNvSpPr/>
            <p:nvPr/>
          </p:nvSpPr>
          <p:spPr>
            <a:xfrm>
              <a:off x="4956120" y="2834640"/>
              <a:ext cx="138600" cy="565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102"/>
          <p:cNvSpPr/>
          <p:nvPr/>
        </p:nvSpPr>
        <p:spPr>
          <a:xfrm>
            <a:off x="0" y="3368520"/>
            <a:ext cx="12192120" cy="3489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3"/>
          <p:cNvSpPr/>
          <p:nvPr/>
        </p:nvSpPr>
        <p:spPr>
          <a:xfrm>
            <a:off x="324000" y="2509920"/>
            <a:ext cx="398160" cy="87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"/>
          <p:cNvSpPr/>
          <p:nvPr/>
        </p:nvSpPr>
        <p:spPr>
          <a:xfrm>
            <a:off x="6311880" y="1616040"/>
            <a:ext cx="531720" cy="5302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11"/>
          <p:cNvSpPr/>
          <p:nvPr/>
        </p:nvSpPr>
        <p:spPr>
          <a:xfrm rot="21142800">
            <a:off x="6672240" y="2109600"/>
            <a:ext cx="573120" cy="625320"/>
          </a:xfrm>
          <a:custGeom>
            <a:avLst/>
            <a:gdLst>
              <a:gd name="textAreaLeft" fmla="*/ 0 w 573120"/>
              <a:gd name="textAreaRight" fmla="*/ 573480 w 5731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2"/>
          <p:cNvSpPr/>
          <p:nvPr/>
        </p:nvSpPr>
        <p:spPr>
          <a:xfrm rot="20412000">
            <a:off x="7040160" y="2631960"/>
            <a:ext cx="534960" cy="328680"/>
          </a:xfrm>
          <a:prstGeom prst="roundRect">
            <a:avLst>
              <a:gd name="adj" fmla="val 1014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25"/>
          <p:cNvSpPr/>
          <p:nvPr/>
        </p:nvSpPr>
        <p:spPr>
          <a:xfrm flipH="1" rot="20134200">
            <a:off x="6233760" y="2597040"/>
            <a:ext cx="668160" cy="762120"/>
          </a:xfrm>
          <a:custGeom>
            <a:avLst/>
            <a:gdLst>
              <a:gd name="textAreaLeft" fmla="*/ 360 w 668160"/>
              <a:gd name="textAreaRight" fmla="*/ 668880 w 668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6"/>
          <p:cNvSpPr/>
          <p:nvPr/>
        </p:nvSpPr>
        <p:spPr>
          <a:xfrm flipH="1" flipV="1" rot="15140400">
            <a:off x="6169320" y="2138040"/>
            <a:ext cx="347760" cy="650880"/>
          </a:xfrm>
          <a:custGeom>
            <a:avLst/>
            <a:gdLst>
              <a:gd name="textAreaLeft" fmla="*/ 360 w 347760"/>
              <a:gd name="textAreaRight" fmla="*/ 348480 w 347760"/>
              <a:gd name="textAreaTop" fmla="*/ 360 h 650880"/>
              <a:gd name="textAreaBottom" fmla="*/ 651600 h 65088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20"/>
          <p:cNvSpPr/>
          <p:nvPr/>
        </p:nvSpPr>
        <p:spPr>
          <a:xfrm>
            <a:off x="7162920" y="2579760"/>
            <a:ext cx="188640" cy="1904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23"/>
          <p:cNvSpPr/>
          <p:nvPr/>
        </p:nvSpPr>
        <p:spPr>
          <a:xfrm>
            <a:off x="6470640" y="2141640"/>
            <a:ext cx="398520" cy="752400"/>
          </a:xfrm>
          <a:custGeom>
            <a:avLst/>
            <a:gdLst>
              <a:gd name="textAreaLeft" fmla="*/ 0 w 398520"/>
              <a:gd name="textAreaRight" fmla="*/ 398880 w 39852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28"/>
          <p:cNvSpPr/>
          <p:nvPr/>
        </p:nvSpPr>
        <p:spPr>
          <a:xfrm flipH="1" rot="18632400">
            <a:off x="6487920" y="2571120"/>
            <a:ext cx="669960" cy="772200"/>
          </a:xfrm>
          <a:custGeom>
            <a:avLst/>
            <a:gdLst>
              <a:gd name="textAreaLeft" fmla="*/ -360 w 669960"/>
              <a:gd name="textAreaRight" fmla="*/ 669960 w 669960"/>
              <a:gd name="textAreaTop" fmla="*/ 0 h 772200"/>
              <a:gd name="textAreaBottom" fmla="*/ 772560 h 77220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2"/>
          <p:cNvSpPr/>
          <p:nvPr/>
        </p:nvSpPr>
        <p:spPr>
          <a:xfrm>
            <a:off x="5541840" y="752400"/>
            <a:ext cx="171720" cy="2697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4"/>
          <p:cNvSpPr/>
          <p:nvPr/>
        </p:nvSpPr>
        <p:spPr>
          <a:xfrm>
            <a:off x="2634480" y="1400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5"/>
          <p:cNvSpPr/>
          <p:nvPr/>
        </p:nvSpPr>
        <p:spPr>
          <a:xfrm rot="19917000">
            <a:off x="2815560" y="13190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6"/>
          <p:cNvSpPr/>
          <p:nvPr/>
        </p:nvSpPr>
        <p:spPr>
          <a:xfrm rot="16621800">
            <a:off x="3196080" y="11599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7"/>
          <p:cNvSpPr/>
          <p:nvPr/>
        </p:nvSpPr>
        <p:spPr>
          <a:xfrm rot="1779600">
            <a:off x="3618720" y="101556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8"/>
          <p:cNvSpPr/>
          <p:nvPr/>
        </p:nvSpPr>
        <p:spPr>
          <a:xfrm rot="17583000">
            <a:off x="4044600" y="871920"/>
            <a:ext cx="3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9"/>
          <p:cNvSpPr/>
          <p:nvPr/>
        </p:nvSpPr>
        <p:spPr>
          <a:xfrm>
            <a:off x="4449240" y="701640"/>
            <a:ext cx="4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0"/>
          <p:cNvSpPr/>
          <p:nvPr/>
        </p:nvSpPr>
        <p:spPr>
          <a:xfrm rot="16200000">
            <a:off x="4750560" y="4096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71"/>
          <p:cNvSpPr/>
          <p:nvPr/>
        </p:nvSpPr>
        <p:spPr>
          <a:xfrm>
            <a:off x="5168880" y="11124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72"/>
          <p:cNvSpPr/>
          <p:nvPr/>
        </p:nvSpPr>
        <p:spPr>
          <a:xfrm rot="4008000">
            <a:off x="5554800" y="1112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3"/>
          <p:cNvSpPr/>
          <p:nvPr/>
        </p:nvSpPr>
        <p:spPr>
          <a:xfrm>
            <a:off x="5811480" y="525600"/>
            <a:ext cx="5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6"/>
          <p:cNvSpPr/>
          <p:nvPr/>
        </p:nvSpPr>
        <p:spPr>
          <a:xfrm>
            <a:off x="247680" y="2579760"/>
            <a:ext cx="3951360" cy="855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7"/>
          <p:cNvSpPr/>
          <p:nvPr/>
        </p:nvSpPr>
        <p:spPr>
          <a:xfrm>
            <a:off x="0" y="1616040"/>
            <a:ext cx="247680" cy="18194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98"/>
          <p:cNvSpPr/>
          <p:nvPr/>
        </p:nvSpPr>
        <p:spPr>
          <a:xfrm>
            <a:off x="328680" y="2065320"/>
            <a:ext cx="495360" cy="4935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101"/>
          <p:cNvSpPr/>
          <p:nvPr/>
        </p:nvSpPr>
        <p:spPr>
          <a:xfrm>
            <a:off x="576360" y="2008080"/>
            <a:ext cx="4032000" cy="1328760"/>
          </a:xfrm>
          <a:custGeom>
            <a:avLst/>
            <a:gdLst>
              <a:gd name="textAreaLeft" fmla="*/ 0 w 4032000"/>
              <a:gd name="textAreaRight" fmla="*/ 4032360 w 403200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6325608" h="2085253">
                <a:moveTo>
                  <a:pt x="455095" y="373426"/>
                </a:moveTo>
                <a:cubicBezTo>
                  <a:pt x="593818" y="398826"/>
                  <a:pt x="732541" y="424226"/>
                  <a:pt x="830233" y="396872"/>
                </a:cubicBezTo>
                <a:cubicBezTo>
                  <a:pt x="927925" y="369518"/>
                  <a:pt x="986541" y="232749"/>
                  <a:pt x="1041249" y="209303"/>
                </a:cubicBezTo>
                <a:cubicBezTo>
                  <a:pt x="1095957" y="185857"/>
                  <a:pt x="978726" y="283549"/>
                  <a:pt x="1158480" y="256195"/>
                </a:cubicBezTo>
                <a:cubicBezTo>
                  <a:pt x="1338234" y="228841"/>
                  <a:pt x="1869680" y="52995"/>
                  <a:pt x="2119772" y="45180"/>
                </a:cubicBezTo>
                <a:cubicBezTo>
                  <a:pt x="2369864" y="37365"/>
                  <a:pt x="2428479" y="181949"/>
                  <a:pt x="2659033" y="209303"/>
                </a:cubicBezTo>
                <a:cubicBezTo>
                  <a:pt x="2889587" y="236657"/>
                  <a:pt x="3284264" y="221026"/>
                  <a:pt x="3503095" y="209303"/>
                </a:cubicBezTo>
                <a:cubicBezTo>
                  <a:pt x="3721926" y="197580"/>
                  <a:pt x="3768818" y="158502"/>
                  <a:pt x="3972018" y="138964"/>
                </a:cubicBezTo>
                <a:cubicBezTo>
                  <a:pt x="4175218" y="119425"/>
                  <a:pt x="4421403" y="99887"/>
                  <a:pt x="4722295" y="92072"/>
                </a:cubicBezTo>
                <a:cubicBezTo>
                  <a:pt x="5023187" y="84257"/>
                  <a:pt x="5511649" y="-111128"/>
                  <a:pt x="5777372" y="92072"/>
                </a:cubicBezTo>
                <a:cubicBezTo>
                  <a:pt x="6043095" y="295272"/>
                  <a:pt x="6261925" y="1049457"/>
                  <a:pt x="6316633" y="1311272"/>
                </a:cubicBezTo>
                <a:cubicBezTo>
                  <a:pt x="6371341" y="1573087"/>
                  <a:pt x="6160326" y="1569179"/>
                  <a:pt x="6105618" y="1662964"/>
                </a:cubicBezTo>
                <a:cubicBezTo>
                  <a:pt x="6050910" y="1756749"/>
                  <a:pt x="6035279" y="1842719"/>
                  <a:pt x="5988387" y="1873980"/>
                </a:cubicBezTo>
                <a:cubicBezTo>
                  <a:pt x="5941495" y="1905241"/>
                  <a:pt x="5918048" y="1846625"/>
                  <a:pt x="5824264" y="1850533"/>
                </a:cubicBezTo>
                <a:cubicBezTo>
                  <a:pt x="5730480" y="1854441"/>
                  <a:pt x="5601526" y="1881795"/>
                  <a:pt x="5425680" y="1897426"/>
                </a:cubicBezTo>
                <a:cubicBezTo>
                  <a:pt x="5249834" y="1913057"/>
                  <a:pt x="5019279" y="1944318"/>
                  <a:pt x="4769187" y="1944318"/>
                </a:cubicBezTo>
                <a:cubicBezTo>
                  <a:pt x="4519095" y="1944318"/>
                  <a:pt x="4370603" y="1873980"/>
                  <a:pt x="3925126" y="1897426"/>
                </a:cubicBezTo>
                <a:cubicBezTo>
                  <a:pt x="3479649" y="1920872"/>
                  <a:pt x="2631680" y="2092810"/>
                  <a:pt x="2096326" y="2084995"/>
                </a:cubicBezTo>
                <a:cubicBezTo>
                  <a:pt x="1560972" y="2077180"/>
                  <a:pt x="1009988" y="1885702"/>
                  <a:pt x="713003" y="1850533"/>
                </a:cubicBezTo>
                <a:cubicBezTo>
                  <a:pt x="416018" y="1815364"/>
                  <a:pt x="412110" y="1897426"/>
                  <a:pt x="314418" y="1873980"/>
                </a:cubicBezTo>
                <a:cubicBezTo>
                  <a:pt x="216726" y="1850534"/>
                  <a:pt x="177649" y="1791919"/>
                  <a:pt x="126849" y="1709857"/>
                </a:cubicBezTo>
                <a:cubicBezTo>
                  <a:pt x="76049" y="1627795"/>
                  <a:pt x="29156" y="1463672"/>
                  <a:pt x="9618" y="1381610"/>
                </a:cubicBezTo>
                <a:cubicBezTo>
                  <a:pt x="-9920" y="1299548"/>
                  <a:pt x="5710" y="1260471"/>
                  <a:pt x="9618" y="1217487"/>
                </a:cubicBezTo>
                <a:cubicBezTo>
                  <a:pt x="13526" y="1174503"/>
                  <a:pt x="21341" y="1154965"/>
                  <a:pt x="33064" y="1123703"/>
                </a:cubicBezTo>
                <a:cubicBezTo>
                  <a:pt x="44787" y="1092442"/>
                  <a:pt x="60417" y="1061180"/>
                  <a:pt x="79956" y="1029918"/>
                </a:cubicBezTo>
                <a:cubicBezTo>
                  <a:pt x="99494" y="998656"/>
                  <a:pt x="134664" y="955672"/>
                  <a:pt x="150295" y="93613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04"/>
          <p:cNvSpPr/>
          <p:nvPr/>
        </p:nvSpPr>
        <p:spPr>
          <a:xfrm rot="18774600">
            <a:off x="2336760" y="155736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13"/>
          <p:cNvSpPr/>
          <p:nvPr/>
        </p:nvSpPr>
        <p:spPr>
          <a:xfrm rot="3670200">
            <a:off x="6112800" y="930240"/>
            <a:ext cx="5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8469360" y="581040"/>
            <a:ext cx="2634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老公刚到家门口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0383480" y="1770120"/>
            <a:ext cx="1232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的声音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8143920" y="17510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打呼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8492040" y="1170000"/>
            <a:ext cx="2634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突然听到有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男人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7"/>
          <p:cNvSpPr/>
          <p:nvPr/>
        </p:nvSpPr>
        <p:spPr>
          <a:xfrm rot="1718400">
            <a:off x="2094840" y="161928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椭圆 3"/>
          <p:cNvSpPr/>
          <p:nvPr/>
        </p:nvSpPr>
        <p:spPr>
          <a:xfrm flipH="1">
            <a:off x="2734560" y="3524400"/>
            <a:ext cx="833400" cy="834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11"/>
          <p:cNvSpPr/>
          <p:nvPr/>
        </p:nvSpPr>
        <p:spPr>
          <a:xfrm flipH="1" rot="457200">
            <a:off x="2105640" y="4299120"/>
            <a:ext cx="898560" cy="981000"/>
          </a:xfrm>
          <a:custGeom>
            <a:avLst/>
            <a:gdLst>
              <a:gd name="textAreaLeft" fmla="*/ 360 w 898560"/>
              <a:gd name="textAreaRight" fmla="*/ 899280 w 8985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2"/>
          <p:cNvSpPr/>
          <p:nvPr/>
        </p:nvSpPr>
        <p:spPr>
          <a:xfrm flipH="1" rot="1188000">
            <a:off x="1587600" y="5118120"/>
            <a:ext cx="838080" cy="516240"/>
          </a:xfrm>
          <a:prstGeom prst="roundRect">
            <a:avLst>
              <a:gd name="adj" fmla="val 1014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25"/>
          <p:cNvSpPr/>
          <p:nvPr/>
        </p:nvSpPr>
        <p:spPr>
          <a:xfrm rot="1465800">
            <a:off x="2641320" y="5064120"/>
            <a:ext cx="1052280" cy="1197000"/>
          </a:xfrm>
          <a:custGeom>
            <a:avLst/>
            <a:gdLst>
              <a:gd name="textAreaLeft" fmla="*/ 0 w 1052280"/>
              <a:gd name="textAreaRight" fmla="*/ 1052640 w 105228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16"/>
          <p:cNvSpPr/>
          <p:nvPr/>
        </p:nvSpPr>
        <p:spPr>
          <a:xfrm flipV="1" rot="1002000">
            <a:off x="3251160" y="3970800"/>
            <a:ext cx="544680" cy="1022400"/>
          </a:xfrm>
          <a:custGeom>
            <a:avLst/>
            <a:gdLst>
              <a:gd name="textAreaLeft" fmla="*/ 0 w 544680"/>
              <a:gd name="textAreaRight" fmla="*/ 545040 w 544680"/>
              <a:gd name="textAreaTop" fmla="*/ 360 h 1022400"/>
              <a:gd name="textAreaBottom" fmla="*/ 1023120 h 102240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20"/>
          <p:cNvSpPr/>
          <p:nvPr/>
        </p:nvSpPr>
        <p:spPr>
          <a:xfrm flipH="1">
            <a:off x="1936080" y="5037120"/>
            <a:ext cx="298440" cy="2984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23"/>
          <p:cNvSpPr/>
          <p:nvPr/>
        </p:nvSpPr>
        <p:spPr>
          <a:xfrm flipH="1">
            <a:off x="2698920" y="4349880"/>
            <a:ext cx="620640" cy="1180800"/>
          </a:xfrm>
          <a:custGeom>
            <a:avLst/>
            <a:gdLst>
              <a:gd name="textAreaLeft" fmla="*/ 360 w 620640"/>
              <a:gd name="textAreaRight" fmla="*/ 621360 w 62064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28"/>
          <p:cNvSpPr/>
          <p:nvPr/>
        </p:nvSpPr>
        <p:spPr>
          <a:xfrm rot="2967600">
            <a:off x="2241720" y="5024880"/>
            <a:ext cx="1052640" cy="12099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1209960"/>
              <a:gd name="textAreaBottom" fmla="*/ 1210320 h 120996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2"/>
          <p:cNvSpPr/>
          <p:nvPr/>
        </p:nvSpPr>
        <p:spPr>
          <a:xfrm>
            <a:off x="843120" y="2168640"/>
            <a:ext cx="266400" cy="4233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4"/>
          <p:cNvSpPr/>
          <p:nvPr/>
        </p:nvSpPr>
        <p:spPr>
          <a:xfrm rot="1253400">
            <a:off x="3858840" y="3800520"/>
            <a:ext cx="101520" cy="450720"/>
          </a:xfrm>
          <a:custGeom>
            <a:avLst/>
            <a:gdLst>
              <a:gd name="textAreaLeft" fmla="*/ 10440 w 101520"/>
              <a:gd name="textAreaRight" fmla="*/ 91080 w 101520"/>
              <a:gd name="textAreaTop" fmla="*/ 10440 h 450720"/>
              <a:gd name="textAreaBottom" fmla="*/ 440280 h 450720"/>
            </a:gdLst>
            <a:ahLst/>
            <a:rect l="textAreaLeft" t="textAreaTop" r="textAreaRight" b="textAreaBottom"/>
            <a:pathLst>
              <a:path w="21600" h="95635">
                <a:moveTo>
                  <a:pt x="7674" y="0"/>
                </a:moveTo>
                <a:arcTo wR="7674" hR="7674" stAng="16200000" swAng="-5400000"/>
                <a:lnTo>
                  <a:pt x="0" y="87961"/>
                </a:lnTo>
                <a:arcTo wR="7674" hR="7674" stAng="10800000" swAng="-5400000"/>
                <a:lnTo>
                  <a:pt x="13926" y="95635"/>
                </a:lnTo>
                <a:arcTo wR="7674" hR="7674" stAng="5400000" swAng="-5400000"/>
                <a:lnTo>
                  <a:pt x="21600" y="7674"/>
                </a:lnTo>
                <a:arcTo wR="7674" hR="7674" stAng="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31"/>
          <p:cNvSpPr/>
          <p:nvPr/>
        </p:nvSpPr>
        <p:spPr>
          <a:xfrm flipH="1">
            <a:off x="9675720" y="3532320"/>
            <a:ext cx="835200" cy="834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32"/>
          <p:cNvSpPr/>
          <p:nvPr/>
        </p:nvSpPr>
        <p:spPr>
          <a:xfrm flipH="1" rot="457200">
            <a:off x="9071640" y="4279680"/>
            <a:ext cx="901440" cy="981000"/>
          </a:xfrm>
          <a:custGeom>
            <a:avLst/>
            <a:gdLst>
              <a:gd name="textAreaLeft" fmla="*/ 360 w 901440"/>
              <a:gd name="textAreaRight" fmla="*/ 902160 w 9014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33"/>
          <p:cNvSpPr/>
          <p:nvPr/>
        </p:nvSpPr>
        <p:spPr>
          <a:xfrm flipH="1" rot="1188000">
            <a:off x="8528040" y="5126040"/>
            <a:ext cx="838080" cy="516240"/>
          </a:xfrm>
          <a:prstGeom prst="roundRect">
            <a:avLst>
              <a:gd name="adj" fmla="val 1014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34"/>
          <p:cNvSpPr/>
          <p:nvPr/>
        </p:nvSpPr>
        <p:spPr>
          <a:xfrm rot="1465800">
            <a:off x="9581760" y="5073120"/>
            <a:ext cx="1052640" cy="11955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35"/>
          <p:cNvSpPr/>
          <p:nvPr/>
        </p:nvSpPr>
        <p:spPr>
          <a:xfrm rot="21034200">
            <a:off x="10145520" y="4331880"/>
            <a:ext cx="541080" cy="1022400"/>
          </a:xfrm>
          <a:custGeom>
            <a:avLst/>
            <a:gdLst>
              <a:gd name="textAreaLeft" fmla="*/ 0 w 541080"/>
              <a:gd name="textAreaRight" fmla="*/ 541440 w 5410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36"/>
          <p:cNvSpPr/>
          <p:nvPr/>
        </p:nvSpPr>
        <p:spPr>
          <a:xfrm flipH="1">
            <a:off x="8876520" y="5045040"/>
            <a:ext cx="298440" cy="2984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23"/>
          <p:cNvSpPr/>
          <p:nvPr/>
        </p:nvSpPr>
        <p:spPr>
          <a:xfrm flipH="1">
            <a:off x="9639360" y="4357800"/>
            <a:ext cx="622080" cy="1181160"/>
          </a:xfrm>
          <a:custGeom>
            <a:avLst/>
            <a:gdLst>
              <a:gd name="textAreaLeft" fmla="*/ 360 w 622080"/>
              <a:gd name="textAreaRight" fmla="*/ 622800 w 62208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38"/>
          <p:cNvSpPr/>
          <p:nvPr/>
        </p:nvSpPr>
        <p:spPr>
          <a:xfrm rot="2967600">
            <a:off x="9182520" y="5033160"/>
            <a:ext cx="1052640" cy="120960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50"/>
          <p:cNvSpPr/>
          <p:nvPr/>
        </p:nvSpPr>
        <p:spPr>
          <a:xfrm flipH="1" rot="1188000">
            <a:off x="10843200" y="5602320"/>
            <a:ext cx="393480" cy="243000"/>
          </a:xfrm>
          <a:prstGeom prst="roundRect">
            <a:avLst>
              <a:gd name="adj" fmla="val 10148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0"/>
          <p:cNvSpPr/>
          <p:nvPr/>
        </p:nvSpPr>
        <p:spPr>
          <a:xfrm>
            <a:off x="6488640" y="145728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离婚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1"/>
          <p:cNvSpPr/>
          <p:nvPr/>
        </p:nvSpPr>
        <p:spPr>
          <a:xfrm>
            <a:off x="2459160" y="809640"/>
            <a:ext cx="543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老公在门外犹豫了五分钟默默离开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给老婆发了一条短信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8008560" y="2308320"/>
            <a:ext cx="29847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然后扔掉手机卡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远走他乡</a:t>
            </a:r>
            <a:r>
              <a:rPr b="0" lang="zh-CN" sz="4600" spc="-1" strike="noStrike">
                <a:solidFill>
                  <a:srgbClr val="262626"/>
                </a:solidFill>
                <a:latin typeface="Arial"/>
                <a:ea typeface="方正正大黑简体"/>
              </a:rPr>
              <a:t>……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2"/>
          <p:cNvSpPr/>
          <p:nvPr/>
        </p:nvSpPr>
        <p:spPr>
          <a:xfrm>
            <a:off x="0" y="6230880"/>
            <a:ext cx="12192120" cy="639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1"/>
          <p:cNvSpPr/>
          <p:nvPr/>
        </p:nvSpPr>
        <p:spPr>
          <a:xfrm>
            <a:off x="8383680" y="3568680"/>
            <a:ext cx="26344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三年后</a:t>
            </a: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他们在一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座城市偶然相遇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64"/>
          <p:cNvSpPr/>
          <p:nvPr/>
        </p:nvSpPr>
        <p:spPr>
          <a:xfrm>
            <a:off x="6480" y="187200"/>
            <a:ext cx="2315880" cy="6519960"/>
          </a:xfrm>
          <a:custGeom>
            <a:avLst/>
            <a:gdLst>
              <a:gd name="textAreaLeft" fmla="*/ 0 w 2315880"/>
              <a:gd name="textAreaRight" fmla="*/ 2316240 w 2315880"/>
              <a:gd name="textAreaTop" fmla="*/ 0 h 6519960"/>
              <a:gd name="textAreaBottom" fmla="*/ 6520320 h 6519960"/>
            </a:gdLst>
            <a:ahLst/>
            <a:rect l="textAreaLeft" t="textAreaTop" r="textAreaRight" b="textAreaBottom"/>
            <a:pathLst>
              <a:path w="2316351" h="6521112">
                <a:moveTo>
                  <a:pt x="1770216" y="5390144"/>
                </a:moveTo>
                <a:lnTo>
                  <a:pt x="1770216" y="5694944"/>
                </a:lnTo>
                <a:lnTo>
                  <a:pt x="2075016" y="5694944"/>
                </a:lnTo>
                <a:lnTo>
                  <a:pt x="2075016" y="5390144"/>
                </a:lnTo>
                <a:lnTo>
                  <a:pt x="1770216" y="5390144"/>
                </a:lnTo>
                <a:close/>
                <a:moveTo>
                  <a:pt x="1261745" y="5390144"/>
                </a:moveTo>
                <a:lnTo>
                  <a:pt x="1261745" y="5694944"/>
                </a:lnTo>
                <a:lnTo>
                  <a:pt x="1566545" y="5694944"/>
                </a:lnTo>
                <a:lnTo>
                  <a:pt x="1566545" y="5390144"/>
                </a:lnTo>
                <a:lnTo>
                  <a:pt x="1261745" y="5390144"/>
                </a:lnTo>
                <a:close/>
                <a:moveTo>
                  <a:pt x="772460" y="5390144"/>
                </a:moveTo>
                <a:lnTo>
                  <a:pt x="772460" y="5694944"/>
                </a:lnTo>
                <a:lnTo>
                  <a:pt x="1077260" y="5694944"/>
                </a:lnTo>
                <a:lnTo>
                  <a:pt x="1077260" y="5390144"/>
                </a:lnTo>
                <a:lnTo>
                  <a:pt x="772460" y="5390144"/>
                </a:lnTo>
                <a:close/>
                <a:moveTo>
                  <a:pt x="283175" y="5390144"/>
                </a:moveTo>
                <a:lnTo>
                  <a:pt x="283175" y="5694944"/>
                </a:lnTo>
                <a:lnTo>
                  <a:pt x="587975" y="5694944"/>
                </a:lnTo>
                <a:lnTo>
                  <a:pt x="587975" y="5390144"/>
                </a:lnTo>
                <a:lnTo>
                  <a:pt x="283175" y="5390144"/>
                </a:lnTo>
                <a:close/>
                <a:moveTo>
                  <a:pt x="1770216" y="4892836"/>
                </a:moveTo>
                <a:lnTo>
                  <a:pt x="1770216" y="5197636"/>
                </a:lnTo>
                <a:lnTo>
                  <a:pt x="2075016" y="5197636"/>
                </a:lnTo>
                <a:lnTo>
                  <a:pt x="2075016" y="4892836"/>
                </a:lnTo>
                <a:lnTo>
                  <a:pt x="1770216" y="4892836"/>
                </a:lnTo>
                <a:close/>
                <a:moveTo>
                  <a:pt x="1261745" y="4892836"/>
                </a:moveTo>
                <a:lnTo>
                  <a:pt x="1261745" y="5197636"/>
                </a:lnTo>
                <a:lnTo>
                  <a:pt x="1566545" y="5197636"/>
                </a:lnTo>
                <a:lnTo>
                  <a:pt x="1566545" y="4892836"/>
                </a:lnTo>
                <a:lnTo>
                  <a:pt x="1261745" y="4892836"/>
                </a:lnTo>
                <a:close/>
                <a:moveTo>
                  <a:pt x="772460" y="4892836"/>
                </a:moveTo>
                <a:lnTo>
                  <a:pt x="772460" y="5197636"/>
                </a:lnTo>
                <a:lnTo>
                  <a:pt x="1077260" y="5197636"/>
                </a:lnTo>
                <a:lnTo>
                  <a:pt x="1077260" y="4892836"/>
                </a:lnTo>
                <a:lnTo>
                  <a:pt x="772460" y="4892836"/>
                </a:lnTo>
                <a:close/>
                <a:moveTo>
                  <a:pt x="283175" y="4892836"/>
                </a:moveTo>
                <a:lnTo>
                  <a:pt x="283175" y="5197636"/>
                </a:lnTo>
                <a:lnTo>
                  <a:pt x="587975" y="5197636"/>
                </a:lnTo>
                <a:lnTo>
                  <a:pt x="587975" y="4892836"/>
                </a:lnTo>
                <a:lnTo>
                  <a:pt x="283175" y="4892836"/>
                </a:lnTo>
                <a:close/>
                <a:moveTo>
                  <a:pt x="1770216" y="4395531"/>
                </a:moveTo>
                <a:lnTo>
                  <a:pt x="1770216" y="4700331"/>
                </a:lnTo>
                <a:lnTo>
                  <a:pt x="2075016" y="4700331"/>
                </a:lnTo>
                <a:lnTo>
                  <a:pt x="2075016" y="4395531"/>
                </a:lnTo>
                <a:lnTo>
                  <a:pt x="1770216" y="4395531"/>
                </a:lnTo>
                <a:close/>
                <a:moveTo>
                  <a:pt x="1261745" y="4395531"/>
                </a:moveTo>
                <a:lnTo>
                  <a:pt x="1261745" y="4700331"/>
                </a:lnTo>
                <a:lnTo>
                  <a:pt x="1566545" y="4700331"/>
                </a:lnTo>
                <a:lnTo>
                  <a:pt x="1566545" y="4395531"/>
                </a:lnTo>
                <a:lnTo>
                  <a:pt x="1261745" y="4395531"/>
                </a:lnTo>
                <a:close/>
                <a:moveTo>
                  <a:pt x="772460" y="4395531"/>
                </a:moveTo>
                <a:lnTo>
                  <a:pt x="772460" y="4700331"/>
                </a:lnTo>
                <a:lnTo>
                  <a:pt x="1077260" y="4700331"/>
                </a:lnTo>
                <a:lnTo>
                  <a:pt x="1077260" y="4395531"/>
                </a:lnTo>
                <a:lnTo>
                  <a:pt x="772460" y="4395531"/>
                </a:lnTo>
                <a:close/>
                <a:moveTo>
                  <a:pt x="283175" y="4395531"/>
                </a:moveTo>
                <a:lnTo>
                  <a:pt x="283175" y="4700331"/>
                </a:lnTo>
                <a:lnTo>
                  <a:pt x="587975" y="4700331"/>
                </a:lnTo>
                <a:lnTo>
                  <a:pt x="587975" y="4395531"/>
                </a:lnTo>
                <a:lnTo>
                  <a:pt x="283175" y="4395531"/>
                </a:lnTo>
                <a:close/>
                <a:moveTo>
                  <a:pt x="1770216" y="3898226"/>
                </a:moveTo>
                <a:lnTo>
                  <a:pt x="1770216" y="4203026"/>
                </a:lnTo>
                <a:lnTo>
                  <a:pt x="2075016" y="4203026"/>
                </a:lnTo>
                <a:lnTo>
                  <a:pt x="2075016" y="3898226"/>
                </a:lnTo>
                <a:lnTo>
                  <a:pt x="1770216" y="3898226"/>
                </a:lnTo>
                <a:close/>
                <a:moveTo>
                  <a:pt x="1261745" y="3898226"/>
                </a:moveTo>
                <a:lnTo>
                  <a:pt x="1261745" y="4203026"/>
                </a:lnTo>
                <a:lnTo>
                  <a:pt x="1566545" y="4203026"/>
                </a:lnTo>
                <a:lnTo>
                  <a:pt x="1566545" y="3898226"/>
                </a:lnTo>
                <a:lnTo>
                  <a:pt x="1261745" y="3898226"/>
                </a:lnTo>
                <a:close/>
                <a:moveTo>
                  <a:pt x="772460" y="3898226"/>
                </a:moveTo>
                <a:lnTo>
                  <a:pt x="772460" y="4203026"/>
                </a:lnTo>
                <a:lnTo>
                  <a:pt x="1077260" y="4203026"/>
                </a:lnTo>
                <a:lnTo>
                  <a:pt x="1077260" y="3898226"/>
                </a:lnTo>
                <a:lnTo>
                  <a:pt x="772460" y="3898226"/>
                </a:lnTo>
                <a:close/>
                <a:moveTo>
                  <a:pt x="283175" y="3898226"/>
                </a:moveTo>
                <a:lnTo>
                  <a:pt x="283175" y="4203026"/>
                </a:lnTo>
                <a:lnTo>
                  <a:pt x="587975" y="4203026"/>
                </a:lnTo>
                <a:lnTo>
                  <a:pt x="587975" y="3898226"/>
                </a:lnTo>
                <a:lnTo>
                  <a:pt x="283175" y="3898226"/>
                </a:lnTo>
                <a:close/>
                <a:moveTo>
                  <a:pt x="1770216" y="3400921"/>
                </a:moveTo>
                <a:lnTo>
                  <a:pt x="1770216" y="3705721"/>
                </a:lnTo>
                <a:lnTo>
                  <a:pt x="2075016" y="3705721"/>
                </a:lnTo>
                <a:lnTo>
                  <a:pt x="2075016" y="3400921"/>
                </a:lnTo>
                <a:lnTo>
                  <a:pt x="1770216" y="3400921"/>
                </a:lnTo>
                <a:close/>
                <a:moveTo>
                  <a:pt x="1261745" y="3400921"/>
                </a:moveTo>
                <a:lnTo>
                  <a:pt x="1261745" y="3705721"/>
                </a:lnTo>
                <a:lnTo>
                  <a:pt x="1566545" y="3705721"/>
                </a:lnTo>
                <a:lnTo>
                  <a:pt x="1566545" y="3400921"/>
                </a:lnTo>
                <a:lnTo>
                  <a:pt x="1261745" y="3400921"/>
                </a:lnTo>
                <a:close/>
                <a:moveTo>
                  <a:pt x="772460" y="3400921"/>
                </a:moveTo>
                <a:lnTo>
                  <a:pt x="772460" y="3705721"/>
                </a:lnTo>
                <a:lnTo>
                  <a:pt x="1077260" y="3705721"/>
                </a:lnTo>
                <a:lnTo>
                  <a:pt x="1077260" y="3400921"/>
                </a:lnTo>
                <a:lnTo>
                  <a:pt x="772460" y="3400921"/>
                </a:lnTo>
                <a:close/>
                <a:moveTo>
                  <a:pt x="283175" y="3400921"/>
                </a:moveTo>
                <a:lnTo>
                  <a:pt x="283175" y="3705721"/>
                </a:lnTo>
                <a:lnTo>
                  <a:pt x="587975" y="3705721"/>
                </a:lnTo>
                <a:lnTo>
                  <a:pt x="587975" y="3400921"/>
                </a:lnTo>
                <a:lnTo>
                  <a:pt x="283175" y="3400921"/>
                </a:lnTo>
                <a:close/>
                <a:moveTo>
                  <a:pt x="1770216" y="2903618"/>
                </a:moveTo>
                <a:lnTo>
                  <a:pt x="1770216" y="3208417"/>
                </a:lnTo>
                <a:lnTo>
                  <a:pt x="2075016" y="3208417"/>
                </a:lnTo>
                <a:lnTo>
                  <a:pt x="2075016" y="2903618"/>
                </a:lnTo>
                <a:lnTo>
                  <a:pt x="1770216" y="2903618"/>
                </a:lnTo>
                <a:close/>
                <a:moveTo>
                  <a:pt x="1261745" y="2903618"/>
                </a:moveTo>
                <a:lnTo>
                  <a:pt x="1261745" y="3208417"/>
                </a:lnTo>
                <a:lnTo>
                  <a:pt x="1566545" y="3208417"/>
                </a:lnTo>
                <a:lnTo>
                  <a:pt x="1566545" y="2903618"/>
                </a:lnTo>
                <a:lnTo>
                  <a:pt x="1261745" y="2903618"/>
                </a:lnTo>
                <a:close/>
                <a:moveTo>
                  <a:pt x="772460" y="2903618"/>
                </a:moveTo>
                <a:lnTo>
                  <a:pt x="772460" y="3208417"/>
                </a:lnTo>
                <a:lnTo>
                  <a:pt x="1077260" y="3208417"/>
                </a:lnTo>
                <a:lnTo>
                  <a:pt x="1077260" y="2903618"/>
                </a:lnTo>
                <a:lnTo>
                  <a:pt x="772460" y="2903618"/>
                </a:lnTo>
                <a:close/>
                <a:moveTo>
                  <a:pt x="283175" y="2903618"/>
                </a:moveTo>
                <a:lnTo>
                  <a:pt x="283175" y="3208417"/>
                </a:lnTo>
                <a:lnTo>
                  <a:pt x="587975" y="3208417"/>
                </a:lnTo>
                <a:lnTo>
                  <a:pt x="587975" y="2903618"/>
                </a:lnTo>
                <a:lnTo>
                  <a:pt x="283175" y="2903618"/>
                </a:lnTo>
                <a:close/>
                <a:moveTo>
                  <a:pt x="1770216" y="2406316"/>
                </a:moveTo>
                <a:lnTo>
                  <a:pt x="1770216" y="2711116"/>
                </a:lnTo>
                <a:lnTo>
                  <a:pt x="2075016" y="2711116"/>
                </a:lnTo>
                <a:lnTo>
                  <a:pt x="2075016" y="2406316"/>
                </a:lnTo>
                <a:lnTo>
                  <a:pt x="1770216" y="2406316"/>
                </a:lnTo>
                <a:close/>
                <a:moveTo>
                  <a:pt x="1261745" y="2406316"/>
                </a:moveTo>
                <a:lnTo>
                  <a:pt x="1261745" y="2711116"/>
                </a:lnTo>
                <a:lnTo>
                  <a:pt x="1566545" y="2711116"/>
                </a:lnTo>
                <a:lnTo>
                  <a:pt x="1566545" y="2406316"/>
                </a:lnTo>
                <a:lnTo>
                  <a:pt x="1261745" y="2406316"/>
                </a:lnTo>
                <a:close/>
                <a:moveTo>
                  <a:pt x="772460" y="2406316"/>
                </a:moveTo>
                <a:lnTo>
                  <a:pt x="772460" y="2711116"/>
                </a:lnTo>
                <a:lnTo>
                  <a:pt x="1077260" y="2711116"/>
                </a:lnTo>
                <a:lnTo>
                  <a:pt x="1077260" y="2406316"/>
                </a:lnTo>
                <a:lnTo>
                  <a:pt x="772460" y="2406316"/>
                </a:lnTo>
                <a:close/>
                <a:moveTo>
                  <a:pt x="283175" y="2406316"/>
                </a:moveTo>
                <a:lnTo>
                  <a:pt x="283175" y="2711116"/>
                </a:lnTo>
                <a:lnTo>
                  <a:pt x="587975" y="2711116"/>
                </a:lnTo>
                <a:lnTo>
                  <a:pt x="587975" y="2406316"/>
                </a:lnTo>
                <a:lnTo>
                  <a:pt x="283175" y="2406316"/>
                </a:lnTo>
                <a:close/>
                <a:moveTo>
                  <a:pt x="1770216" y="1909007"/>
                </a:moveTo>
                <a:lnTo>
                  <a:pt x="1770216" y="2213809"/>
                </a:lnTo>
                <a:lnTo>
                  <a:pt x="2075016" y="2213809"/>
                </a:lnTo>
                <a:lnTo>
                  <a:pt x="2075016" y="1909007"/>
                </a:lnTo>
                <a:lnTo>
                  <a:pt x="1770216" y="1909007"/>
                </a:lnTo>
                <a:close/>
                <a:moveTo>
                  <a:pt x="1261745" y="1909007"/>
                </a:moveTo>
                <a:lnTo>
                  <a:pt x="1261745" y="2213809"/>
                </a:lnTo>
                <a:lnTo>
                  <a:pt x="1566545" y="2213809"/>
                </a:lnTo>
                <a:lnTo>
                  <a:pt x="1566545" y="1909007"/>
                </a:lnTo>
                <a:lnTo>
                  <a:pt x="1261745" y="1909007"/>
                </a:lnTo>
                <a:close/>
                <a:moveTo>
                  <a:pt x="772460" y="1909007"/>
                </a:moveTo>
                <a:lnTo>
                  <a:pt x="772460" y="2213809"/>
                </a:lnTo>
                <a:lnTo>
                  <a:pt x="1077260" y="2213809"/>
                </a:lnTo>
                <a:lnTo>
                  <a:pt x="1077260" y="1909007"/>
                </a:lnTo>
                <a:lnTo>
                  <a:pt x="772460" y="1909007"/>
                </a:lnTo>
                <a:close/>
                <a:moveTo>
                  <a:pt x="283175" y="1909007"/>
                </a:moveTo>
                <a:lnTo>
                  <a:pt x="283175" y="2213809"/>
                </a:lnTo>
                <a:lnTo>
                  <a:pt x="587975" y="2213809"/>
                </a:lnTo>
                <a:lnTo>
                  <a:pt x="587975" y="1909007"/>
                </a:lnTo>
                <a:lnTo>
                  <a:pt x="283175" y="1909007"/>
                </a:lnTo>
                <a:close/>
                <a:moveTo>
                  <a:pt x="772460" y="1411705"/>
                </a:moveTo>
                <a:lnTo>
                  <a:pt x="772460" y="1716505"/>
                </a:lnTo>
                <a:lnTo>
                  <a:pt x="1077260" y="1716505"/>
                </a:lnTo>
                <a:lnTo>
                  <a:pt x="1077260" y="1411705"/>
                </a:lnTo>
                <a:lnTo>
                  <a:pt x="772460" y="1411705"/>
                </a:lnTo>
                <a:close/>
                <a:moveTo>
                  <a:pt x="283175" y="1411705"/>
                </a:moveTo>
                <a:lnTo>
                  <a:pt x="283175" y="1716505"/>
                </a:lnTo>
                <a:lnTo>
                  <a:pt x="587975" y="1716505"/>
                </a:lnTo>
                <a:lnTo>
                  <a:pt x="587975" y="1411705"/>
                </a:lnTo>
                <a:lnTo>
                  <a:pt x="283175" y="1411705"/>
                </a:lnTo>
                <a:close/>
                <a:moveTo>
                  <a:pt x="1770216" y="1411705"/>
                </a:moveTo>
                <a:lnTo>
                  <a:pt x="1770216" y="1716505"/>
                </a:lnTo>
                <a:lnTo>
                  <a:pt x="2075016" y="1716505"/>
                </a:lnTo>
                <a:lnTo>
                  <a:pt x="2075016" y="1411705"/>
                </a:lnTo>
                <a:lnTo>
                  <a:pt x="1770216" y="1411705"/>
                </a:lnTo>
                <a:close/>
                <a:moveTo>
                  <a:pt x="1261745" y="1411705"/>
                </a:moveTo>
                <a:lnTo>
                  <a:pt x="1261745" y="1716505"/>
                </a:lnTo>
                <a:lnTo>
                  <a:pt x="1566545" y="1716505"/>
                </a:lnTo>
                <a:lnTo>
                  <a:pt x="1566545" y="1411705"/>
                </a:lnTo>
                <a:lnTo>
                  <a:pt x="1261745" y="1411705"/>
                </a:lnTo>
                <a:close/>
                <a:moveTo>
                  <a:pt x="772460" y="914400"/>
                </a:moveTo>
                <a:lnTo>
                  <a:pt x="772460" y="1219201"/>
                </a:lnTo>
                <a:lnTo>
                  <a:pt x="1077260" y="1219201"/>
                </a:lnTo>
                <a:lnTo>
                  <a:pt x="1077260" y="914400"/>
                </a:lnTo>
                <a:lnTo>
                  <a:pt x="772460" y="914400"/>
                </a:lnTo>
                <a:close/>
                <a:moveTo>
                  <a:pt x="283175" y="914400"/>
                </a:moveTo>
                <a:lnTo>
                  <a:pt x="283175" y="1219201"/>
                </a:lnTo>
                <a:lnTo>
                  <a:pt x="587975" y="1219201"/>
                </a:lnTo>
                <a:lnTo>
                  <a:pt x="587975" y="914400"/>
                </a:lnTo>
                <a:lnTo>
                  <a:pt x="283175" y="914400"/>
                </a:lnTo>
                <a:close/>
                <a:moveTo>
                  <a:pt x="1770216" y="914400"/>
                </a:moveTo>
                <a:lnTo>
                  <a:pt x="1770216" y="1219201"/>
                </a:lnTo>
                <a:lnTo>
                  <a:pt x="2075016" y="1219201"/>
                </a:lnTo>
                <a:lnTo>
                  <a:pt x="2075016" y="914400"/>
                </a:lnTo>
                <a:lnTo>
                  <a:pt x="1770216" y="914400"/>
                </a:lnTo>
                <a:close/>
                <a:moveTo>
                  <a:pt x="1261745" y="914400"/>
                </a:moveTo>
                <a:lnTo>
                  <a:pt x="1261745" y="1219201"/>
                </a:lnTo>
                <a:lnTo>
                  <a:pt x="1566545" y="1219201"/>
                </a:lnTo>
                <a:lnTo>
                  <a:pt x="1566545" y="914400"/>
                </a:lnTo>
                <a:lnTo>
                  <a:pt x="1261745" y="914400"/>
                </a:lnTo>
                <a:close/>
                <a:moveTo>
                  <a:pt x="283175" y="417095"/>
                </a:moveTo>
                <a:lnTo>
                  <a:pt x="283175" y="721895"/>
                </a:lnTo>
                <a:lnTo>
                  <a:pt x="587975" y="721895"/>
                </a:lnTo>
                <a:lnTo>
                  <a:pt x="587975" y="417095"/>
                </a:lnTo>
                <a:lnTo>
                  <a:pt x="283175" y="417095"/>
                </a:lnTo>
                <a:close/>
                <a:moveTo>
                  <a:pt x="772460" y="417095"/>
                </a:moveTo>
                <a:lnTo>
                  <a:pt x="772460" y="721895"/>
                </a:lnTo>
                <a:lnTo>
                  <a:pt x="1077260" y="721895"/>
                </a:lnTo>
                <a:lnTo>
                  <a:pt x="1077260" y="417095"/>
                </a:lnTo>
                <a:lnTo>
                  <a:pt x="772460" y="417095"/>
                </a:lnTo>
                <a:close/>
                <a:moveTo>
                  <a:pt x="1261745" y="417095"/>
                </a:moveTo>
                <a:lnTo>
                  <a:pt x="1261745" y="721895"/>
                </a:lnTo>
                <a:lnTo>
                  <a:pt x="1566545" y="721895"/>
                </a:lnTo>
                <a:lnTo>
                  <a:pt x="1566545" y="417095"/>
                </a:lnTo>
                <a:lnTo>
                  <a:pt x="1261745" y="417095"/>
                </a:lnTo>
                <a:close/>
                <a:moveTo>
                  <a:pt x="1770216" y="417095"/>
                </a:moveTo>
                <a:lnTo>
                  <a:pt x="1770216" y="721895"/>
                </a:lnTo>
                <a:lnTo>
                  <a:pt x="2075016" y="721895"/>
                </a:lnTo>
                <a:lnTo>
                  <a:pt x="2075016" y="417095"/>
                </a:lnTo>
                <a:lnTo>
                  <a:pt x="1770216" y="417095"/>
                </a:lnTo>
                <a:close/>
                <a:moveTo>
                  <a:pt x="0" y="0"/>
                </a:moveTo>
                <a:lnTo>
                  <a:pt x="2316351" y="0"/>
                </a:lnTo>
                <a:lnTo>
                  <a:pt x="2316351" y="6521112"/>
                </a:lnTo>
                <a:lnTo>
                  <a:pt x="0" y="6521112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67"/>
          <p:cNvSpPr/>
          <p:nvPr/>
        </p:nvSpPr>
        <p:spPr>
          <a:xfrm>
            <a:off x="4640400" y="3016080"/>
            <a:ext cx="2314440" cy="370368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3703680"/>
              <a:gd name="textAreaBottom" fmla="*/ 3704040 h 3703680"/>
            </a:gdLst>
            <a:ahLst/>
            <a:rect l="textAreaLeft" t="textAreaTop" r="textAreaRight" b="textAreaBottom"/>
            <a:pathLst>
              <a:path w="2316351" h="3703803">
                <a:moveTo>
                  <a:pt x="1770216" y="2572835"/>
                </a:moveTo>
                <a:lnTo>
                  <a:pt x="1770216" y="2877635"/>
                </a:lnTo>
                <a:lnTo>
                  <a:pt x="2075016" y="2877635"/>
                </a:lnTo>
                <a:lnTo>
                  <a:pt x="2075016" y="2572835"/>
                </a:lnTo>
                <a:lnTo>
                  <a:pt x="1770216" y="2572835"/>
                </a:lnTo>
                <a:close/>
                <a:moveTo>
                  <a:pt x="1261745" y="2572835"/>
                </a:moveTo>
                <a:lnTo>
                  <a:pt x="1261745" y="2877635"/>
                </a:lnTo>
                <a:lnTo>
                  <a:pt x="1566545" y="2877635"/>
                </a:lnTo>
                <a:lnTo>
                  <a:pt x="1566545" y="2572835"/>
                </a:lnTo>
                <a:lnTo>
                  <a:pt x="1261745" y="2572835"/>
                </a:lnTo>
                <a:close/>
                <a:moveTo>
                  <a:pt x="772460" y="2572835"/>
                </a:moveTo>
                <a:lnTo>
                  <a:pt x="772460" y="2877635"/>
                </a:lnTo>
                <a:lnTo>
                  <a:pt x="1077260" y="2877635"/>
                </a:lnTo>
                <a:lnTo>
                  <a:pt x="1077260" y="2572835"/>
                </a:lnTo>
                <a:lnTo>
                  <a:pt x="772460" y="2572835"/>
                </a:lnTo>
                <a:close/>
                <a:moveTo>
                  <a:pt x="283175" y="2572835"/>
                </a:moveTo>
                <a:lnTo>
                  <a:pt x="283175" y="2877635"/>
                </a:lnTo>
                <a:lnTo>
                  <a:pt x="587975" y="2877635"/>
                </a:lnTo>
                <a:lnTo>
                  <a:pt x="587975" y="2572835"/>
                </a:lnTo>
                <a:lnTo>
                  <a:pt x="283175" y="2572835"/>
                </a:lnTo>
                <a:close/>
                <a:moveTo>
                  <a:pt x="1770216" y="2075527"/>
                </a:moveTo>
                <a:lnTo>
                  <a:pt x="1770216" y="2380327"/>
                </a:lnTo>
                <a:lnTo>
                  <a:pt x="2075016" y="2380327"/>
                </a:lnTo>
                <a:lnTo>
                  <a:pt x="2075016" y="2075527"/>
                </a:lnTo>
                <a:lnTo>
                  <a:pt x="1770216" y="2075527"/>
                </a:lnTo>
                <a:close/>
                <a:moveTo>
                  <a:pt x="1261745" y="2075527"/>
                </a:moveTo>
                <a:lnTo>
                  <a:pt x="1261745" y="2380327"/>
                </a:lnTo>
                <a:lnTo>
                  <a:pt x="1566545" y="2380327"/>
                </a:lnTo>
                <a:lnTo>
                  <a:pt x="1566545" y="2075527"/>
                </a:lnTo>
                <a:lnTo>
                  <a:pt x="1261745" y="2075527"/>
                </a:lnTo>
                <a:close/>
                <a:moveTo>
                  <a:pt x="772460" y="2075527"/>
                </a:moveTo>
                <a:lnTo>
                  <a:pt x="772460" y="2380327"/>
                </a:lnTo>
                <a:lnTo>
                  <a:pt x="1077260" y="2380327"/>
                </a:lnTo>
                <a:lnTo>
                  <a:pt x="1077260" y="2075527"/>
                </a:lnTo>
                <a:lnTo>
                  <a:pt x="772460" y="2075527"/>
                </a:lnTo>
                <a:close/>
                <a:moveTo>
                  <a:pt x="283175" y="2075527"/>
                </a:moveTo>
                <a:lnTo>
                  <a:pt x="283175" y="2380327"/>
                </a:lnTo>
                <a:lnTo>
                  <a:pt x="587975" y="2380327"/>
                </a:lnTo>
                <a:lnTo>
                  <a:pt x="587975" y="2075527"/>
                </a:lnTo>
                <a:lnTo>
                  <a:pt x="283175" y="2075527"/>
                </a:lnTo>
                <a:close/>
                <a:moveTo>
                  <a:pt x="1770216" y="1578222"/>
                </a:moveTo>
                <a:lnTo>
                  <a:pt x="1770216" y="1883022"/>
                </a:lnTo>
                <a:lnTo>
                  <a:pt x="2075016" y="1883022"/>
                </a:lnTo>
                <a:lnTo>
                  <a:pt x="2075016" y="1578222"/>
                </a:lnTo>
                <a:lnTo>
                  <a:pt x="1770216" y="1578222"/>
                </a:lnTo>
                <a:close/>
                <a:moveTo>
                  <a:pt x="1261745" y="1578222"/>
                </a:moveTo>
                <a:lnTo>
                  <a:pt x="1261745" y="1883022"/>
                </a:lnTo>
                <a:lnTo>
                  <a:pt x="1566545" y="1883022"/>
                </a:lnTo>
                <a:lnTo>
                  <a:pt x="1566545" y="1578222"/>
                </a:lnTo>
                <a:lnTo>
                  <a:pt x="1261745" y="1578222"/>
                </a:lnTo>
                <a:close/>
                <a:moveTo>
                  <a:pt x="772460" y="1578222"/>
                </a:moveTo>
                <a:lnTo>
                  <a:pt x="772460" y="1883022"/>
                </a:lnTo>
                <a:lnTo>
                  <a:pt x="1077260" y="1883022"/>
                </a:lnTo>
                <a:lnTo>
                  <a:pt x="1077260" y="1578222"/>
                </a:lnTo>
                <a:lnTo>
                  <a:pt x="772460" y="1578222"/>
                </a:lnTo>
                <a:close/>
                <a:moveTo>
                  <a:pt x="283175" y="1578222"/>
                </a:moveTo>
                <a:lnTo>
                  <a:pt x="283175" y="1883022"/>
                </a:lnTo>
                <a:lnTo>
                  <a:pt x="587975" y="1883022"/>
                </a:lnTo>
                <a:lnTo>
                  <a:pt x="587975" y="1578222"/>
                </a:lnTo>
                <a:lnTo>
                  <a:pt x="283175" y="1578222"/>
                </a:lnTo>
                <a:close/>
                <a:moveTo>
                  <a:pt x="1770216" y="1080917"/>
                </a:moveTo>
                <a:lnTo>
                  <a:pt x="1770216" y="1385717"/>
                </a:lnTo>
                <a:lnTo>
                  <a:pt x="2075016" y="1385717"/>
                </a:lnTo>
                <a:lnTo>
                  <a:pt x="2075016" y="1080917"/>
                </a:lnTo>
                <a:lnTo>
                  <a:pt x="1770216" y="1080917"/>
                </a:lnTo>
                <a:close/>
                <a:moveTo>
                  <a:pt x="1261745" y="1080917"/>
                </a:moveTo>
                <a:lnTo>
                  <a:pt x="1261745" y="1385717"/>
                </a:lnTo>
                <a:lnTo>
                  <a:pt x="1566545" y="1385717"/>
                </a:lnTo>
                <a:lnTo>
                  <a:pt x="1566545" y="1080917"/>
                </a:lnTo>
                <a:lnTo>
                  <a:pt x="1261745" y="1080917"/>
                </a:lnTo>
                <a:close/>
                <a:moveTo>
                  <a:pt x="772460" y="1080917"/>
                </a:moveTo>
                <a:lnTo>
                  <a:pt x="772460" y="1385717"/>
                </a:lnTo>
                <a:lnTo>
                  <a:pt x="1077260" y="1385717"/>
                </a:lnTo>
                <a:lnTo>
                  <a:pt x="1077260" y="1080917"/>
                </a:lnTo>
                <a:lnTo>
                  <a:pt x="772460" y="1080917"/>
                </a:lnTo>
                <a:close/>
                <a:moveTo>
                  <a:pt x="283175" y="1080917"/>
                </a:moveTo>
                <a:lnTo>
                  <a:pt x="283175" y="1385717"/>
                </a:lnTo>
                <a:lnTo>
                  <a:pt x="587975" y="1385717"/>
                </a:lnTo>
                <a:lnTo>
                  <a:pt x="587975" y="1080917"/>
                </a:lnTo>
                <a:lnTo>
                  <a:pt x="283175" y="1080917"/>
                </a:lnTo>
                <a:close/>
                <a:moveTo>
                  <a:pt x="1770216" y="583612"/>
                </a:moveTo>
                <a:lnTo>
                  <a:pt x="1770216" y="888412"/>
                </a:lnTo>
                <a:lnTo>
                  <a:pt x="2075016" y="888412"/>
                </a:lnTo>
                <a:lnTo>
                  <a:pt x="2075016" y="583612"/>
                </a:lnTo>
                <a:lnTo>
                  <a:pt x="1770216" y="583612"/>
                </a:lnTo>
                <a:close/>
                <a:moveTo>
                  <a:pt x="1261745" y="583612"/>
                </a:moveTo>
                <a:lnTo>
                  <a:pt x="1261745" y="888412"/>
                </a:lnTo>
                <a:lnTo>
                  <a:pt x="1566545" y="888412"/>
                </a:lnTo>
                <a:lnTo>
                  <a:pt x="1566545" y="583612"/>
                </a:lnTo>
                <a:lnTo>
                  <a:pt x="1261745" y="583612"/>
                </a:lnTo>
                <a:close/>
                <a:moveTo>
                  <a:pt x="772460" y="583612"/>
                </a:moveTo>
                <a:lnTo>
                  <a:pt x="772460" y="888412"/>
                </a:lnTo>
                <a:lnTo>
                  <a:pt x="1077260" y="888412"/>
                </a:lnTo>
                <a:lnTo>
                  <a:pt x="1077260" y="583612"/>
                </a:lnTo>
                <a:lnTo>
                  <a:pt x="772460" y="583612"/>
                </a:lnTo>
                <a:close/>
                <a:moveTo>
                  <a:pt x="283175" y="583612"/>
                </a:moveTo>
                <a:lnTo>
                  <a:pt x="283175" y="888412"/>
                </a:lnTo>
                <a:lnTo>
                  <a:pt x="587975" y="888412"/>
                </a:lnTo>
                <a:lnTo>
                  <a:pt x="587975" y="583612"/>
                </a:lnTo>
                <a:lnTo>
                  <a:pt x="283175" y="583612"/>
                </a:lnTo>
                <a:close/>
                <a:moveTo>
                  <a:pt x="1770216" y="86309"/>
                </a:moveTo>
                <a:lnTo>
                  <a:pt x="1770216" y="391108"/>
                </a:lnTo>
                <a:lnTo>
                  <a:pt x="2075016" y="391108"/>
                </a:lnTo>
                <a:lnTo>
                  <a:pt x="2075016" y="86309"/>
                </a:lnTo>
                <a:lnTo>
                  <a:pt x="1770216" y="86309"/>
                </a:lnTo>
                <a:close/>
                <a:moveTo>
                  <a:pt x="1261745" y="86309"/>
                </a:moveTo>
                <a:lnTo>
                  <a:pt x="1261745" y="391108"/>
                </a:lnTo>
                <a:lnTo>
                  <a:pt x="1566545" y="391108"/>
                </a:lnTo>
                <a:lnTo>
                  <a:pt x="1566545" y="86309"/>
                </a:lnTo>
                <a:lnTo>
                  <a:pt x="1261745" y="86309"/>
                </a:lnTo>
                <a:close/>
                <a:moveTo>
                  <a:pt x="772460" y="86309"/>
                </a:moveTo>
                <a:lnTo>
                  <a:pt x="772460" y="391108"/>
                </a:lnTo>
                <a:lnTo>
                  <a:pt x="1077260" y="391108"/>
                </a:lnTo>
                <a:lnTo>
                  <a:pt x="1077260" y="86309"/>
                </a:lnTo>
                <a:lnTo>
                  <a:pt x="772460" y="86309"/>
                </a:lnTo>
                <a:close/>
                <a:moveTo>
                  <a:pt x="283175" y="86309"/>
                </a:moveTo>
                <a:lnTo>
                  <a:pt x="283175" y="391108"/>
                </a:lnTo>
                <a:lnTo>
                  <a:pt x="587975" y="391108"/>
                </a:lnTo>
                <a:lnTo>
                  <a:pt x="587975" y="86309"/>
                </a:lnTo>
                <a:lnTo>
                  <a:pt x="283175" y="86309"/>
                </a:lnTo>
                <a:close/>
                <a:moveTo>
                  <a:pt x="0" y="0"/>
                </a:moveTo>
                <a:lnTo>
                  <a:pt x="2316351" y="0"/>
                </a:lnTo>
                <a:lnTo>
                  <a:pt x="2316351" y="3703803"/>
                </a:lnTo>
                <a:lnTo>
                  <a:pt x="0" y="3703803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0"/>
          <p:cNvSpPr/>
          <p:nvPr/>
        </p:nvSpPr>
        <p:spPr>
          <a:xfrm>
            <a:off x="4640400" y="2685960"/>
            <a:ext cx="2314440" cy="330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1"/>
          <p:cNvSpPr/>
          <p:nvPr/>
        </p:nvSpPr>
        <p:spPr>
          <a:xfrm>
            <a:off x="2322360" y="1230480"/>
            <a:ext cx="2318040" cy="330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74"/>
          <p:cNvSpPr/>
          <p:nvPr/>
        </p:nvSpPr>
        <p:spPr>
          <a:xfrm>
            <a:off x="2322360" y="1481040"/>
            <a:ext cx="2318040" cy="5227560"/>
          </a:xfrm>
          <a:custGeom>
            <a:avLst/>
            <a:gdLst>
              <a:gd name="textAreaLeft" fmla="*/ 0 w 2318040"/>
              <a:gd name="textAreaRight" fmla="*/ 2318400 w 2318040"/>
              <a:gd name="textAreaTop" fmla="*/ 0 h 5227560"/>
              <a:gd name="textAreaBottom" fmla="*/ 5227560 h 5227560"/>
            </a:gdLst>
            <a:ahLst/>
            <a:rect l="textAreaLeft" t="textAreaTop" r="textAreaRight" b="textAreaBottom"/>
            <a:pathLst>
              <a:path w="2316351" h="5226677">
                <a:moveTo>
                  <a:pt x="1770216" y="4095709"/>
                </a:moveTo>
                <a:lnTo>
                  <a:pt x="1770216" y="4400509"/>
                </a:lnTo>
                <a:lnTo>
                  <a:pt x="2075016" y="4400509"/>
                </a:lnTo>
                <a:lnTo>
                  <a:pt x="2075016" y="4095709"/>
                </a:lnTo>
                <a:lnTo>
                  <a:pt x="1770216" y="4095709"/>
                </a:lnTo>
                <a:close/>
                <a:moveTo>
                  <a:pt x="1261745" y="4095709"/>
                </a:moveTo>
                <a:lnTo>
                  <a:pt x="1261745" y="4400509"/>
                </a:lnTo>
                <a:lnTo>
                  <a:pt x="1566545" y="4400509"/>
                </a:lnTo>
                <a:lnTo>
                  <a:pt x="1566545" y="4095709"/>
                </a:lnTo>
                <a:lnTo>
                  <a:pt x="1261745" y="4095709"/>
                </a:lnTo>
                <a:close/>
                <a:moveTo>
                  <a:pt x="772460" y="4095709"/>
                </a:moveTo>
                <a:lnTo>
                  <a:pt x="772460" y="4400509"/>
                </a:lnTo>
                <a:lnTo>
                  <a:pt x="1077260" y="4400509"/>
                </a:lnTo>
                <a:lnTo>
                  <a:pt x="1077260" y="4095709"/>
                </a:lnTo>
                <a:lnTo>
                  <a:pt x="772460" y="4095709"/>
                </a:lnTo>
                <a:close/>
                <a:moveTo>
                  <a:pt x="283175" y="4095709"/>
                </a:moveTo>
                <a:lnTo>
                  <a:pt x="283175" y="4400509"/>
                </a:lnTo>
                <a:lnTo>
                  <a:pt x="587975" y="4400509"/>
                </a:lnTo>
                <a:lnTo>
                  <a:pt x="587975" y="4095709"/>
                </a:lnTo>
                <a:lnTo>
                  <a:pt x="283175" y="4095709"/>
                </a:lnTo>
                <a:close/>
                <a:moveTo>
                  <a:pt x="1770216" y="3598401"/>
                </a:moveTo>
                <a:lnTo>
                  <a:pt x="1770216" y="3903201"/>
                </a:lnTo>
                <a:lnTo>
                  <a:pt x="2075016" y="3903201"/>
                </a:lnTo>
                <a:lnTo>
                  <a:pt x="2075016" y="3598401"/>
                </a:lnTo>
                <a:lnTo>
                  <a:pt x="1770216" y="3598401"/>
                </a:lnTo>
                <a:close/>
                <a:moveTo>
                  <a:pt x="1261745" y="3598401"/>
                </a:moveTo>
                <a:lnTo>
                  <a:pt x="1261745" y="3903201"/>
                </a:lnTo>
                <a:lnTo>
                  <a:pt x="1566545" y="3903201"/>
                </a:lnTo>
                <a:lnTo>
                  <a:pt x="1566545" y="3598401"/>
                </a:lnTo>
                <a:lnTo>
                  <a:pt x="1261745" y="3598401"/>
                </a:lnTo>
                <a:close/>
                <a:moveTo>
                  <a:pt x="772460" y="3598401"/>
                </a:moveTo>
                <a:lnTo>
                  <a:pt x="772460" y="3903201"/>
                </a:lnTo>
                <a:lnTo>
                  <a:pt x="1077260" y="3903201"/>
                </a:lnTo>
                <a:lnTo>
                  <a:pt x="1077260" y="3598401"/>
                </a:lnTo>
                <a:lnTo>
                  <a:pt x="772460" y="3598401"/>
                </a:lnTo>
                <a:close/>
                <a:moveTo>
                  <a:pt x="283175" y="3598401"/>
                </a:moveTo>
                <a:lnTo>
                  <a:pt x="283175" y="3903201"/>
                </a:lnTo>
                <a:lnTo>
                  <a:pt x="587975" y="3903201"/>
                </a:lnTo>
                <a:lnTo>
                  <a:pt x="587975" y="3598401"/>
                </a:lnTo>
                <a:lnTo>
                  <a:pt x="283175" y="3598401"/>
                </a:lnTo>
                <a:close/>
                <a:moveTo>
                  <a:pt x="1770216" y="3101096"/>
                </a:moveTo>
                <a:lnTo>
                  <a:pt x="1770216" y="3405896"/>
                </a:lnTo>
                <a:lnTo>
                  <a:pt x="2075016" y="3405896"/>
                </a:lnTo>
                <a:lnTo>
                  <a:pt x="2075016" y="3101096"/>
                </a:lnTo>
                <a:lnTo>
                  <a:pt x="1770216" y="3101096"/>
                </a:lnTo>
                <a:close/>
                <a:moveTo>
                  <a:pt x="1261745" y="3101096"/>
                </a:moveTo>
                <a:lnTo>
                  <a:pt x="1261745" y="3405896"/>
                </a:lnTo>
                <a:lnTo>
                  <a:pt x="1566545" y="3405896"/>
                </a:lnTo>
                <a:lnTo>
                  <a:pt x="1566545" y="3101096"/>
                </a:lnTo>
                <a:lnTo>
                  <a:pt x="1261745" y="3101096"/>
                </a:lnTo>
                <a:close/>
                <a:moveTo>
                  <a:pt x="772460" y="3101096"/>
                </a:moveTo>
                <a:lnTo>
                  <a:pt x="772460" y="3405896"/>
                </a:lnTo>
                <a:lnTo>
                  <a:pt x="1077260" y="3405896"/>
                </a:lnTo>
                <a:lnTo>
                  <a:pt x="1077260" y="3101096"/>
                </a:lnTo>
                <a:lnTo>
                  <a:pt x="772460" y="3101096"/>
                </a:lnTo>
                <a:close/>
                <a:moveTo>
                  <a:pt x="283175" y="3101096"/>
                </a:moveTo>
                <a:lnTo>
                  <a:pt x="283175" y="3405896"/>
                </a:lnTo>
                <a:lnTo>
                  <a:pt x="587975" y="3405896"/>
                </a:lnTo>
                <a:lnTo>
                  <a:pt x="587975" y="3101096"/>
                </a:lnTo>
                <a:lnTo>
                  <a:pt x="283175" y="3101096"/>
                </a:lnTo>
                <a:close/>
                <a:moveTo>
                  <a:pt x="1770216" y="2603791"/>
                </a:moveTo>
                <a:lnTo>
                  <a:pt x="1770216" y="2908591"/>
                </a:lnTo>
                <a:lnTo>
                  <a:pt x="2075016" y="2908591"/>
                </a:lnTo>
                <a:lnTo>
                  <a:pt x="2075016" y="2603791"/>
                </a:lnTo>
                <a:lnTo>
                  <a:pt x="1770216" y="2603791"/>
                </a:lnTo>
                <a:close/>
                <a:moveTo>
                  <a:pt x="1261745" y="2603791"/>
                </a:moveTo>
                <a:lnTo>
                  <a:pt x="1261745" y="2908591"/>
                </a:lnTo>
                <a:lnTo>
                  <a:pt x="1566545" y="2908591"/>
                </a:lnTo>
                <a:lnTo>
                  <a:pt x="1566545" y="2603791"/>
                </a:lnTo>
                <a:lnTo>
                  <a:pt x="1261745" y="2603791"/>
                </a:lnTo>
                <a:close/>
                <a:moveTo>
                  <a:pt x="772460" y="2603791"/>
                </a:moveTo>
                <a:lnTo>
                  <a:pt x="772460" y="2908591"/>
                </a:lnTo>
                <a:lnTo>
                  <a:pt x="1077260" y="2908591"/>
                </a:lnTo>
                <a:lnTo>
                  <a:pt x="1077260" y="2603791"/>
                </a:lnTo>
                <a:lnTo>
                  <a:pt x="772460" y="2603791"/>
                </a:lnTo>
                <a:close/>
                <a:moveTo>
                  <a:pt x="283175" y="2603791"/>
                </a:moveTo>
                <a:lnTo>
                  <a:pt x="283175" y="2908591"/>
                </a:lnTo>
                <a:lnTo>
                  <a:pt x="587975" y="2908591"/>
                </a:lnTo>
                <a:lnTo>
                  <a:pt x="587975" y="2603791"/>
                </a:lnTo>
                <a:lnTo>
                  <a:pt x="283175" y="2603791"/>
                </a:lnTo>
                <a:close/>
                <a:moveTo>
                  <a:pt x="1770216" y="2106486"/>
                </a:moveTo>
                <a:lnTo>
                  <a:pt x="1770216" y="2411286"/>
                </a:lnTo>
                <a:lnTo>
                  <a:pt x="2075016" y="2411286"/>
                </a:lnTo>
                <a:lnTo>
                  <a:pt x="2075016" y="2106486"/>
                </a:lnTo>
                <a:lnTo>
                  <a:pt x="1770216" y="2106486"/>
                </a:lnTo>
                <a:close/>
                <a:moveTo>
                  <a:pt x="1261745" y="2106486"/>
                </a:moveTo>
                <a:lnTo>
                  <a:pt x="1261745" y="2411286"/>
                </a:lnTo>
                <a:lnTo>
                  <a:pt x="1566545" y="2411286"/>
                </a:lnTo>
                <a:lnTo>
                  <a:pt x="1566545" y="2106486"/>
                </a:lnTo>
                <a:lnTo>
                  <a:pt x="1261745" y="2106486"/>
                </a:lnTo>
                <a:close/>
                <a:moveTo>
                  <a:pt x="772460" y="2106486"/>
                </a:moveTo>
                <a:lnTo>
                  <a:pt x="772460" y="2411286"/>
                </a:lnTo>
                <a:lnTo>
                  <a:pt x="1077260" y="2411286"/>
                </a:lnTo>
                <a:lnTo>
                  <a:pt x="1077260" y="2106486"/>
                </a:lnTo>
                <a:lnTo>
                  <a:pt x="772460" y="2106486"/>
                </a:lnTo>
                <a:close/>
                <a:moveTo>
                  <a:pt x="283175" y="2106486"/>
                </a:moveTo>
                <a:lnTo>
                  <a:pt x="283175" y="2411286"/>
                </a:lnTo>
                <a:lnTo>
                  <a:pt x="587975" y="2411286"/>
                </a:lnTo>
                <a:lnTo>
                  <a:pt x="587975" y="2106486"/>
                </a:lnTo>
                <a:lnTo>
                  <a:pt x="283175" y="2106486"/>
                </a:lnTo>
                <a:close/>
                <a:moveTo>
                  <a:pt x="1770216" y="1609183"/>
                </a:moveTo>
                <a:lnTo>
                  <a:pt x="1770216" y="1913982"/>
                </a:lnTo>
                <a:lnTo>
                  <a:pt x="2075016" y="1913982"/>
                </a:lnTo>
                <a:lnTo>
                  <a:pt x="2075016" y="1609183"/>
                </a:lnTo>
                <a:lnTo>
                  <a:pt x="1770216" y="1609183"/>
                </a:lnTo>
                <a:close/>
                <a:moveTo>
                  <a:pt x="1261745" y="1609183"/>
                </a:moveTo>
                <a:lnTo>
                  <a:pt x="1261745" y="1913982"/>
                </a:lnTo>
                <a:lnTo>
                  <a:pt x="1566545" y="1913982"/>
                </a:lnTo>
                <a:lnTo>
                  <a:pt x="1566545" y="1609183"/>
                </a:lnTo>
                <a:lnTo>
                  <a:pt x="1261745" y="1609183"/>
                </a:lnTo>
                <a:close/>
                <a:moveTo>
                  <a:pt x="772460" y="1609183"/>
                </a:moveTo>
                <a:lnTo>
                  <a:pt x="772460" y="1913982"/>
                </a:lnTo>
                <a:lnTo>
                  <a:pt x="1077260" y="1913982"/>
                </a:lnTo>
                <a:lnTo>
                  <a:pt x="1077260" y="1609183"/>
                </a:lnTo>
                <a:lnTo>
                  <a:pt x="772460" y="1609183"/>
                </a:lnTo>
                <a:close/>
                <a:moveTo>
                  <a:pt x="283175" y="1609183"/>
                </a:moveTo>
                <a:lnTo>
                  <a:pt x="283175" y="1913982"/>
                </a:lnTo>
                <a:lnTo>
                  <a:pt x="587975" y="1913982"/>
                </a:lnTo>
                <a:lnTo>
                  <a:pt x="587975" y="1609183"/>
                </a:lnTo>
                <a:lnTo>
                  <a:pt x="283175" y="1609183"/>
                </a:lnTo>
                <a:close/>
                <a:moveTo>
                  <a:pt x="1770216" y="1111881"/>
                </a:moveTo>
                <a:lnTo>
                  <a:pt x="1770216" y="1416681"/>
                </a:lnTo>
                <a:lnTo>
                  <a:pt x="2075016" y="1416681"/>
                </a:lnTo>
                <a:lnTo>
                  <a:pt x="2075016" y="1111881"/>
                </a:lnTo>
                <a:lnTo>
                  <a:pt x="1770216" y="1111881"/>
                </a:lnTo>
                <a:close/>
                <a:moveTo>
                  <a:pt x="1261745" y="1111881"/>
                </a:moveTo>
                <a:lnTo>
                  <a:pt x="1261745" y="1416681"/>
                </a:lnTo>
                <a:lnTo>
                  <a:pt x="1566545" y="1416681"/>
                </a:lnTo>
                <a:lnTo>
                  <a:pt x="1566545" y="1111881"/>
                </a:lnTo>
                <a:lnTo>
                  <a:pt x="1261745" y="1111881"/>
                </a:lnTo>
                <a:close/>
                <a:moveTo>
                  <a:pt x="772460" y="1111881"/>
                </a:moveTo>
                <a:lnTo>
                  <a:pt x="772460" y="1416681"/>
                </a:lnTo>
                <a:lnTo>
                  <a:pt x="1077260" y="1416681"/>
                </a:lnTo>
                <a:lnTo>
                  <a:pt x="1077260" y="1111881"/>
                </a:lnTo>
                <a:lnTo>
                  <a:pt x="772460" y="1111881"/>
                </a:lnTo>
                <a:close/>
                <a:moveTo>
                  <a:pt x="283175" y="1111881"/>
                </a:moveTo>
                <a:lnTo>
                  <a:pt x="283175" y="1416681"/>
                </a:lnTo>
                <a:lnTo>
                  <a:pt x="587975" y="1416681"/>
                </a:lnTo>
                <a:lnTo>
                  <a:pt x="587975" y="1111881"/>
                </a:lnTo>
                <a:lnTo>
                  <a:pt x="283175" y="1111881"/>
                </a:lnTo>
                <a:close/>
                <a:moveTo>
                  <a:pt x="1770216" y="614572"/>
                </a:moveTo>
                <a:lnTo>
                  <a:pt x="1770216" y="919374"/>
                </a:lnTo>
                <a:lnTo>
                  <a:pt x="2075016" y="919374"/>
                </a:lnTo>
                <a:lnTo>
                  <a:pt x="2075016" y="614572"/>
                </a:lnTo>
                <a:lnTo>
                  <a:pt x="1770216" y="614572"/>
                </a:lnTo>
                <a:close/>
                <a:moveTo>
                  <a:pt x="1261745" y="614572"/>
                </a:moveTo>
                <a:lnTo>
                  <a:pt x="1261745" y="919374"/>
                </a:lnTo>
                <a:lnTo>
                  <a:pt x="1566545" y="919374"/>
                </a:lnTo>
                <a:lnTo>
                  <a:pt x="1566545" y="614572"/>
                </a:lnTo>
                <a:lnTo>
                  <a:pt x="1261745" y="614572"/>
                </a:lnTo>
                <a:close/>
                <a:moveTo>
                  <a:pt x="772460" y="614572"/>
                </a:moveTo>
                <a:lnTo>
                  <a:pt x="772460" y="919374"/>
                </a:lnTo>
                <a:lnTo>
                  <a:pt x="1077260" y="919374"/>
                </a:lnTo>
                <a:lnTo>
                  <a:pt x="1077260" y="614572"/>
                </a:lnTo>
                <a:lnTo>
                  <a:pt x="772460" y="614572"/>
                </a:lnTo>
                <a:close/>
                <a:moveTo>
                  <a:pt x="283175" y="614572"/>
                </a:moveTo>
                <a:lnTo>
                  <a:pt x="283175" y="919374"/>
                </a:lnTo>
                <a:lnTo>
                  <a:pt x="587975" y="919374"/>
                </a:lnTo>
                <a:lnTo>
                  <a:pt x="587975" y="614572"/>
                </a:lnTo>
                <a:lnTo>
                  <a:pt x="283175" y="614572"/>
                </a:lnTo>
                <a:close/>
                <a:moveTo>
                  <a:pt x="1770216" y="117270"/>
                </a:moveTo>
                <a:lnTo>
                  <a:pt x="1770216" y="422070"/>
                </a:lnTo>
                <a:lnTo>
                  <a:pt x="2075016" y="422070"/>
                </a:lnTo>
                <a:lnTo>
                  <a:pt x="2075016" y="117270"/>
                </a:lnTo>
                <a:lnTo>
                  <a:pt x="1770216" y="117270"/>
                </a:lnTo>
                <a:close/>
                <a:moveTo>
                  <a:pt x="1261745" y="117270"/>
                </a:moveTo>
                <a:lnTo>
                  <a:pt x="1261745" y="422070"/>
                </a:lnTo>
                <a:lnTo>
                  <a:pt x="1566545" y="422070"/>
                </a:lnTo>
                <a:lnTo>
                  <a:pt x="1566545" y="117270"/>
                </a:lnTo>
                <a:lnTo>
                  <a:pt x="1261745" y="117270"/>
                </a:lnTo>
                <a:close/>
                <a:moveTo>
                  <a:pt x="772460" y="117270"/>
                </a:moveTo>
                <a:lnTo>
                  <a:pt x="772460" y="422070"/>
                </a:lnTo>
                <a:lnTo>
                  <a:pt x="1077260" y="422070"/>
                </a:lnTo>
                <a:lnTo>
                  <a:pt x="1077260" y="117270"/>
                </a:lnTo>
                <a:lnTo>
                  <a:pt x="772460" y="117270"/>
                </a:lnTo>
                <a:close/>
                <a:moveTo>
                  <a:pt x="283175" y="117270"/>
                </a:moveTo>
                <a:lnTo>
                  <a:pt x="283175" y="422070"/>
                </a:lnTo>
                <a:lnTo>
                  <a:pt x="587975" y="422070"/>
                </a:lnTo>
                <a:lnTo>
                  <a:pt x="587975" y="117270"/>
                </a:lnTo>
                <a:lnTo>
                  <a:pt x="283175" y="117270"/>
                </a:lnTo>
                <a:close/>
                <a:moveTo>
                  <a:pt x="0" y="0"/>
                </a:moveTo>
                <a:lnTo>
                  <a:pt x="2316351" y="0"/>
                </a:lnTo>
                <a:lnTo>
                  <a:pt x="2316351" y="5226677"/>
                </a:lnTo>
                <a:lnTo>
                  <a:pt x="0" y="5226677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5"/>
          <p:cNvSpPr/>
          <p:nvPr/>
        </p:nvSpPr>
        <p:spPr>
          <a:xfrm flipH="1">
            <a:off x="9055080" y="5199120"/>
            <a:ext cx="309600" cy="309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76"/>
          <p:cNvSpPr/>
          <p:nvPr/>
        </p:nvSpPr>
        <p:spPr>
          <a:xfrm flipH="1" rot="20428200">
            <a:off x="8856360" y="5555880"/>
            <a:ext cx="331560" cy="363600"/>
          </a:xfrm>
          <a:custGeom>
            <a:avLst/>
            <a:gdLst>
              <a:gd name="textAreaLeft" fmla="*/ -360 w 331560"/>
              <a:gd name="textAreaRight" fmla="*/ 331560 w 331560"/>
              <a:gd name="textAreaTop" fmla="*/ 0 h 363600"/>
              <a:gd name="textAreaBottom" fmla="*/ 363600 h 36360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78"/>
          <p:cNvSpPr/>
          <p:nvPr/>
        </p:nvSpPr>
        <p:spPr>
          <a:xfrm rot="1465800">
            <a:off x="9021600" y="5770440"/>
            <a:ext cx="389160" cy="443160"/>
          </a:xfrm>
          <a:custGeom>
            <a:avLst/>
            <a:gdLst>
              <a:gd name="textAreaLeft" fmla="*/ 0 w 389160"/>
              <a:gd name="textAreaRight" fmla="*/ 389520 w 389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79"/>
          <p:cNvSpPr/>
          <p:nvPr/>
        </p:nvSpPr>
        <p:spPr>
          <a:xfrm flipV="1" rot="6805800">
            <a:off x="9232920" y="5507640"/>
            <a:ext cx="201600" cy="379440"/>
          </a:xfrm>
          <a:custGeom>
            <a:avLst/>
            <a:gdLst>
              <a:gd name="textAreaLeft" fmla="*/ 0 w 201600"/>
              <a:gd name="textAreaRight" fmla="*/ 201960 w 201600"/>
              <a:gd name="textAreaTop" fmla="*/ 360 h 379440"/>
              <a:gd name="textAreaBottom" fmla="*/ 380160 h 37944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8763480" y="5866560"/>
            <a:ext cx="333360" cy="266400"/>
            <a:chOff x="8763480" y="5866560"/>
            <a:chExt cx="333360" cy="266400"/>
          </a:xfrm>
        </p:grpSpPr>
        <p:sp>
          <p:nvSpPr>
            <p:cNvPr id="137" name="圆角矩形 77"/>
            <p:cNvSpPr/>
            <p:nvPr/>
          </p:nvSpPr>
          <p:spPr>
            <a:xfrm flipH="1" rot="21150600">
              <a:off x="8774280" y="5920920"/>
              <a:ext cx="311040" cy="192600"/>
            </a:xfrm>
            <a:prstGeom prst="roundRect">
              <a:avLst>
                <a:gd name="adj" fmla="val 10148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80"/>
            <p:cNvSpPr/>
            <p:nvPr/>
          </p:nvSpPr>
          <p:spPr>
            <a:xfrm flipH="1" rot="19962600">
              <a:off x="8868240" y="5885640"/>
              <a:ext cx="110520" cy="111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圆角矩形 23"/>
          <p:cNvSpPr/>
          <p:nvPr/>
        </p:nvSpPr>
        <p:spPr>
          <a:xfrm flipH="1">
            <a:off x="9041760" y="5505480"/>
            <a:ext cx="228600" cy="43812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82"/>
          <p:cNvSpPr/>
          <p:nvPr/>
        </p:nvSpPr>
        <p:spPr>
          <a:xfrm rot="2967600">
            <a:off x="8872920" y="5755320"/>
            <a:ext cx="388800" cy="447480"/>
          </a:xfrm>
          <a:custGeom>
            <a:avLst/>
            <a:gdLst>
              <a:gd name="textAreaLeft" fmla="*/ 0 w 388800"/>
              <a:gd name="textAreaRight" fmla="*/ 389160 w 38880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7"/>
          <p:cNvSpPr/>
          <p:nvPr/>
        </p:nvSpPr>
        <p:spPr>
          <a:xfrm>
            <a:off x="9875880" y="5210280"/>
            <a:ext cx="290520" cy="290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88"/>
          <p:cNvSpPr/>
          <p:nvPr/>
        </p:nvSpPr>
        <p:spPr>
          <a:xfrm rot="1171800">
            <a:off x="10064880" y="5543640"/>
            <a:ext cx="334800" cy="363600"/>
          </a:xfrm>
          <a:custGeom>
            <a:avLst/>
            <a:gdLst>
              <a:gd name="textAreaLeft" fmla="*/ 0 w 334800"/>
              <a:gd name="textAreaRight" fmla="*/ 335160 w 334800"/>
              <a:gd name="textAreaTop" fmla="*/ 0 h 363600"/>
              <a:gd name="textAreaBottom" fmla="*/ 363600 h 36360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89"/>
          <p:cNvSpPr/>
          <p:nvPr/>
        </p:nvSpPr>
        <p:spPr>
          <a:xfrm flipH="1" rot="20134200">
            <a:off x="9848160" y="5762160"/>
            <a:ext cx="391680" cy="444600"/>
          </a:xfrm>
          <a:custGeom>
            <a:avLst/>
            <a:gdLst>
              <a:gd name="textAreaLeft" fmla="*/ 360 w 391680"/>
              <a:gd name="textAreaRight" fmla="*/ 392400 w 39168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0"/>
          <p:cNvSpPr/>
          <p:nvPr/>
        </p:nvSpPr>
        <p:spPr>
          <a:xfrm flipH="1" flipV="1" rot="16435200">
            <a:off x="9795960" y="5428800"/>
            <a:ext cx="200160" cy="378000"/>
          </a:xfrm>
          <a:custGeom>
            <a:avLst/>
            <a:gdLst>
              <a:gd name="textAreaLeft" fmla="*/ 360 w 200160"/>
              <a:gd name="textAreaRight" fmla="*/ 200880 w 200160"/>
              <a:gd name="textAreaTop" fmla="*/ 360 h 378000"/>
              <a:gd name="textAreaBottom" fmla="*/ 378720 h 37800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23"/>
          <p:cNvSpPr/>
          <p:nvPr/>
        </p:nvSpPr>
        <p:spPr>
          <a:xfrm>
            <a:off x="9987120" y="5499000"/>
            <a:ext cx="230040" cy="436680"/>
          </a:xfrm>
          <a:custGeom>
            <a:avLst/>
            <a:gdLst>
              <a:gd name="textAreaLeft" fmla="*/ 0 w 230040"/>
              <a:gd name="textAreaRight" fmla="*/ 230400 w 2300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95"/>
          <p:cNvSpPr/>
          <p:nvPr/>
        </p:nvSpPr>
        <p:spPr>
          <a:xfrm flipH="1" rot="18632400">
            <a:off x="9995400" y="5748120"/>
            <a:ext cx="390600" cy="44712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447120"/>
              <a:gd name="textAreaBottom" fmla="*/ 447480 h 44712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梯形 97"/>
          <p:cNvSpPr/>
          <p:nvPr/>
        </p:nvSpPr>
        <p:spPr>
          <a:xfrm flipV="1" rot="803400">
            <a:off x="9891360" y="5653800"/>
            <a:ext cx="376200" cy="398520"/>
          </a:xfrm>
          <a:custGeom>
            <a:avLst/>
            <a:gdLst>
              <a:gd name="textAreaLeft" fmla="*/ 78120 w 376200"/>
              <a:gd name="textAreaRight" fmla="*/ 298080 w 376200"/>
              <a:gd name="textAreaTop" fmla="*/ 82800 h 398520"/>
              <a:gd name="textAreaBottom" fmla="*/ 31572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8"/>
          <p:cNvSpPr/>
          <p:nvPr/>
        </p:nvSpPr>
        <p:spPr>
          <a:xfrm>
            <a:off x="0" y="6230880"/>
            <a:ext cx="12192120" cy="639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椭圆 3"/>
          <p:cNvSpPr/>
          <p:nvPr/>
        </p:nvSpPr>
        <p:spPr>
          <a:xfrm flipH="1">
            <a:off x="3934800" y="1612800"/>
            <a:ext cx="1406520" cy="14083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4"/>
          <p:cNvSpPr/>
          <p:nvPr/>
        </p:nvSpPr>
        <p:spPr>
          <a:xfrm flipH="1" rot="20428200">
            <a:off x="3022560" y="3235320"/>
            <a:ext cx="1519200" cy="1655280"/>
          </a:xfrm>
          <a:custGeom>
            <a:avLst/>
            <a:gdLst>
              <a:gd name="textAreaLeft" fmla="*/ 360 w 1519200"/>
              <a:gd name="textAreaRight" fmla="*/ 1519920 w 1519200"/>
              <a:gd name="textAreaTop" fmla="*/ 0 h 1655280"/>
              <a:gd name="textAreaBottom" fmla="*/ 1655640 h 1655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5"/>
          <p:cNvSpPr/>
          <p:nvPr/>
        </p:nvSpPr>
        <p:spPr>
          <a:xfrm rot="1465800">
            <a:off x="3776400" y="4211640"/>
            <a:ext cx="1773000" cy="201780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 flipV="1" rot="6805800">
            <a:off x="4744080" y="3026160"/>
            <a:ext cx="917640" cy="1722240"/>
          </a:xfrm>
          <a:custGeom>
            <a:avLst/>
            <a:gdLst>
              <a:gd name="textAreaLeft" fmla="*/ 0 w 917640"/>
              <a:gd name="textAreaRight" fmla="*/ 918000 w 917640"/>
              <a:gd name="textAreaTop" fmla="*/ 360 h 1722240"/>
              <a:gd name="textAreaBottom" fmla="*/ 1722960 h 172224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2607120" y="4653000"/>
            <a:ext cx="1514520" cy="1207800"/>
            <a:chOff x="2607120" y="4653000"/>
            <a:chExt cx="1514520" cy="1207800"/>
          </a:xfrm>
        </p:grpSpPr>
        <p:sp>
          <p:nvSpPr>
            <p:cNvPr id="154" name="圆角矩形 8"/>
            <p:cNvSpPr/>
            <p:nvPr/>
          </p:nvSpPr>
          <p:spPr>
            <a:xfrm flipH="1" rot="21150600">
              <a:off x="2657160" y="4901040"/>
              <a:ext cx="1413000" cy="871200"/>
            </a:xfrm>
            <a:prstGeom prst="roundRect">
              <a:avLst>
                <a:gd name="adj" fmla="val 10148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9"/>
            <p:cNvSpPr/>
            <p:nvPr/>
          </p:nvSpPr>
          <p:spPr>
            <a:xfrm flipH="1" rot="19962600">
              <a:off x="3085560" y="4740120"/>
              <a:ext cx="502560" cy="5032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圆角矩形 23"/>
          <p:cNvSpPr/>
          <p:nvPr/>
        </p:nvSpPr>
        <p:spPr>
          <a:xfrm flipH="1">
            <a:off x="3871080" y="3006720"/>
            <a:ext cx="1047960" cy="1990800"/>
          </a:xfrm>
          <a:custGeom>
            <a:avLst/>
            <a:gdLst>
              <a:gd name="textAreaLeft" fmla="*/ -360 w 1047960"/>
              <a:gd name="textAreaRight" fmla="*/ 1047960 w 104796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11"/>
          <p:cNvSpPr/>
          <p:nvPr/>
        </p:nvSpPr>
        <p:spPr>
          <a:xfrm rot="2967600">
            <a:off x="3101400" y="4143240"/>
            <a:ext cx="1773360" cy="20430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2043000"/>
              <a:gd name="textAreaBottom" fmla="*/ 2043360 h 204300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2"/>
          <p:cNvSpPr/>
          <p:nvPr/>
        </p:nvSpPr>
        <p:spPr>
          <a:xfrm>
            <a:off x="7669080" y="1663560"/>
            <a:ext cx="1322640" cy="1322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21"/>
          <p:cNvSpPr/>
          <p:nvPr/>
        </p:nvSpPr>
        <p:spPr>
          <a:xfrm rot="1171800">
            <a:off x="8470800" y="3187800"/>
            <a:ext cx="1284480" cy="1406520"/>
          </a:xfrm>
          <a:custGeom>
            <a:avLst/>
            <a:gdLst>
              <a:gd name="textAreaLeft" fmla="*/ 0 w 1284480"/>
              <a:gd name="textAreaRight" fmla="*/ 1284840 w 128448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284749" h="1406782">
                <a:moveTo>
                  <a:pt x="272971" y="0"/>
                </a:moveTo>
                <a:lnTo>
                  <a:pt x="399905" y="49570"/>
                </a:lnTo>
                <a:cubicBezTo>
                  <a:pt x="989627" y="288156"/>
                  <a:pt x="1219746" y="508982"/>
                  <a:pt x="1284749" y="1371533"/>
                </a:cubicBezTo>
                <a:cubicBezTo>
                  <a:pt x="1173054" y="1379951"/>
                  <a:pt x="1238976" y="1398364"/>
                  <a:pt x="1127281" y="1406782"/>
                </a:cubicBezTo>
                <a:cubicBezTo>
                  <a:pt x="1071278" y="663667"/>
                  <a:pt x="747692" y="533233"/>
                  <a:pt x="185568" y="280670"/>
                </a:cubicBezTo>
                <a:lnTo>
                  <a:pt x="0" y="195044"/>
                </a:lnTo>
                <a:lnTo>
                  <a:pt x="110335" y="142906"/>
                </a:lnTo>
                <a:cubicBezTo>
                  <a:pt x="147954" y="120212"/>
                  <a:pt x="182739" y="94085"/>
                  <a:pt x="214419" y="65092"/>
                </a:cubicBezTo>
                <a:lnTo>
                  <a:pt x="272971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4"/>
          <p:cNvSpPr/>
          <p:nvPr/>
        </p:nvSpPr>
        <p:spPr>
          <a:xfrm flipH="1" rot="20134200">
            <a:off x="7547760" y="4177800"/>
            <a:ext cx="1773360" cy="2019600"/>
          </a:xfrm>
          <a:custGeom>
            <a:avLst/>
            <a:gdLst>
              <a:gd name="textAreaLeft" fmla="*/ 360 w 1773360"/>
              <a:gd name="textAreaRight" fmla="*/ 1774080 w 1773360"/>
              <a:gd name="textAreaTop" fmla="*/ 0 h 2019600"/>
              <a:gd name="textAreaBottom" fmla="*/ 2019960 h 20196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5"/>
          <p:cNvSpPr/>
          <p:nvPr/>
        </p:nvSpPr>
        <p:spPr>
          <a:xfrm flipH="1" flipV="1" rot="16435200">
            <a:off x="7373160" y="2660040"/>
            <a:ext cx="917640" cy="1722600"/>
          </a:xfrm>
          <a:custGeom>
            <a:avLst/>
            <a:gdLst>
              <a:gd name="textAreaLeft" fmla="*/ -360 w 917640"/>
              <a:gd name="textAreaRight" fmla="*/ 917640 w 917640"/>
              <a:gd name="textAreaTop" fmla="*/ -360 h 1722600"/>
              <a:gd name="textAreaBottom" fmla="*/ 1722600 h 172260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23"/>
          <p:cNvSpPr/>
          <p:nvPr/>
        </p:nvSpPr>
        <p:spPr>
          <a:xfrm>
            <a:off x="8196120" y="3019320"/>
            <a:ext cx="1047960" cy="1990800"/>
          </a:xfrm>
          <a:custGeom>
            <a:avLst/>
            <a:gdLst>
              <a:gd name="textAreaLeft" fmla="*/ 0 w 1047960"/>
              <a:gd name="textAreaRight" fmla="*/ 1048320 w 104796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17"/>
          <p:cNvSpPr/>
          <p:nvPr/>
        </p:nvSpPr>
        <p:spPr>
          <a:xfrm flipH="1" rot="18632400">
            <a:off x="8223840" y="4110840"/>
            <a:ext cx="1773360" cy="2044440"/>
          </a:xfrm>
          <a:custGeom>
            <a:avLst/>
            <a:gdLst>
              <a:gd name="textAreaLeft" fmla="*/ 360 w 1773360"/>
              <a:gd name="textAreaRight" fmla="*/ 1774080 w 1773360"/>
              <a:gd name="textAreaTop" fmla="*/ 0 h 2044440"/>
              <a:gd name="textAreaBottom" fmla="*/ 2044800 h 204444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梯形 18"/>
          <p:cNvSpPr/>
          <p:nvPr/>
        </p:nvSpPr>
        <p:spPr>
          <a:xfrm flipV="1" rot="803400">
            <a:off x="7736040" y="3684600"/>
            <a:ext cx="1720800" cy="1812960"/>
          </a:xfrm>
          <a:custGeom>
            <a:avLst/>
            <a:gdLst>
              <a:gd name="textAreaLeft" fmla="*/ 358560 w 1720800"/>
              <a:gd name="textAreaRight" fmla="*/ 1362240 w 1720800"/>
              <a:gd name="textAreaTop" fmla="*/ 377640 h 1812960"/>
              <a:gd name="textAreaBottom" fmla="*/ 1435320 h 181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6881400" y="857160"/>
            <a:ext cx="2985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当年为何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不辞而别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3"/>
          <p:cNvSpPr/>
          <p:nvPr/>
        </p:nvSpPr>
        <p:spPr>
          <a:xfrm>
            <a:off x="7758000" y="2359080"/>
            <a:ext cx="352440" cy="11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24"/>
          <p:cNvSpPr/>
          <p:nvPr/>
        </p:nvSpPr>
        <p:spPr>
          <a:xfrm>
            <a:off x="8242200" y="2344680"/>
            <a:ext cx="354240" cy="1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25"/>
          <p:cNvSpPr/>
          <p:nvPr/>
        </p:nvSpPr>
        <p:spPr>
          <a:xfrm>
            <a:off x="7977240" y="2666880"/>
            <a:ext cx="353880" cy="181080"/>
          </a:xfrm>
          <a:custGeom>
            <a:avLst/>
            <a:gdLst>
              <a:gd name="textAreaLeft" fmla="*/ 0 w 353880"/>
              <a:gd name="textAreaRight" fmla="*/ 354240 w 3538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354528" h="181014">
                <a:moveTo>
                  <a:pt x="0" y="108691"/>
                </a:moveTo>
                <a:cubicBezTo>
                  <a:pt x="0" y="78522"/>
                  <a:pt x="79364" y="0"/>
                  <a:pt x="177264" y="0"/>
                </a:cubicBezTo>
                <a:cubicBezTo>
                  <a:pt x="275164" y="0"/>
                  <a:pt x="354528" y="68748"/>
                  <a:pt x="354528" y="108691"/>
                </a:cubicBezTo>
                <a:cubicBezTo>
                  <a:pt x="354528" y="148634"/>
                  <a:pt x="275164" y="181014"/>
                  <a:pt x="177264" y="181014"/>
                </a:cubicBezTo>
                <a:cubicBezTo>
                  <a:pt x="79364" y="181014"/>
                  <a:pt x="0" y="138860"/>
                  <a:pt x="0" y="1086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7"/>
          <p:cNvSpPr/>
          <p:nvPr/>
        </p:nvSpPr>
        <p:spPr>
          <a:xfrm>
            <a:off x="7861320" y="2378160"/>
            <a:ext cx="144360" cy="144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8"/>
          <p:cNvSpPr/>
          <p:nvPr/>
        </p:nvSpPr>
        <p:spPr>
          <a:xfrm>
            <a:off x="8342280" y="2371680"/>
            <a:ext cx="142920" cy="144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0"/>
          <p:cNvSpPr/>
          <p:nvPr/>
        </p:nvSpPr>
        <p:spPr>
          <a:xfrm>
            <a:off x="6895080" y="231840"/>
            <a:ext cx="295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妻子流着眼泪说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0" y="6230880"/>
            <a:ext cx="12192120" cy="639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云形标注 1"/>
          <p:cNvSpPr/>
          <p:nvPr/>
        </p:nvSpPr>
        <p:spPr>
          <a:xfrm>
            <a:off x="8373960" y="2332080"/>
            <a:ext cx="3581640" cy="2709720"/>
          </a:xfrm>
          <a:prstGeom prst="cloudCallout">
            <a:avLst>
              <a:gd name="adj1" fmla="val -91361"/>
              <a:gd name="adj2" fmla="val -34490"/>
            </a:avLst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833480" y="1587600"/>
            <a:ext cx="1371600" cy="1369800"/>
            <a:chOff x="1833480" y="1587600"/>
            <a:chExt cx="1371600" cy="1369800"/>
          </a:xfrm>
        </p:grpSpPr>
        <p:sp>
          <p:nvSpPr>
            <p:cNvPr id="175" name="椭圆 31"/>
            <p:cNvSpPr/>
            <p:nvPr/>
          </p:nvSpPr>
          <p:spPr>
            <a:xfrm flipH="1">
              <a:off x="1833480" y="1587600"/>
              <a:ext cx="1371600" cy="1369800"/>
            </a:xfrm>
            <a:prstGeom prst="ellipse">
              <a:avLst/>
            </a:prstGeom>
            <a:solidFill>
              <a:srgbClr val="26262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32"/>
            <p:cNvSpPr/>
            <p:nvPr/>
          </p:nvSpPr>
          <p:spPr>
            <a:xfrm flipH="1">
              <a:off x="2787120" y="1863000"/>
              <a:ext cx="268560" cy="35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33"/>
            <p:cNvSpPr/>
            <p:nvPr/>
          </p:nvSpPr>
          <p:spPr>
            <a:xfrm flipH="1">
              <a:off x="2416680" y="1791360"/>
              <a:ext cx="412560" cy="537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34"/>
            <p:cNvSpPr/>
            <p:nvPr/>
          </p:nvSpPr>
          <p:spPr>
            <a:xfrm flipH="1">
              <a:off x="2829240" y="2007720"/>
              <a:ext cx="149760" cy="149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35"/>
            <p:cNvSpPr/>
            <p:nvPr/>
          </p:nvSpPr>
          <p:spPr>
            <a:xfrm flipH="1">
              <a:off x="2428200" y="1942920"/>
              <a:ext cx="234360" cy="2340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36"/>
            <p:cNvSpPr/>
            <p:nvPr/>
          </p:nvSpPr>
          <p:spPr>
            <a:xfrm flipH="1">
              <a:off x="2626200" y="2448000"/>
              <a:ext cx="331200" cy="37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0"/>
          <p:cNvGrpSpPr/>
          <p:nvPr/>
        </p:nvGrpSpPr>
        <p:grpSpPr>
          <a:xfrm>
            <a:off x="4443480" y="2948040"/>
            <a:ext cx="3522960" cy="3468960"/>
            <a:chOff x="4443480" y="2948040"/>
            <a:chExt cx="3522960" cy="3468960"/>
          </a:xfrm>
        </p:grpSpPr>
        <p:sp>
          <p:nvSpPr>
            <p:cNvPr id="182" name="任意多边形 13"/>
            <p:cNvSpPr/>
            <p:nvPr/>
          </p:nvSpPr>
          <p:spPr>
            <a:xfrm flipH="1" rot="20428200">
              <a:off x="5150160" y="3130200"/>
              <a:ext cx="1284840" cy="1407240"/>
            </a:xfrm>
            <a:custGeom>
              <a:avLst/>
              <a:gdLst>
                <a:gd name="textAreaLeft" fmla="*/ -360 w 1284840"/>
                <a:gd name="textAreaRight" fmla="*/ 1284840 w 1284840"/>
                <a:gd name="textAreaTop" fmla="*/ 0 h 1407240"/>
                <a:gd name="textAreaBottom" fmla="*/ 1407600 h 1407240"/>
              </a:gdLst>
              <a:ahLst/>
              <a:rect l="textAreaLeft" t="textAreaTop" r="textAreaRight" b="textAreaBottom"/>
              <a:pathLst>
                <a:path w="1284749" h="1406782">
                  <a:moveTo>
                    <a:pt x="272971" y="0"/>
                  </a:moveTo>
                  <a:lnTo>
                    <a:pt x="399905" y="49570"/>
                  </a:lnTo>
                  <a:cubicBezTo>
                    <a:pt x="989627" y="288156"/>
                    <a:pt x="1219746" y="508982"/>
                    <a:pt x="1284749" y="1371533"/>
                  </a:cubicBezTo>
                  <a:cubicBezTo>
                    <a:pt x="1173054" y="1379951"/>
                    <a:pt x="1238976" y="1398364"/>
                    <a:pt x="1127281" y="1406782"/>
                  </a:cubicBezTo>
                  <a:cubicBezTo>
                    <a:pt x="1071278" y="663667"/>
                    <a:pt x="747692" y="533233"/>
                    <a:pt x="185568" y="280670"/>
                  </a:cubicBezTo>
                  <a:lnTo>
                    <a:pt x="0" y="195044"/>
                  </a:lnTo>
                  <a:lnTo>
                    <a:pt x="110335" y="142906"/>
                  </a:lnTo>
                  <a:cubicBezTo>
                    <a:pt x="147954" y="120212"/>
                    <a:pt x="182739" y="94085"/>
                    <a:pt x="214419" y="65092"/>
                  </a:cubicBezTo>
                  <a:lnTo>
                    <a:pt x="272971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14"/>
            <p:cNvSpPr/>
            <p:nvPr/>
          </p:nvSpPr>
          <p:spPr>
            <a:xfrm rot="1465800">
              <a:off x="5584320" y="4121640"/>
              <a:ext cx="1774080" cy="2018880"/>
            </a:xfrm>
            <a:custGeom>
              <a:avLst/>
              <a:gdLst>
                <a:gd name="textAreaLeft" fmla="*/ 0 w 1774080"/>
                <a:gd name="textAreaRight" fmla="*/ 1774440 w 177408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674503" h="1904878">
                  <a:moveTo>
                    <a:pt x="58579" y="0"/>
                  </a:moveTo>
                  <a:lnTo>
                    <a:pt x="0" y="355313"/>
                  </a:lnTo>
                  <a:cubicBezTo>
                    <a:pt x="70574" y="416195"/>
                    <a:pt x="185888" y="668939"/>
                    <a:pt x="256462" y="729821"/>
                  </a:cubicBezTo>
                  <a:cubicBezTo>
                    <a:pt x="456432" y="874212"/>
                    <a:pt x="1154036" y="827239"/>
                    <a:pt x="1357518" y="1013968"/>
                  </a:cubicBezTo>
                  <a:cubicBezTo>
                    <a:pt x="1561000" y="1200697"/>
                    <a:pt x="1466562" y="1637216"/>
                    <a:pt x="1477356" y="1850195"/>
                  </a:cubicBezTo>
                  <a:lnTo>
                    <a:pt x="1478877" y="1867785"/>
                  </a:lnTo>
                  <a:lnTo>
                    <a:pt x="1665741" y="1904878"/>
                  </a:lnTo>
                  <a:cubicBezTo>
                    <a:pt x="1665963" y="1891593"/>
                    <a:pt x="1666186" y="1878307"/>
                    <a:pt x="1666408" y="1865022"/>
                  </a:cubicBezTo>
                  <a:cubicBezTo>
                    <a:pt x="1673244" y="1634650"/>
                    <a:pt x="1718487" y="1166955"/>
                    <a:pt x="1488679" y="884355"/>
                  </a:cubicBezTo>
                  <a:cubicBezTo>
                    <a:pt x="1226041" y="561384"/>
                    <a:pt x="309079" y="164856"/>
                    <a:pt x="90914" y="10163"/>
                  </a:cubicBezTo>
                  <a:lnTo>
                    <a:pt x="5857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5"/>
            <p:cNvSpPr/>
            <p:nvPr/>
          </p:nvSpPr>
          <p:spPr>
            <a:xfrm flipV="1" rot="5164800">
              <a:off x="6615360" y="2601720"/>
              <a:ext cx="917640" cy="172548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-360 h 1725480"/>
                <a:gd name="textAreaBottom" fmla="*/ 1725480 h 1725480"/>
              </a:gdLst>
              <a:ahLst/>
              <a:rect l="textAreaLeft" t="textAreaTop" r="textAreaRight" b="textAreaBottom"/>
              <a:pathLst>
                <a:path w="1394634" h="1628614">
                  <a:moveTo>
                    <a:pt x="0" y="0"/>
                  </a:moveTo>
                  <a:lnTo>
                    <a:pt x="32335" y="10163"/>
                  </a:lnTo>
                  <a:cubicBezTo>
                    <a:pt x="922286" y="337660"/>
                    <a:pt x="1319117" y="586682"/>
                    <a:pt x="1394634" y="1588740"/>
                  </a:cubicBezTo>
                  <a:cubicBezTo>
                    <a:pt x="1289203" y="1596686"/>
                    <a:pt x="1371125" y="1620668"/>
                    <a:pt x="1265694" y="1628614"/>
                  </a:cubicBezTo>
                  <a:cubicBezTo>
                    <a:pt x="1205280" y="826974"/>
                    <a:pt x="791967" y="714521"/>
                    <a:pt x="112687" y="388246"/>
                  </a:cubicBezTo>
                  <a:lnTo>
                    <a:pt x="11290" y="279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圆角矩形 23"/>
            <p:cNvSpPr/>
            <p:nvPr/>
          </p:nvSpPr>
          <p:spPr>
            <a:xfrm flipH="1">
              <a:off x="5661720" y="2962440"/>
              <a:ext cx="1047960" cy="1991520"/>
            </a:xfrm>
            <a:custGeom>
              <a:avLst/>
              <a:gdLst>
                <a:gd name="textAreaLeft" fmla="*/ -360 w 1047960"/>
                <a:gd name="textAreaRight" fmla="*/ 1047960 w 1047960"/>
                <a:gd name="textAreaTop" fmla="*/ 0 h 1991520"/>
                <a:gd name="textAreaBottom" fmla="*/ 1991880 h 1991520"/>
              </a:gdLst>
              <a:ahLst/>
              <a:rect l="textAreaLeft" t="textAreaTop" r="textAreaRight" b="textAreaBottom"/>
              <a:pathLst>
                <a:path w="926792" h="1879302">
                  <a:moveTo>
                    <a:pt x="0" y="460200"/>
                  </a:moveTo>
                  <a:cubicBezTo>
                    <a:pt x="0" y="206039"/>
                    <a:pt x="206039" y="0"/>
                    <a:pt x="460200" y="0"/>
                  </a:cubicBezTo>
                  <a:lnTo>
                    <a:pt x="460200" y="0"/>
                  </a:lnTo>
                  <a:cubicBezTo>
                    <a:pt x="714361" y="0"/>
                    <a:pt x="920400" y="206039"/>
                    <a:pt x="920400" y="460200"/>
                  </a:cubicBezTo>
                  <a:cubicBezTo>
                    <a:pt x="920400" y="779834"/>
                    <a:pt x="934783" y="1232984"/>
                    <a:pt x="920399" y="1419102"/>
                  </a:cubicBezTo>
                  <a:cubicBezTo>
                    <a:pt x="906015" y="1605220"/>
                    <a:pt x="910797" y="1500206"/>
                    <a:pt x="834097" y="1576906"/>
                  </a:cubicBezTo>
                  <a:cubicBezTo>
                    <a:pt x="757397" y="1653606"/>
                    <a:pt x="530560" y="1828903"/>
                    <a:pt x="460199" y="1879302"/>
                  </a:cubicBezTo>
                  <a:lnTo>
                    <a:pt x="460200" y="1879301"/>
                  </a:lnTo>
                  <a:cubicBezTo>
                    <a:pt x="206039" y="1879301"/>
                    <a:pt x="25758" y="1802051"/>
                    <a:pt x="25758" y="1547890"/>
                  </a:cubicBezTo>
                  <a:cubicBezTo>
                    <a:pt x="25758" y="1228256"/>
                    <a:pt x="0" y="779834"/>
                    <a:pt x="0" y="46020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17"/>
            <p:cNvSpPr/>
            <p:nvPr/>
          </p:nvSpPr>
          <p:spPr>
            <a:xfrm rot="2967600">
              <a:off x="4908960" y="4053960"/>
              <a:ext cx="1774800" cy="2043360"/>
            </a:xfrm>
            <a:custGeom>
              <a:avLst/>
              <a:gdLst>
                <a:gd name="textAreaLeft" fmla="*/ 0 w 1774800"/>
                <a:gd name="textAreaRight" fmla="*/ 1775160 w 1774800"/>
                <a:gd name="textAreaTop" fmla="*/ 0 h 2043360"/>
                <a:gd name="textAreaBottom" fmla="*/ 2043720 h 2043360"/>
              </a:gdLst>
              <a:ahLst/>
              <a:rect l="textAreaLeft" t="textAreaTop" r="textAreaRight" b="textAreaBottom"/>
              <a:pathLst>
                <a:path w="1674503" h="1928834">
                  <a:moveTo>
                    <a:pt x="248533" y="0"/>
                  </a:moveTo>
                  <a:lnTo>
                    <a:pt x="0" y="379269"/>
                  </a:lnTo>
                  <a:cubicBezTo>
                    <a:pt x="70574" y="440151"/>
                    <a:pt x="301868" y="570704"/>
                    <a:pt x="372442" y="631586"/>
                  </a:cubicBezTo>
                  <a:cubicBezTo>
                    <a:pt x="572412" y="775977"/>
                    <a:pt x="1173366" y="830830"/>
                    <a:pt x="1357518" y="1037924"/>
                  </a:cubicBezTo>
                  <a:cubicBezTo>
                    <a:pt x="1541670" y="1245018"/>
                    <a:pt x="1466562" y="1661172"/>
                    <a:pt x="1477356" y="1874151"/>
                  </a:cubicBezTo>
                  <a:lnTo>
                    <a:pt x="1478877" y="1891741"/>
                  </a:lnTo>
                  <a:lnTo>
                    <a:pt x="1665741" y="1928834"/>
                  </a:lnTo>
                  <a:cubicBezTo>
                    <a:pt x="1665963" y="1915549"/>
                    <a:pt x="1666186" y="1902263"/>
                    <a:pt x="1666408" y="1888978"/>
                  </a:cubicBezTo>
                  <a:cubicBezTo>
                    <a:pt x="1673244" y="1658606"/>
                    <a:pt x="1718487" y="1190911"/>
                    <a:pt x="1488679" y="908311"/>
                  </a:cubicBezTo>
                  <a:cubicBezTo>
                    <a:pt x="1315074" y="642384"/>
                    <a:pt x="934492" y="369184"/>
                    <a:pt x="701531" y="223485"/>
                  </a:cubicBezTo>
                  <a:cubicBezTo>
                    <a:pt x="468570" y="77786"/>
                    <a:pt x="153621" y="83021"/>
                    <a:pt x="90914" y="34119"/>
                  </a:cubicBezTo>
                  <a:lnTo>
                    <a:pt x="24853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梯形 18"/>
            <p:cNvSpPr/>
            <p:nvPr/>
          </p:nvSpPr>
          <p:spPr>
            <a:xfrm flipH="1" flipV="1" rot="20796600">
              <a:off x="5448960" y="3625920"/>
              <a:ext cx="1721520" cy="1814400"/>
            </a:xfrm>
            <a:custGeom>
              <a:avLst/>
              <a:gdLst>
                <a:gd name="textAreaLeft" fmla="*/ 358560 w 1721520"/>
                <a:gd name="textAreaRight" fmla="*/ 1362960 w 1721520"/>
                <a:gd name="textAreaTop" fmla="*/ 378000 h 1814400"/>
                <a:gd name="textAreaBottom" fmla="*/ 1436400 h 18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任意多边形 52"/>
          <p:cNvSpPr/>
          <p:nvPr/>
        </p:nvSpPr>
        <p:spPr>
          <a:xfrm flipH="1" rot="20428200">
            <a:off x="1122480" y="3178080"/>
            <a:ext cx="1517400" cy="1655640"/>
          </a:xfrm>
          <a:custGeom>
            <a:avLst/>
            <a:gdLst>
              <a:gd name="textAreaLeft" fmla="*/ -360 w 1517400"/>
              <a:gd name="textAreaRight" fmla="*/ 1517400 w 15174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53"/>
          <p:cNvSpPr/>
          <p:nvPr/>
        </p:nvSpPr>
        <p:spPr>
          <a:xfrm rot="1465800">
            <a:off x="1873080" y="4154400"/>
            <a:ext cx="1776600" cy="2017800"/>
          </a:xfrm>
          <a:custGeom>
            <a:avLst/>
            <a:gdLst>
              <a:gd name="textAreaLeft" fmla="*/ 0 w 1776600"/>
              <a:gd name="textAreaRight" fmla="*/ 1776960 w 1776600"/>
              <a:gd name="textAreaTop" fmla="*/ 0 h 2017800"/>
              <a:gd name="textAreaBottom" fmla="*/ 2018160 h 20178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54"/>
          <p:cNvSpPr/>
          <p:nvPr/>
        </p:nvSpPr>
        <p:spPr>
          <a:xfrm flipV="1" rot="6805800">
            <a:off x="2841840" y="2967120"/>
            <a:ext cx="917640" cy="1725840"/>
          </a:xfrm>
          <a:custGeom>
            <a:avLst/>
            <a:gdLst>
              <a:gd name="textAreaLeft" fmla="*/ 0 w 917640"/>
              <a:gd name="textAreaRight" fmla="*/ 918000 w 917640"/>
              <a:gd name="textAreaTop" fmla="*/ 360 h 1725840"/>
              <a:gd name="textAreaBottom" fmla="*/ 1726560 h 172584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0"/>
          <p:cNvGrpSpPr/>
          <p:nvPr/>
        </p:nvGrpSpPr>
        <p:grpSpPr>
          <a:xfrm>
            <a:off x="703800" y="4595760"/>
            <a:ext cx="1515960" cy="1208160"/>
            <a:chOff x="703800" y="4595760"/>
            <a:chExt cx="1515960" cy="1208160"/>
          </a:xfrm>
        </p:grpSpPr>
        <p:sp>
          <p:nvSpPr>
            <p:cNvPr id="192" name="圆角矩形 56"/>
            <p:cNvSpPr/>
            <p:nvPr/>
          </p:nvSpPr>
          <p:spPr>
            <a:xfrm flipH="1" rot="21150600">
              <a:off x="754200" y="4844160"/>
              <a:ext cx="1414440" cy="871200"/>
            </a:xfrm>
            <a:prstGeom prst="roundRect">
              <a:avLst>
                <a:gd name="adj" fmla="val 10148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57"/>
            <p:cNvSpPr/>
            <p:nvPr/>
          </p:nvSpPr>
          <p:spPr>
            <a:xfrm flipH="1" rot="19962600">
              <a:off x="1182240" y="4682880"/>
              <a:ext cx="502920" cy="5032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圆角矩形 23"/>
          <p:cNvSpPr/>
          <p:nvPr/>
        </p:nvSpPr>
        <p:spPr>
          <a:xfrm flipH="1">
            <a:off x="1969200" y="2949480"/>
            <a:ext cx="1047960" cy="1990800"/>
          </a:xfrm>
          <a:custGeom>
            <a:avLst/>
            <a:gdLst>
              <a:gd name="textAreaLeft" fmla="*/ -360 w 1047960"/>
              <a:gd name="textAreaRight" fmla="*/ 1047960 w 104796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59"/>
          <p:cNvSpPr/>
          <p:nvPr/>
        </p:nvSpPr>
        <p:spPr>
          <a:xfrm rot="2967600">
            <a:off x="1200600" y="4084920"/>
            <a:ext cx="1773360" cy="20448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62"/>
          <p:cNvSpPr/>
          <p:nvPr/>
        </p:nvSpPr>
        <p:spPr>
          <a:xfrm>
            <a:off x="5460840" y="1571760"/>
            <a:ext cx="1371600" cy="1371600"/>
          </a:xfrm>
          <a:prstGeom prst="ellipse">
            <a:avLst/>
          </a:prstGeom>
          <a:solidFill>
            <a:srgbClr val="2626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69"/>
          <p:cNvSpPr/>
          <p:nvPr/>
        </p:nvSpPr>
        <p:spPr>
          <a:xfrm flipH="1">
            <a:off x="5587200" y="1900080"/>
            <a:ext cx="328680" cy="325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70"/>
          <p:cNvSpPr/>
          <p:nvPr/>
        </p:nvSpPr>
        <p:spPr>
          <a:xfrm flipH="1">
            <a:off x="5977080" y="1892160"/>
            <a:ext cx="326880" cy="325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71"/>
          <p:cNvSpPr/>
          <p:nvPr/>
        </p:nvSpPr>
        <p:spPr>
          <a:xfrm flipH="1">
            <a:off x="5587920" y="2013120"/>
            <a:ext cx="108000" cy="107640"/>
          </a:xfrm>
          <a:prstGeom prst="ellipse">
            <a:avLst/>
          </a:prstGeom>
          <a:solidFill>
            <a:srgbClr val="2626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72"/>
          <p:cNvSpPr/>
          <p:nvPr/>
        </p:nvSpPr>
        <p:spPr>
          <a:xfrm flipH="1">
            <a:off x="5981760" y="2004840"/>
            <a:ext cx="108000" cy="108000"/>
          </a:xfrm>
          <a:prstGeom prst="ellipse">
            <a:avLst/>
          </a:prstGeom>
          <a:solidFill>
            <a:srgbClr val="2626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83"/>
          <p:cNvSpPr/>
          <p:nvPr/>
        </p:nvSpPr>
        <p:spPr>
          <a:xfrm flipH="1">
            <a:off x="5779440" y="2649600"/>
            <a:ext cx="196920" cy="3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4"/>
          <p:cNvSpPr/>
          <p:nvPr/>
        </p:nvSpPr>
        <p:spPr>
          <a:xfrm>
            <a:off x="0" y="6230880"/>
            <a:ext cx="12192120" cy="639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87"/>
          <p:cNvSpPr/>
          <p:nvPr/>
        </p:nvSpPr>
        <p:spPr>
          <a:xfrm>
            <a:off x="847800" y="139680"/>
            <a:ext cx="19332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男人简述了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当时的情况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88"/>
          <p:cNvSpPr/>
          <p:nvPr/>
        </p:nvSpPr>
        <p:spPr>
          <a:xfrm>
            <a:off x="7828560" y="219240"/>
            <a:ext cx="3446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妻子转身而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淡淡地说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那是</a:t>
            </a: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瑞星杀毒软件</a:t>
            </a:r>
            <a:r>
              <a:rPr b="0" lang="zh-CN" sz="4600" spc="-1" strike="noStrike">
                <a:solidFill>
                  <a:srgbClr val="ffc000"/>
                </a:solidFill>
                <a:latin typeface="Arial"/>
                <a:ea typeface="方正正大黑简体"/>
              </a:rPr>
              <a:t>…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20" descr=""/>
          <p:cNvPicPr/>
          <p:nvPr/>
        </p:nvPicPr>
        <p:blipFill>
          <a:blip r:embed="rId1"/>
          <a:srcRect l="65598" t="0" r="0" b="55277"/>
          <a:stretch/>
        </p:blipFill>
        <p:spPr>
          <a:xfrm>
            <a:off x="8901000" y="2630520"/>
            <a:ext cx="23400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椭圆 3"/>
          <p:cNvSpPr/>
          <p:nvPr/>
        </p:nvSpPr>
        <p:spPr>
          <a:xfrm>
            <a:off x="4122720" y="1411200"/>
            <a:ext cx="3546360" cy="35449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5000040" y="25844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故事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椭圆 3"/>
          <p:cNvSpPr/>
          <p:nvPr/>
        </p:nvSpPr>
        <p:spPr>
          <a:xfrm flipH="1">
            <a:off x="3299760" y="2725560"/>
            <a:ext cx="871560" cy="873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4"/>
          <p:cNvSpPr/>
          <p:nvPr/>
        </p:nvSpPr>
        <p:spPr>
          <a:xfrm flipH="1" rot="20428200">
            <a:off x="2734560" y="3733920"/>
            <a:ext cx="941400" cy="1025280"/>
          </a:xfrm>
          <a:custGeom>
            <a:avLst/>
            <a:gdLst>
              <a:gd name="textAreaLeft" fmla="*/ -360 w 941400"/>
              <a:gd name="textAreaRight" fmla="*/ 941400 w 941400"/>
              <a:gd name="textAreaTop" fmla="*/ 0 h 1025280"/>
              <a:gd name="textAreaBottom" fmla="*/ 1025640 h 1025280"/>
            </a:gdLst>
            <a:ahLst/>
            <a:rect l="textAreaLeft" t="textAreaTop" r="textAreaRight" b="textAreaBottom"/>
            <a:pathLst>
              <a:path w="1434444" h="1562448">
                <a:moveTo>
                  <a:pt x="43119" y="0"/>
                </a:moveTo>
                <a:lnTo>
                  <a:pt x="75454" y="10163"/>
                </a:lnTo>
                <a:cubicBezTo>
                  <a:pt x="965405" y="337660"/>
                  <a:pt x="1358927" y="527118"/>
                  <a:pt x="1434444" y="1529176"/>
                </a:cubicBezTo>
                <a:cubicBezTo>
                  <a:pt x="1329013" y="1537122"/>
                  <a:pt x="1391238" y="1554502"/>
                  <a:pt x="1285807" y="1562448"/>
                </a:cubicBezTo>
                <a:cubicBezTo>
                  <a:pt x="1225393" y="760808"/>
                  <a:pt x="835086" y="714521"/>
                  <a:pt x="155806" y="388246"/>
                </a:cubicBezTo>
                <a:lnTo>
                  <a:pt x="0" y="322330"/>
                </a:lnTo>
                <a:lnTo>
                  <a:pt x="4311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5"/>
          <p:cNvSpPr/>
          <p:nvPr/>
        </p:nvSpPr>
        <p:spPr>
          <a:xfrm rot="1465800">
            <a:off x="3201840" y="4336920"/>
            <a:ext cx="1101960" cy="1252800"/>
          </a:xfrm>
          <a:custGeom>
            <a:avLst/>
            <a:gdLst>
              <a:gd name="textAreaLeft" fmla="*/ 0 w 1101960"/>
              <a:gd name="textAreaRight" fmla="*/ 1102320 w 1101960"/>
              <a:gd name="textAreaTop" fmla="*/ 0 h 1252800"/>
              <a:gd name="textAreaBottom" fmla="*/ 1253160 h 125280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6"/>
          <p:cNvSpPr/>
          <p:nvPr/>
        </p:nvSpPr>
        <p:spPr>
          <a:xfrm flipV="1" rot="6805800">
            <a:off x="3801600" y="3601800"/>
            <a:ext cx="569520" cy="1069920"/>
          </a:xfrm>
          <a:custGeom>
            <a:avLst/>
            <a:gdLst>
              <a:gd name="textAreaLeft" fmla="*/ 0 w 569520"/>
              <a:gd name="textAreaRight" fmla="*/ 569880 w 569520"/>
              <a:gd name="textAreaTop" fmla="*/ 360 h 1069920"/>
              <a:gd name="textAreaBottom" fmla="*/ 1070640 h 106992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23"/>
          <p:cNvSpPr/>
          <p:nvPr/>
        </p:nvSpPr>
        <p:spPr>
          <a:xfrm flipH="1">
            <a:off x="3262320" y="3591000"/>
            <a:ext cx="649440" cy="1233360"/>
          </a:xfrm>
          <a:custGeom>
            <a:avLst/>
            <a:gdLst>
              <a:gd name="textAreaLeft" fmla="*/ 360 w 649440"/>
              <a:gd name="textAreaRight" fmla="*/ 650160 w 64944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11"/>
          <p:cNvSpPr/>
          <p:nvPr/>
        </p:nvSpPr>
        <p:spPr>
          <a:xfrm rot="2967600">
            <a:off x="2782440" y="4295520"/>
            <a:ext cx="1101600" cy="126684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2"/>
          <p:cNvSpPr/>
          <p:nvPr/>
        </p:nvSpPr>
        <p:spPr>
          <a:xfrm>
            <a:off x="8750160" y="2836800"/>
            <a:ext cx="820800" cy="820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13"/>
          <p:cNvSpPr/>
          <p:nvPr/>
        </p:nvSpPr>
        <p:spPr>
          <a:xfrm rot="1171800">
            <a:off x="9246960" y="3782880"/>
            <a:ext cx="796680" cy="871560"/>
          </a:xfrm>
          <a:custGeom>
            <a:avLst/>
            <a:gdLst>
              <a:gd name="textAreaLeft" fmla="*/ 0 w 796680"/>
              <a:gd name="textAreaRight" fmla="*/ 797040 w 79668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1284749" h="1406782">
                <a:moveTo>
                  <a:pt x="272971" y="0"/>
                </a:moveTo>
                <a:lnTo>
                  <a:pt x="399905" y="49570"/>
                </a:lnTo>
                <a:cubicBezTo>
                  <a:pt x="989627" y="288156"/>
                  <a:pt x="1219746" y="508982"/>
                  <a:pt x="1284749" y="1371533"/>
                </a:cubicBezTo>
                <a:cubicBezTo>
                  <a:pt x="1173054" y="1379951"/>
                  <a:pt x="1238976" y="1398364"/>
                  <a:pt x="1127281" y="1406782"/>
                </a:cubicBezTo>
                <a:cubicBezTo>
                  <a:pt x="1071278" y="663667"/>
                  <a:pt x="747692" y="533233"/>
                  <a:pt x="185568" y="280670"/>
                </a:cubicBezTo>
                <a:lnTo>
                  <a:pt x="0" y="195044"/>
                </a:lnTo>
                <a:lnTo>
                  <a:pt x="110335" y="142906"/>
                </a:lnTo>
                <a:cubicBezTo>
                  <a:pt x="147954" y="120212"/>
                  <a:pt x="182739" y="94085"/>
                  <a:pt x="214419" y="65092"/>
                </a:cubicBezTo>
                <a:lnTo>
                  <a:pt x="272971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4"/>
          <p:cNvSpPr/>
          <p:nvPr/>
        </p:nvSpPr>
        <p:spPr>
          <a:xfrm flipH="1" rot="20134200">
            <a:off x="8674560" y="4397400"/>
            <a:ext cx="1101600" cy="1250640"/>
          </a:xfrm>
          <a:custGeom>
            <a:avLst/>
            <a:gdLst>
              <a:gd name="textAreaLeft" fmla="*/ 360 w 1101600"/>
              <a:gd name="textAreaRight" fmla="*/ 1102320 w 1101600"/>
              <a:gd name="textAreaTop" fmla="*/ 0 h 1250640"/>
              <a:gd name="textAreaBottom" fmla="*/ 1251000 h 1250640"/>
            </a:gdLst>
            <a:ahLst/>
            <a:rect l="textAreaLeft" t="textAreaTop" r="textAreaRight" b="textAreaBottom"/>
            <a:pathLst>
              <a:path w="1674503" h="1904878">
                <a:moveTo>
                  <a:pt x="58579" y="0"/>
                </a:moveTo>
                <a:lnTo>
                  <a:pt x="0" y="355313"/>
                </a:lnTo>
                <a:cubicBezTo>
                  <a:pt x="70574" y="416195"/>
                  <a:pt x="185888" y="668939"/>
                  <a:pt x="256462" y="729821"/>
                </a:cubicBezTo>
                <a:cubicBezTo>
                  <a:pt x="456432" y="874212"/>
                  <a:pt x="1154036" y="827239"/>
                  <a:pt x="1357518" y="1013968"/>
                </a:cubicBezTo>
                <a:cubicBezTo>
                  <a:pt x="1561000" y="1200697"/>
                  <a:pt x="1466562" y="1637216"/>
                  <a:pt x="1477356" y="1850195"/>
                </a:cubicBezTo>
                <a:lnTo>
                  <a:pt x="1478877" y="1867785"/>
                </a:lnTo>
                <a:lnTo>
                  <a:pt x="1665741" y="1904878"/>
                </a:lnTo>
                <a:cubicBezTo>
                  <a:pt x="1665963" y="1891593"/>
                  <a:pt x="1666186" y="1878307"/>
                  <a:pt x="1666408" y="1865022"/>
                </a:cubicBezTo>
                <a:cubicBezTo>
                  <a:pt x="1673244" y="1634650"/>
                  <a:pt x="1718487" y="1166955"/>
                  <a:pt x="1488679" y="884355"/>
                </a:cubicBezTo>
                <a:cubicBezTo>
                  <a:pt x="1226041" y="561384"/>
                  <a:pt x="309079" y="164856"/>
                  <a:pt x="90914" y="10163"/>
                </a:cubicBezTo>
                <a:lnTo>
                  <a:pt x="58579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5"/>
          <p:cNvSpPr/>
          <p:nvPr/>
        </p:nvSpPr>
        <p:spPr>
          <a:xfrm flipH="1" flipV="1" rot="16435200">
            <a:off x="8566920" y="3453840"/>
            <a:ext cx="568440" cy="1069920"/>
          </a:xfrm>
          <a:custGeom>
            <a:avLst/>
            <a:gdLst>
              <a:gd name="textAreaLeft" fmla="*/ -360 w 568440"/>
              <a:gd name="textAreaRight" fmla="*/ 568440 w 568440"/>
              <a:gd name="textAreaTop" fmla="*/ 360 h 1069920"/>
              <a:gd name="textAreaBottom" fmla="*/ 1070640 h 1069920"/>
            </a:gdLst>
            <a:ahLst/>
            <a:rect l="textAreaLeft" t="textAreaTop" r="textAreaRight" b="textAreaBottom"/>
            <a:pathLst>
              <a:path w="1394634" h="1628614">
                <a:moveTo>
                  <a:pt x="0" y="0"/>
                </a:moveTo>
                <a:lnTo>
                  <a:pt x="32335" y="10163"/>
                </a:lnTo>
                <a:cubicBezTo>
                  <a:pt x="922286" y="337660"/>
                  <a:pt x="1319117" y="586682"/>
                  <a:pt x="1394634" y="1588740"/>
                </a:cubicBezTo>
                <a:cubicBezTo>
                  <a:pt x="1289203" y="1596686"/>
                  <a:pt x="1371125" y="1620668"/>
                  <a:pt x="1265694" y="1628614"/>
                </a:cubicBezTo>
                <a:cubicBezTo>
                  <a:pt x="1205280" y="826974"/>
                  <a:pt x="791967" y="714521"/>
                  <a:pt x="112687" y="388246"/>
                </a:cubicBezTo>
                <a:lnTo>
                  <a:pt x="11290" y="27932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23"/>
          <p:cNvSpPr/>
          <p:nvPr/>
        </p:nvSpPr>
        <p:spPr>
          <a:xfrm>
            <a:off x="9078840" y="3678120"/>
            <a:ext cx="649440" cy="1235160"/>
          </a:xfrm>
          <a:custGeom>
            <a:avLst/>
            <a:gdLst>
              <a:gd name="textAreaLeft" fmla="*/ 0 w 649440"/>
              <a:gd name="textAreaRight" fmla="*/ 649800 w 64944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926792" h="1879302">
                <a:moveTo>
                  <a:pt x="0" y="460200"/>
                </a:moveTo>
                <a:cubicBezTo>
                  <a:pt x="0" y="206039"/>
                  <a:pt x="206039" y="0"/>
                  <a:pt x="460200" y="0"/>
                </a:cubicBezTo>
                <a:lnTo>
                  <a:pt x="460200" y="0"/>
                </a:lnTo>
                <a:cubicBezTo>
                  <a:pt x="714361" y="0"/>
                  <a:pt x="920400" y="206039"/>
                  <a:pt x="920400" y="460200"/>
                </a:cubicBezTo>
                <a:cubicBezTo>
                  <a:pt x="920400" y="779834"/>
                  <a:pt x="934783" y="1232984"/>
                  <a:pt x="920399" y="1419102"/>
                </a:cubicBezTo>
                <a:cubicBezTo>
                  <a:pt x="906015" y="1605220"/>
                  <a:pt x="910797" y="1500206"/>
                  <a:pt x="834097" y="1576906"/>
                </a:cubicBezTo>
                <a:cubicBezTo>
                  <a:pt x="757397" y="1653606"/>
                  <a:pt x="530560" y="1828903"/>
                  <a:pt x="460199" y="1879302"/>
                </a:cubicBezTo>
                <a:lnTo>
                  <a:pt x="460200" y="1879301"/>
                </a:lnTo>
                <a:cubicBezTo>
                  <a:pt x="206039" y="1879301"/>
                  <a:pt x="25758" y="1802051"/>
                  <a:pt x="25758" y="1547890"/>
                </a:cubicBezTo>
                <a:cubicBezTo>
                  <a:pt x="25758" y="1228256"/>
                  <a:pt x="0" y="779834"/>
                  <a:pt x="0" y="4602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7"/>
          <p:cNvSpPr/>
          <p:nvPr/>
        </p:nvSpPr>
        <p:spPr>
          <a:xfrm flipH="1" rot="18632400">
            <a:off x="9093600" y="4354560"/>
            <a:ext cx="1099800" cy="1268280"/>
          </a:xfrm>
          <a:custGeom>
            <a:avLst/>
            <a:gdLst>
              <a:gd name="textAreaLeft" fmla="*/ -360 w 1099800"/>
              <a:gd name="textAreaRight" fmla="*/ 1099800 w 1099800"/>
              <a:gd name="textAreaTop" fmla="*/ 0 h 1268280"/>
              <a:gd name="textAreaBottom" fmla="*/ 1268640 h 1268280"/>
            </a:gdLst>
            <a:ahLst/>
            <a:rect l="textAreaLeft" t="textAreaTop" r="textAreaRight" b="textAreaBottom"/>
            <a:pathLst>
              <a:path w="1674503" h="1928834">
                <a:moveTo>
                  <a:pt x="248533" y="0"/>
                </a:moveTo>
                <a:lnTo>
                  <a:pt x="0" y="379269"/>
                </a:lnTo>
                <a:cubicBezTo>
                  <a:pt x="70574" y="440151"/>
                  <a:pt x="301868" y="570704"/>
                  <a:pt x="372442" y="631586"/>
                </a:cubicBezTo>
                <a:cubicBezTo>
                  <a:pt x="572412" y="775977"/>
                  <a:pt x="1173366" y="830830"/>
                  <a:pt x="1357518" y="1037924"/>
                </a:cubicBezTo>
                <a:cubicBezTo>
                  <a:pt x="1541670" y="1245018"/>
                  <a:pt x="1466562" y="1661172"/>
                  <a:pt x="1477356" y="1874151"/>
                </a:cubicBezTo>
                <a:lnTo>
                  <a:pt x="1478877" y="1891741"/>
                </a:lnTo>
                <a:lnTo>
                  <a:pt x="1665741" y="1928834"/>
                </a:lnTo>
                <a:cubicBezTo>
                  <a:pt x="1665963" y="1915549"/>
                  <a:pt x="1666186" y="1902263"/>
                  <a:pt x="1666408" y="1888978"/>
                </a:cubicBezTo>
                <a:cubicBezTo>
                  <a:pt x="1673244" y="1658606"/>
                  <a:pt x="1718487" y="1190911"/>
                  <a:pt x="1488679" y="908311"/>
                </a:cubicBezTo>
                <a:cubicBezTo>
                  <a:pt x="1315074" y="642384"/>
                  <a:pt x="934492" y="369184"/>
                  <a:pt x="701531" y="223485"/>
                </a:cubicBezTo>
                <a:cubicBezTo>
                  <a:pt x="468570" y="77786"/>
                  <a:pt x="153621" y="83021"/>
                  <a:pt x="90914" y="34119"/>
                </a:cubicBezTo>
                <a:lnTo>
                  <a:pt x="24853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梯形 18"/>
          <p:cNvSpPr/>
          <p:nvPr/>
        </p:nvSpPr>
        <p:spPr>
          <a:xfrm flipV="1" rot="803400">
            <a:off x="8792640" y="4089240"/>
            <a:ext cx="1066680" cy="1125720"/>
          </a:xfrm>
          <a:custGeom>
            <a:avLst/>
            <a:gdLst>
              <a:gd name="textAreaLeft" fmla="*/ 222120 w 1066680"/>
              <a:gd name="textAreaRight" fmla="*/ 844560 w 1066680"/>
              <a:gd name="textAreaTop" fmla="*/ 234360 h 1125720"/>
              <a:gd name="textAreaBottom" fmla="*/ 89136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35"/>
          <p:cNvSpPr/>
          <p:nvPr/>
        </p:nvSpPr>
        <p:spPr>
          <a:xfrm>
            <a:off x="4443480" y="4295880"/>
            <a:ext cx="63360" cy="495360"/>
          </a:xfrm>
          <a:custGeom>
            <a:avLst/>
            <a:gdLst>
              <a:gd name="textAreaLeft" fmla="*/ 0 w 63360"/>
              <a:gd name="textAreaRight" fmla="*/ 63720 w 63360"/>
              <a:gd name="textAreaTop" fmla="*/ 0 h 495360"/>
              <a:gd name="textAreaBottom" fmla="*/ 495360 h 495360"/>
            </a:gdLst>
            <a:ahLst/>
            <a:rect l="textAreaLeft" t="textAreaTop" r="textAreaRight" b="textAreaBottom"/>
            <a:pathLst>
              <a:path w="646096" h="4925517">
                <a:moveTo>
                  <a:pt x="0" y="0"/>
                </a:moveTo>
                <a:lnTo>
                  <a:pt x="457200" y="0"/>
                </a:lnTo>
                <a:lnTo>
                  <a:pt x="457200" y="345462"/>
                </a:lnTo>
                <a:lnTo>
                  <a:pt x="644103" y="345462"/>
                </a:lnTo>
                <a:lnTo>
                  <a:pt x="644103" y="366735"/>
                </a:lnTo>
                <a:lnTo>
                  <a:pt x="646096" y="366735"/>
                </a:lnTo>
                <a:lnTo>
                  <a:pt x="646096" y="2427244"/>
                </a:lnTo>
                <a:lnTo>
                  <a:pt x="552654" y="2427244"/>
                </a:lnTo>
                <a:lnTo>
                  <a:pt x="552654" y="599047"/>
                </a:lnTo>
                <a:lnTo>
                  <a:pt x="457200" y="599047"/>
                </a:lnTo>
                <a:lnTo>
                  <a:pt x="457200" y="2965471"/>
                </a:lnTo>
                <a:lnTo>
                  <a:pt x="409972" y="2965471"/>
                </a:lnTo>
                <a:lnTo>
                  <a:pt x="409972" y="3909980"/>
                </a:lnTo>
                <a:lnTo>
                  <a:pt x="377159" y="3909980"/>
                </a:lnTo>
                <a:lnTo>
                  <a:pt x="299852" y="4730871"/>
                </a:lnTo>
                <a:lnTo>
                  <a:pt x="259850" y="4730871"/>
                </a:lnTo>
                <a:lnTo>
                  <a:pt x="259850" y="4883512"/>
                </a:lnTo>
                <a:cubicBezTo>
                  <a:pt x="259850" y="4906711"/>
                  <a:pt x="241044" y="4925517"/>
                  <a:pt x="217845" y="4925517"/>
                </a:cubicBezTo>
                <a:cubicBezTo>
                  <a:pt x="194646" y="4925517"/>
                  <a:pt x="175840" y="4906711"/>
                  <a:pt x="175840" y="4883512"/>
                </a:cubicBezTo>
                <a:lnTo>
                  <a:pt x="175840" y="4730871"/>
                </a:lnTo>
                <a:lnTo>
                  <a:pt x="144848" y="4730871"/>
                </a:lnTo>
                <a:lnTo>
                  <a:pt x="67540" y="3909980"/>
                </a:lnTo>
                <a:lnTo>
                  <a:pt x="47228" y="3909980"/>
                </a:lnTo>
                <a:lnTo>
                  <a:pt x="47228" y="2965471"/>
                </a:lnTo>
                <a:lnTo>
                  <a:pt x="0" y="2965471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36"/>
          <p:cNvSpPr/>
          <p:nvPr/>
        </p:nvSpPr>
        <p:spPr>
          <a:xfrm flipH="1">
            <a:off x="8268480" y="3990960"/>
            <a:ext cx="66600" cy="495360"/>
          </a:xfrm>
          <a:custGeom>
            <a:avLst/>
            <a:gdLst>
              <a:gd name="textAreaLeft" fmla="*/ -360 w 66600"/>
              <a:gd name="textAreaRight" fmla="*/ 66600 w 66600"/>
              <a:gd name="textAreaTop" fmla="*/ 0 h 495360"/>
              <a:gd name="textAreaBottom" fmla="*/ 495360 h 495360"/>
            </a:gdLst>
            <a:ahLst/>
            <a:rect l="textAreaLeft" t="textAreaTop" r="textAreaRight" b="textAreaBottom"/>
            <a:pathLst>
              <a:path w="646096" h="4925517">
                <a:moveTo>
                  <a:pt x="0" y="0"/>
                </a:moveTo>
                <a:lnTo>
                  <a:pt x="457200" y="0"/>
                </a:lnTo>
                <a:lnTo>
                  <a:pt x="457200" y="345462"/>
                </a:lnTo>
                <a:lnTo>
                  <a:pt x="644103" y="345462"/>
                </a:lnTo>
                <a:lnTo>
                  <a:pt x="644103" y="366735"/>
                </a:lnTo>
                <a:lnTo>
                  <a:pt x="646096" y="366735"/>
                </a:lnTo>
                <a:lnTo>
                  <a:pt x="646096" y="2427244"/>
                </a:lnTo>
                <a:lnTo>
                  <a:pt x="552654" y="2427244"/>
                </a:lnTo>
                <a:lnTo>
                  <a:pt x="552654" y="599047"/>
                </a:lnTo>
                <a:lnTo>
                  <a:pt x="457200" y="599047"/>
                </a:lnTo>
                <a:lnTo>
                  <a:pt x="457200" y="2965471"/>
                </a:lnTo>
                <a:lnTo>
                  <a:pt x="409972" y="2965471"/>
                </a:lnTo>
                <a:lnTo>
                  <a:pt x="409972" y="3909980"/>
                </a:lnTo>
                <a:lnTo>
                  <a:pt x="377159" y="3909980"/>
                </a:lnTo>
                <a:lnTo>
                  <a:pt x="299852" y="4730871"/>
                </a:lnTo>
                <a:lnTo>
                  <a:pt x="259850" y="4730871"/>
                </a:lnTo>
                <a:lnTo>
                  <a:pt x="259850" y="4883512"/>
                </a:lnTo>
                <a:cubicBezTo>
                  <a:pt x="259850" y="4906711"/>
                  <a:pt x="241044" y="4925517"/>
                  <a:pt x="217845" y="4925517"/>
                </a:cubicBezTo>
                <a:cubicBezTo>
                  <a:pt x="194646" y="4925517"/>
                  <a:pt x="175840" y="4906711"/>
                  <a:pt x="175840" y="4883512"/>
                </a:cubicBezTo>
                <a:lnTo>
                  <a:pt x="175840" y="4730871"/>
                </a:lnTo>
                <a:lnTo>
                  <a:pt x="144848" y="4730871"/>
                </a:lnTo>
                <a:lnTo>
                  <a:pt x="67540" y="3909980"/>
                </a:lnTo>
                <a:lnTo>
                  <a:pt x="47228" y="3909980"/>
                </a:lnTo>
                <a:lnTo>
                  <a:pt x="47228" y="2965471"/>
                </a:lnTo>
                <a:lnTo>
                  <a:pt x="0" y="2965471"/>
                </a:lnTo>
                <a:lnTo>
                  <a:pt x="0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8"/>
          <p:cNvSpPr/>
          <p:nvPr/>
        </p:nvSpPr>
        <p:spPr>
          <a:xfrm>
            <a:off x="0" y="5626080"/>
            <a:ext cx="12192120" cy="1244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9"/>
          <p:cNvSpPr/>
          <p:nvPr/>
        </p:nvSpPr>
        <p:spPr>
          <a:xfrm>
            <a:off x="4722840" y="4219560"/>
            <a:ext cx="3367080" cy="2289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0"/>
          <p:cNvSpPr/>
          <p:nvPr/>
        </p:nvSpPr>
        <p:spPr>
          <a:xfrm>
            <a:off x="5171400" y="2119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一对夫妻闹不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262626"/>
                </a:solidFill>
                <a:latin typeface="方正正大黑简体"/>
                <a:ea typeface="方正正大黑简体"/>
              </a:rPr>
              <a:t>打算互不讲话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c000"/>
                </a:solidFill>
                <a:latin typeface="方正正大黑简体"/>
                <a:ea typeface="方正正大黑简体"/>
              </a:rPr>
              <a:t>有事写纸条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19:39:00Z</dcterms:created>
  <dc:creator>张卫东</dc:creator>
  <dc:description/>
  <cp:keywords/>
  <dc:language>en-US</dc:language>
  <cp:lastModifiedBy>a</cp:lastModifiedBy>
  <dcterms:modified xsi:type="dcterms:W3CDTF">2015-07-20T12:52:10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