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FABC-310E-40ED-81D1-3D05DB1C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0FB1-0827-4C80-99D8-ECA18BC2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FB1B-699E-4F84-A3A1-39E8CFB1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400-EFDD-4BEF-B386-0CE9BC06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2F8C-8E23-4537-ABDC-DBC3B1E0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B5B-655F-4873-85FD-4F522CC7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002-2586-4721-9070-C2813556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6385-CC52-40C2-AD60-A329D1CC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1ECC-1077-4B80-9A35-D24A35B6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148-C218-40BF-9A77-4371AB69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1A9D-2B06-42EE-B23A-4C5C4EA2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866-23C9-4304-8D94-9BB5A876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1158-197A-4250-A5AC-AB1FB6DB982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50B9-00AA-43AD-BA89-EB8BF0FF32F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4"/>
          <p:cNvSpPr/>
          <p:nvPr/>
        </p:nvSpPr>
        <p:spPr>
          <a:xfrm>
            <a:off x="155520" y="663480"/>
            <a:ext cx="8809200" cy="60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4920" y="907920"/>
            <a:ext cx="90010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翻书效果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49640" y="2627280"/>
            <a:ext cx="4427280" cy="2743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00" y="6288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4FD-CF8A-41BF-B6A7-83E30809C4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7Z</dcterms:modified>
  <cp:revision>86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