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28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6.gif" ContentType="image/gif"/>
  <Override PartName="/ppt/media/image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3.png" ContentType="image/png"/>
  <Override PartName="/ppt/media/image2.gif" ContentType="image/gif"/>
  <Override PartName="/ppt/media/image22.png" ContentType="image/png"/>
  <Override PartName="/ppt/media/image1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2DC-173A-4DE9-92A8-517BF15E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E39-646D-402C-BECC-29609D8C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8E4-A8A7-4AB2-A6AF-070F1EDE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C91-31CD-4545-8A5C-E2503C18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E25-83EB-447F-8173-472E5D69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E5E-4C85-4EB6-99FD-B883D66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31C-5EB9-4F7C-8E67-EF518268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6BA-E610-44A2-AB55-67FAE698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B1B-032A-44AA-A364-717E2D7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711-6E5B-4520-A363-141F9BE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FD1-FCF4-49A6-BF49-3F4E5994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320-96F2-41B8-AEF5-F053F21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17B4-C169-4E2A-96E9-43040A74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006102215749278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20041114191069144"/>
          <p:cNvPicPr/>
          <p:nvPr/>
        </p:nvPicPr>
        <p:blipFill>
          <a:blip r:embed="rId2"/>
          <a:stretch/>
        </p:blipFill>
        <p:spPr>
          <a:xfrm>
            <a:off x="0" y="0"/>
            <a:ext cx="490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1763640" y="4797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7164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602136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9880" y="242100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观察物体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3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从它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楷体_GB2312"/>
              </a:rPr>
              <a:t>正面、侧面、上面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分别看到的是哪一幅图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3276720" y="2565000"/>
            <a:ext cx="3025800" cy="1656000"/>
            <a:chOff x="3276720" y="2565000"/>
            <a:chExt cx="3025800" cy="1656000"/>
          </a:xfrm>
        </p:grpSpPr>
        <p:sp>
          <p:nvSpPr>
            <p:cNvPr id="145" name="AutoShape 5"/>
            <p:cNvSpPr/>
            <p:nvPr/>
          </p:nvSpPr>
          <p:spPr>
            <a:xfrm rot="16200000">
              <a:off x="3961800" y="1879920"/>
              <a:ext cx="1655640" cy="30258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5011920" y="2997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"/>
            <p:cNvSpPr/>
            <p:nvPr/>
          </p:nvSpPr>
          <p:spPr>
            <a:xfrm flipH="1" flipV="1">
              <a:off x="4579920" y="2565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1042920" y="4581000"/>
            <a:ext cx="2592360" cy="1297440"/>
            <a:chOff x="1042920" y="4581000"/>
            <a:chExt cx="2592360" cy="1297440"/>
          </a:xfrm>
        </p:grpSpPr>
        <p:sp>
          <p:nvSpPr>
            <p:cNvPr id="149" name="Rectangle 9"/>
            <p:cNvSpPr/>
            <p:nvPr/>
          </p:nvSpPr>
          <p:spPr>
            <a:xfrm>
              <a:off x="1042920" y="4581360"/>
              <a:ext cx="2592360" cy="1297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 flipV="1">
              <a:off x="2338200" y="4581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2"/>
          <p:cNvSpPr/>
          <p:nvPr/>
        </p:nvSpPr>
        <p:spPr>
          <a:xfrm>
            <a:off x="5867280" y="4581360"/>
            <a:ext cx="122400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324000" y="0"/>
            <a:ext cx="237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拼一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754640" y="587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5724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33"/>
                </a:solidFill>
                <a:latin typeface="Arial"/>
                <a:ea typeface="幼圆"/>
              </a:rPr>
              <a:t>从它的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幼圆"/>
              </a:rPr>
              <a:t>正面、侧面、上面</a:t>
            </a:r>
            <a:r>
              <a:rPr b="1" lang="zh-CN" sz="4400" spc="-1" strike="noStrike">
                <a:solidFill>
                  <a:srgbClr val="666633"/>
                </a:solidFill>
                <a:latin typeface="Arial"/>
                <a:ea typeface="幼圆"/>
              </a:rPr>
              <a:t>分别看到的是哪一幅图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3635280" y="1413000"/>
            <a:ext cx="1441800" cy="2592360"/>
            <a:chOff x="3635280" y="1413000"/>
            <a:chExt cx="1441800" cy="2592360"/>
          </a:xfrm>
        </p:grpSpPr>
        <p:sp>
          <p:nvSpPr>
            <p:cNvPr id="157" name="AutoShape 9"/>
            <p:cNvSpPr/>
            <p:nvPr/>
          </p:nvSpPr>
          <p:spPr>
            <a:xfrm>
              <a:off x="3635280" y="1413000"/>
              <a:ext cx="1441440" cy="2592360"/>
            </a:xfrm>
            <a:prstGeom prst="cube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 flipH="1">
              <a:off x="3635640" y="2899440"/>
              <a:ext cx="106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 flipV="1">
              <a:off x="4701600" y="2529360"/>
              <a:ext cx="37548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"/>
          <p:cNvGrpSpPr/>
          <p:nvPr/>
        </p:nvGrpSpPr>
        <p:grpSpPr>
          <a:xfrm>
            <a:off x="3276720" y="4653000"/>
            <a:ext cx="2376360" cy="1225440"/>
            <a:chOff x="3276720" y="4653000"/>
            <a:chExt cx="2376360" cy="1225440"/>
          </a:xfrm>
        </p:grpSpPr>
        <p:sp>
          <p:nvSpPr>
            <p:cNvPr id="161" name="Rectangle 13"/>
            <p:cNvSpPr/>
            <p:nvPr/>
          </p:nvSpPr>
          <p:spPr>
            <a:xfrm>
              <a:off x="3276720" y="4653000"/>
              <a:ext cx="2376360" cy="1225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V="1">
              <a:off x="4464000" y="4653000"/>
              <a:ext cx="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1331640" y="3500280"/>
            <a:ext cx="1152720" cy="2305080"/>
            <a:chOff x="1331640" y="3500280"/>
            <a:chExt cx="1152720" cy="2305080"/>
          </a:xfrm>
        </p:grpSpPr>
        <p:sp>
          <p:nvSpPr>
            <p:cNvPr id="164" name="Rectangle 16"/>
            <p:cNvSpPr/>
            <p:nvPr/>
          </p:nvSpPr>
          <p:spPr>
            <a:xfrm rot="5400000">
              <a:off x="754920" y="4076640"/>
              <a:ext cx="2305080" cy="115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332000" y="46519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8"/>
          <p:cNvSpPr/>
          <p:nvPr/>
        </p:nvSpPr>
        <p:spPr>
          <a:xfrm>
            <a:off x="6732720" y="4581360"/>
            <a:ext cx="1079280" cy="1124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780000" y="595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1258920" y="595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6659640" y="587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ff"/>
                </a:solidFill>
                <a:latin typeface="Arial"/>
                <a:ea typeface="隶书"/>
              </a:rPr>
              <a:t>从它的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正面、侧面、上面</a:t>
            </a:r>
            <a:r>
              <a:rPr b="1" lang="zh-CN" sz="4400" spc="-1" strike="noStrike">
                <a:solidFill>
                  <a:srgbClr val="33ccff"/>
                </a:solidFill>
                <a:latin typeface="Arial"/>
                <a:ea typeface="隶书"/>
              </a:rPr>
              <a:t>分别看到的是哪一幅图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3"/>
          <p:cNvGrpSpPr/>
          <p:nvPr/>
        </p:nvGrpSpPr>
        <p:grpSpPr>
          <a:xfrm>
            <a:off x="1116000" y="4005360"/>
            <a:ext cx="936720" cy="1946160"/>
            <a:chOff x="1116000" y="4005360"/>
            <a:chExt cx="936720" cy="1946160"/>
          </a:xfrm>
        </p:grpSpPr>
        <p:sp>
          <p:nvSpPr>
            <p:cNvPr id="173" name="Rectangle 14"/>
            <p:cNvSpPr/>
            <p:nvPr/>
          </p:nvSpPr>
          <p:spPr>
            <a:xfrm rot="5400000">
              <a:off x="610920" y="4510080"/>
              <a:ext cx="194616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1116000" y="4977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0"/>
          <p:cNvGrpSpPr/>
          <p:nvPr/>
        </p:nvGrpSpPr>
        <p:grpSpPr>
          <a:xfrm>
            <a:off x="4500720" y="4005360"/>
            <a:ext cx="1873080" cy="1944720"/>
            <a:chOff x="4500720" y="4005360"/>
            <a:chExt cx="1873080" cy="1944720"/>
          </a:xfrm>
        </p:grpSpPr>
        <p:sp>
          <p:nvSpPr>
            <p:cNvPr id="176" name="Rectangle 16"/>
            <p:cNvSpPr/>
            <p:nvPr/>
          </p:nvSpPr>
          <p:spPr>
            <a:xfrm>
              <a:off x="4500720" y="4005360"/>
              <a:ext cx="1873080" cy="1919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4500720" y="49442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5437800" y="40053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9"/>
          <p:cNvGrpSpPr/>
          <p:nvPr/>
        </p:nvGrpSpPr>
        <p:grpSpPr>
          <a:xfrm>
            <a:off x="2987640" y="1700280"/>
            <a:ext cx="2304000" cy="2160360"/>
            <a:chOff x="2987640" y="1700280"/>
            <a:chExt cx="2304000" cy="2160360"/>
          </a:xfrm>
        </p:grpSpPr>
        <p:grpSp>
          <p:nvGrpSpPr>
            <p:cNvPr id="180" name="Group 21"/>
            <p:cNvGrpSpPr/>
            <p:nvPr/>
          </p:nvGrpSpPr>
          <p:grpSpPr>
            <a:xfrm>
              <a:off x="2987640" y="1700280"/>
              <a:ext cx="1320120" cy="2160360"/>
              <a:chOff x="2987640" y="1700280"/>
              <a:chExt cx="1320120" cy="2160360"/>
            </a:xfrm>
          </p:grpSpPr>
          <p:sp>
            <p:nvSpPr>
              <p:cNvPr id="181" name="AutoShape 22"/>
              <p:cNvSpPr/>
              <p:nvPr/>
            </p:nvSpPr>
            <p:spPr>
              <a:xfrm>
                <a:off x="2987640" y="1700280"/>
                <a:ext cx="1319760" cy="2160360"/>
              </a:xfrm>
              <a:prstGeom prst="cube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3"/>
              <p:cNvSpPr/>
              <p:nvPr/>
            </p:nvSpPr>
            <p:spPr>
              <a:xfrm flipH="1">
                <a:off x="2988000" y="293904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4"/>
              <p:cNvSpPr/>
              <p:nvPr/>
            </p:nvSpPr>
            <p:spPr>
              <a:xfrm flipV="1">
                <a:off x="3963960" y="2630880"/>
                <a:ext cx="3438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25"/>
            <p:cNvGrpSpPr/>
            <p:nvPr/>
          </p:nvGrpSpPr>
          <p:grpSpPr>
            <a:xfrm>
              <a:off x="3971520" y="1700280"/>
              <a:ext cx="1320120" cy="2160360"/>
              <a:chOff x="3971520" y="1700280"/>
              <a:chExt cx="1320120" cy="2160360"/>
            </a:xfrm>
          </p:grpSpPr>
          <p:sp>
            <p:nvSpPr>
              <p:cNvPr id="185" name="AutoShape 26"/>
              <p:cNvSpPr/>
              <p:nvPr/>
            </p:nvSpPr>
            <p:spPr>
              <a:xfrm>
                <a:off x="3971520" y="1700280"/>
                <a:ext cx="1319760" cy="2160360"/>
              </a:xfrm>
              <a:prstGeom prst="cube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 flipH="1">
                <a:off x="3971880" y="293904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 flipV="1">
                <a:off x="4947840" y="2630880"/>
                <a:ext cx="3438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30"/>
          <p:cNvSpPr/>
          <p:nvPr/>
        </p:nvSpPr>
        <p:spPr>
          <a:xfrm>
            <a:off x="1835280" y="537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6589800" y="54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2" descr="HaoSc25_1065_200525115326371"/>
          <p:cNvPicPr/>
          <p:nvPr/>
        </p:nvPicPr>
        <p:blipFill>
          <a:blip r:embed="rId1"/>
          <a:stretch/>
        </p:blipFill>
        <p:spPr>
          <a:xfrm>
            <a:off x="324000" y="0"/>
            <a:ext cx="89532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9"/>
          <p:cNvSpPr/>
          <p:nvPr/>
        </p:nvSpPr>
        <p:spPr>
          <a:xfrm>
            <a:off x="3873600" y="1212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8"/>
          <p:cNvGrpSpPr/>
          <p:nvPr/>
        </p:nvGrpSpPr>
        <p:grpSpPr>
          <a:xfrm>
            <a:off x="3635280" y="404640"/>
            <a:ext cx="1511280" cy="2737080"/>
            <a:chOff x="3635280" y="404640"/>
            <a:chExt cx="1511280" cy="2737080"/>
          </a:xfrm>
        </p:grpSpPr>
        <p:sp>
          <p:nvSpPr>
            <p:cNvPr id="49" name="AutoShape 52"/>
            <p:cNvSpPr/>
            <p:nvPr/>
          </p:nvSpPr>
          <p:spPr>
            <a:xfrm>
              <a:off x="3635280" y="404640"/>
              <a:ext cx="1511280" cy="2737080"/>
            </a:xfrm>
            <a:prstGeom prst="cube">
              <a:avLst>
                <a:gd name="adj" fmla="val 25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3635280" y="1677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3635280" y="1677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3635280" y="1740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6"/>
            <p:cNvSpPr/>
            <p:nvPr/>
          </p:nvSpPr>
          <p:spPr>
            <a:xfrm>
              <a:off x="3635280" y="1230840"/>
              <a:ext cx="174240" cy="64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7"/>
            <p:cNvSpPr/>
            <p:nvPr/>
          </p:nvSpPr>
          <p:spPr>
            <a:xfrm>
              <a:off x="3635280" y="1995480"/>
              <a:ext cx="174240" cy="6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1"/>
          <p:cNvGrpSpPr/>
          <p:nvPr/>
        </p:nvGrpSpPr>
        <p:grpSpPr>
          <a:xfrm>
            <a:off x="1258920" y="3429000"/>
            <a:ext cx="1150920" cy="2374920"/>
            <a:chOff x="1258920" y="3429000"/>
            <a:chExt cx="1150920" cy="2374920"/>
          </a:xfrm>
        </p:grpSpPr>
        <p:sp>
          <p:nvSpPr>
            <p:cNvPr id="56" name="Rectangle 59"/>
            <p:cNvSpPr/>
            <p:nvPr/>
          </p:nvSpPr>
          <p:spPr>
            <a:xfrm>
              <a:off x="1258920" y="3429000"/>
              <a:ext cx="1150920" cy="2374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1"/>
            <p:cNvSpPr/>
            <p:nvPr/>
          </p:nvSpPr>
          <p:spPr>
            <a:xfrm>
              <a:off x="1258920" y="428616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2"/>
            <p:cNvSpPr/>
            <p:nvPr/>
          </p:nvSpPr>
          <p:spPr>
            <a:xfrm>
              <a:off x="1258920" y="435276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3"/>
            <p:cNvSpPr/>
            <p:nvPr/>
          </p:nvSpPr>
          <p:spPr>
            <a:xfrm>
              <a:off x="1258920" y="3889440"/>
              <a:ext cx="173160" cy="68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4"/>
            <p:cNvSpPr/>
            <p:nvPr/>
          </p:nvSpPr>
          <p:spPr>
            <a:xfrm>
              <a:off x="1258920" y="4616280"/>
              <a:ext cx="173160" cy="6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5"/>
          <p:cNvSpPr/>
          <p:nvPr/>
        </p:nvSpPr>
        <p:spPr>
          <a:xfrm>
            <a:off x="4067280" y="3573360"/>
            <a:ext cx="934920" cy="2305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6"/>
          <p:cNvSpPr/>
          <p:nvPr/>
        </p:nvSpPr>
        <p:spPr>
          <a:xfrm>
            <a:off x="6227640" y="4221000"/>
            <a:ext cx="936720" cy="863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6AB-893E-4234-8DE6-2707FDB19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20061022157689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  <a:ea typeface="幼圆"/>
              </a:rPr>
              <a:t>第一张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幼圆"/>
              </a:rPr>
              <a:t>只能拍到图书箱的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幼圆"/>
              </a:rPr>
              <a:t>正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幼圆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119320" y="26370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</a:rPr>
              <a:t>第二张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：只能拍到图书箱的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正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　　　　和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左侧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84360" y="407664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</a:rPr>
              <a:t>第三张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既能拍到图书箱的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正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　　　　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右侧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，还要拍到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上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3" descr="2006102215687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4"/>
          <p:cNvSpPr/>
          <p:nvPr/>
        </p:nvSpPr>
        <p:spPr>
          <a:xfrm>
            <a:off x="1619280" y="112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724360" y="11253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9"/>
          <p:cNvGrpSpPr/>
          <p:nvPr/>
        </p:nvGrpSpPr>
        <p:grpSpPr>
          <a:xfrm>
            <a:off x="900000" y="1989000"/>
            <a:ext cx="2448000" cy="2232000"/>
            <a:chOff x="900000" y="1989000"/>
            <a:chExt cx="2448000" cy="2232000"/>
          </a:xfrm>
        </p:grpSpPr>
        <p:sp>
          <p:nvSpPr>
            <p:cNvPr id="75" name="Rectangle 9"/>
            <p:cNvSpPr/>
            <p:nvPr/>
          </p:nvSpPr>
          <p:spPr>
            <a:xfrm>
              <a:off x="900000" y="1989000"/>
              <a:ext cx="2448000" cy="2232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36"/>
            <p:cNvSpPr txBox="1"/>
            <p:nvPr/>
          </p:nvSpPr>
          <p:spPr>
            <a:xfrm>
              <a:off x="1331640" y="270828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捐款箱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4643280" y="1916280"/>
            <a:ext cx="2749680" cy="2303280"/>
            <a:chOff x="4643280" y="1916280"/>
            <a:chExt cx="2749680" cy="2303280"/>
          </a:xfrm>
        </p:grpSpPr>
        <p:sp>
          <p:nvSpPr>
            <p:cNvPr id="78" name="Rectangle 22"/>
            <p:cNvSpPr/>
            <p:nvPr/>
          </p:nvSpPr>
          <p:spPr>
            <a:xfrm>
              <a:off x="5343480" y="1916280"/>
              <a:ext cx="2049480" cy="230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3"/>
            <p:cNvSpPr/>
            <p:nvPr/>
          </p:nvSpPr>
          <p:spPr>
            <a:xfrm rot="5400000">
              <a:off x="3832200" y="2727360"/>
              <a:ext cx="2303280" cy="681120"/>
            </a:xfrm>
            <a:custGeom>
              <a:avLst/>
              <a:gdLst>
                <a:gd name="textAreaLeft" fmla="*/ 479160 w 2303280"/>
                <a:gd name="textAreaRight" fmla="*/ 1824120 w 2303280"/>
                <a:gd name="textAreaTop" fmla="*/ 141120 h 681120"/>
                <a:gd name="textAreaBottom" fmla="*/ 54000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37"/>
            <p:cNvSpPr txBox="1"/>
            <p:nvPr/>
          </p:nvSpPr>
          <p:spPr>
            <a:xfrm>
              <a:off x="5608440" y="2636640"/>
              <a:ext cx="1411200" cy="46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捐款箱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15480" y="13413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23880" y="457200"/>
            <a:ext cx="6919920" cy="3274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609080" y="36291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哪一幅图是淘气看到的？（画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38280" y="4343400"/>
            <a:ext cx="4419720" cy="2286000"/>
            <a:chOff x="2438280" y="4343400"/>
            <a:chExt cx="4419720" cy="2286000"/>
          </a:xfrm>
        </p:grpSpPr>
        <p:pic>
          <p:nvPicPr>
            <p:cNvPr id="85" name="Picture 6" descr="5"/>
            <p:cNvPicPr/>
            <p:nvPr/>
          </p:nvPicPr>
          <p:blipFill>
            <a:blip r:embed="rId2"/>
            <a:stretch/>
          </p:blipFill>
          <p:spPr>
            <a:xfrm>
              <a:off x="2536560" y="4343400"/>
              <a:ext cx="12733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6"/>
            <p:cNvPicPr/>
            <p:nvPr/>
          </p:nvPicPr>
          <p:blipFill>
            <a:blip r:embed="rId3"/>
            <a:stretch/>
          </p:blipFill>
          <p:spPr>
            <a:xfrm>
              <a:off x="5678280" y="4419720"/>
              <a:ext cx="9511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2438280" y="4343400"/>
              <a:ext cx="1447920" cy="167652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5410080" y="4343400"/>
              <a:ext cx="1447920" cy="167652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2971800" y="6248520"/>
              <a:ext cx="380880" cy="380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6019560" y="6248520"/>
              <a:ext cx="381240" cy="380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2984760" y="6210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14320" y="250920"/>
            <a:ext cx="1828800" cy="533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042920" y="189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HaoSc25_1065_20052511532360"/>
          <p:cNvPicPr/>
          <p:nvPr/>
        </p:nvPicPr>
        <p:blipFill>
          <a:blip r:embed="rId4"/>
          <a:stretch/>
        </p:blipFill>
        <p:spPr>
          <a:xfrm>
            <a:off x="179280" y="0"/>
            <a:ext cx="619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86760" y="12682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7"/>
          <p:cNvPicPr/>
          <p:nvPr/>
        </p:nvPicPr>
        <p:blipFill>
          <a:blip r:embed="rId1"/>
          <a:stretch/>
        </p:blipFill>
        <p:spPr>
          <a:xfrm>
            <a:off x="2057400" y="304920"/>
            <a:ext cx="5257800" cy="369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344480" y="38577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们看到的是哪一面？连一连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2637000" y="4572000"/>
            <a:ext cx="3687120" cy="2362320"/>
            <a:chOff x="2637000" y="4572000"/>
            <a:chExt cx="3687120" cy="2362320"/>
          </a:xfrm>
        </p:grpSpPr>
        <p:pic>
          <p:nvPicPr>
            <p:cNvPr id="99" name="Picture 6" descr="8"/>
            <p:cNvPicPr/>
            <p:nvPr/>
          </p:nvPicPr>
          <p:blipFill>
            <a:blip r:embed="rId2"/>
            <a:stretch/>
          </p:blipFill>
          <p:spPr>
            <a:xfrm>
              <a:off x="2865240" y="4572000"/>
              <a:ext cx="71568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9"/>
            <p:cNvPicPr/>
            <p:nvPr/>
          </p:nvPicPr>
          <p:blipFill>
            <a:blip r:embed="rId3"/>
            <a:stretch/>
          </p:blipFill>
          <p:spPr>
            <a:xfrm>
              <a:off x="5292360" y="4572000"/>
              <a:ext cx="77292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10"/>
            <p:cNvPicPr/>
            <p:nvPr/>
          </p:nvPicPr>
          <p:blipFill>
            <a:blip r:embed="rId4"/>
            <a:stretch/>
          </p:blipFill>
          <p:spPr>
            <a:xfrm>
              <a:off x="2637000" y="5897520"/>
              <a:ext cx="12189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11"/>
            <p:cNvPicPr/>
            <p:nvPr/>
          </p:nvPicPr>
          <p:blipFill>
            <a:blip r:embed="rId5"/>
            <a:stretch/>
          </p:blipFill>
          <p:spPr>
            <a:xfrm>
              <a:off x="5151240" y="5638680"/>
              <a:ext cx="1172880" cy="12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Line 10"/>
          <p:cNvSpPr/>
          <p:nvPr/>
        </p:nvSpPr>
        <p:spPr>
          <a:xfrm>
            <a:off x="3505320" y="5181480"/>
            <a:ext cx="1752480" cy="1067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V="1">
            <a:off x="3886200" y="5181480"/>
            <a:ext cx="13716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71400" y="32220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826920" y="260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HaoSc25_1065_200525115329734"/>
          <p:cNvPicPr/>
          <p:nvPr/>
        </p:nvPicPr>
        <p:blipFill>
          <a:blip r:embed="rId6"/>
          <a:stretch/>
        </p:blipFill>
        <p:spPr>
          <a:xfrm>
            <a:off x="250920" y="0"/>
            <a:ext cx="666720" cy="139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86200" y="62064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看一看，说一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51280" y="1341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"/>
          <p:cNvPicPr/>
          <p:nvPr/>
        </p:nvPicPr>
        <p:blipFill>
          <a:blip r:embed="rId1"/>
          <a:stretch/>
        </p:blipFill>
        <p:spPr>
          <a:xfrm>
            <a:off x="4716360" y="404640"/>
            <a:ext cx="388620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"/>
          <p:cNvPicPr/>
          <p:nvPr/>
        </p:nvPicPr>
        <p:blipFill>
          <a:blip r:embed="rId2"/>
          <a:stretch/>
        </p:blipFill>
        <p:spPr>
          <a:xfrm>
            <a:off x="1258920" y="5445000"/>
            <a:ext cx="117000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4"/>
          <p:cNvPicPr/>
          <p:nvPr/>
        </p:nvPicPr>
        <p:blipFill>
          <a:blip r:embed="rId3"/>
          <a:stretch/>
        </p:blipFill>
        <p:spPr>
          <a:xfrm>
            <a:off x="3132000" y="5229360"/>
            <a:ext cx="1981440" cy="1149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5"/>
          <p:cNvPicPr/>
          <p:nvPr/>
        </p:nvPicPr>
        <p:blipFill>
          <a:blip r:embed="rId4"/>
          <a:stretch/>
        </p:blipFill>
        <p:spPr>
          <a:xfrm>
            <a:off x="5940360" y="5229360"/>
            <a:ext cx="1981440" cy="1207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611280" y="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2692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382400" y="3141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图形分别是谁看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4292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淘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635280" y="38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兰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084720" y="38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979640" y="4581360"/>
            <a:ext cx="201600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2050560" y="4365720"/>
            <a:ext cx="4033800" cy="115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4427640" y="4437000"/>
            <a:ext cx="194472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4788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淘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8028000" y="1700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兰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308720" y="404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HaoSc25_1065_200525115326797"/>
          <p:cNvPicPr/>
          <p:nvPr/>
        </p:nvPicPr>
        <p:blipFill>
          <a:blip r:embed="rId5"/>
          <a:stretch/>
        </p:blipFill>
        <p:spPr>
          <a:xfrm>
            <a:off x="0" y="-171360"/>
            <a:ext cx="64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809000" y="31417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哪幅图是淘气看到的？哪幅图是小红看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16"/>
          <p:cNvPicPr/>
          <p:nvPr/>
        </p:nvPicPr>
        <p:blipFill>
          <a:blip r:embed="rId1"/>
          <a:stretch/>
        </p:blipFill>
        <p:spPr>
          <a:xfrm>
            <a:off x="1619280" y="620640"/>
            <a:ext cx="367992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7"/>
          <p:cNvPicPr/>
          <p:nvPr/>
        </p:nvPicPr>
        <p:blipFill>
          <a:blip r:embed="rId2"/>
          <a:stretch/>
        </p:blipFill>
        <p:spPr>
          <a:xfrm>
            <a:off x="5508720" y="476280"/>
            <a:ext cx="220644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8"/>
          <p:cNvPicPr/>
          <p:nvPr/>
        </p:nvPicPr>
        <p:blipFill>
          <a:blip r:embed="rId3"/>
          <a:stretch/>
        </p:blipFill>
        <p:spPr>
          <a:xfrm>
            <a:off x="2195640" y="5084640"/>
            <a:ext cx="1092240" cy="15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9"/>
          <p:cNvPicPr/>
          <p:nvPr/>
        </p:nvPicPr>
        <p:blipFill>
          <a:blip r:embed="rId4"/>
          <a:stretch/>
        </p:blipFill>
        <p:spPr>
          <a:xfrm>
            <a:off x="4067280" y="5229360"/>
            <a:ext cx="125244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20"/>
          <p:cNvPicPr/>
          <p:nvPr/>
        </p:nvPicPr>
        <p:blipFill>
          <a:blip r:embed="rId5"/>
          <a:stretch/>
        </p:blipFill>
        <p:spPr>
          <a:xfrm>
            <a:off x="6012000" y="4941720"/>
            <a:ext cx="112536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95280" y="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11280" y="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462480" y="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看一看，说一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080720" y="1052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340000" y="386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彩云"/>
              </a:rPr>
              <a:t>淘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012000" y="378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华文彩云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16360" y="4508640"/>
            <a:ext cx="324000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3131640" y="4437000"/>
            <a:ext cx="3313080" cy="1008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HaoSc25_1065_20052511535580"/>
          <p:cNvPicPr/>
          <p:nvPr/>
        </p:nvPicPr>
        <p:blipFill>
          <a:blip r:embed="rId6"/>
          <a:stretch/>
        </p:blipFill>
        <p:spPr>
          <a:xfrm>
            <a:off x="0" y="0"/>
            <a:ext cx="542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2:19:59Z</dcterms:created>
  <dc:creator/>
  <dc:description/>
  <cp:keywords>幻灯片之家 http:/www.eeppt.com</cp:keywords>
  <dc:language>en-US</dc:language>
  <cp:lastModifiedBy/>
  <dcterms:modified xsi:type="dcterms:W3CDTF">2015-07-18T13:58:5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