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A33-1DB0-4A2C-8222-EBE9467B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588-9582-43C9-99AA-CC7EFCD9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249-9821-42A3-9518-89D60AD4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11D-7154-46C1-A190-4FAB4547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EA13-C814-4D20-8592-E316F999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A03-B1CB-464E-8F22-AA118E2F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C0EE-036B-4EE0-AFF3-FA9F5E4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2AE8-A6B7-44ED-915E-CDCB905C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28C7-3805-48AD-BC3D-FA9FC272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C745-DBB4-47A8-8C58-F7AC54CE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1D9-1F5B-4927-829E-673F1232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F92-36ED-4663-8143-36F0DFF3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349-A0EE-478F-AFF8-9658B4A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277C-5EEA-4B8D-B080-12BD476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D9CB-2CE4-4E0A-BB0A-15880386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2AA9-CF96-4F14-A148-507079C0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3ED-C644-4970-93BA-2AEFE77C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214-21AA-4C29-BB36-CC80277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563-BDF2-4117-A098-DC937D4B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7BD-63F5-49A6-8CA7-FF2CD534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B69-9A47-4D48-A6EE-6F95378C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52A-134F-4847-B7A6-E1219DF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796-3E08-4633-8921-988CC8D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FBE-B454-4D75-9523-3DC5FD2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DB21-1641-48CE-A09A-264CF6A522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6B4A-4D2D-4F32-8DBB-63970D2B34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875F-4965-4096-915D-BB2EE90807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1716-63F6-4658-ABD1-3A5190C1E1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00" y="4943520"/>
            <a:ext cx="9144000" cy="189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D:\Desktop\素材\照片\建筑\city_wallpaper_by_faytalitygfx-d577mqg.jpg"/>
          <p:cNvPicPr/>
          <p:nvPr/>
        </p:nvPicPr>
        <p:blipFill>
          <a:blip r:embed="rId1"/>
          <a:srcRect l="5880" t="0" r="5932" b="0"/>
          <a:stretch/>
        </p:blipFill>
        <p:spPr>
          <a:xfrm>
            <a:off x="0" y="0"/>
            <a:ext cx="914256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矩形 9"/>
          <p:cNvSpPr/>
          <p:nvPr/>
        </p:nvSpPr>
        <p:spPr>
          <a:xfrm>
            <a:off x="0" y="4956120"/>
            <a:ext cx="9142560" cy="7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2987640" y="524520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汉真广标"/>
                <a:ea typeface="汉真广标"/>
              </a:rPr>
              <a:t>黑白城市</a:t>
            </a:r>
            <a:r>
              <a:rPr b="0" lang="en-US" sz="4000" spc="-1" strike="noStrike">
                <a:solidFill>
                  <a:srgbClr val="7f7f7f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7f7f7f"/>
                </a:solidFill>
                <a:latin typeface="汉真广标"/>
                <a:ea typeface="汉真广标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-1440" y="1530360"/>
            <a:ext cx="9138960" cy="532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Desktop\素材\照片\建筑\city_wallpaper_by_faytalitygfx-d577mqg.jpg"/>
          <p:cNvPicPr/>
          <p:nvPr/>
        </p:nvPicPr>
        <p:blipFill>
          <a:blip r:embed="rId2"/>
          <a:srcRect l="0" t="30409" r="0" b="34795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968480" y="957240"/>
            <a:ext cx="511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0" y="1457280"/>
            <a:ext cx="9142560" cy="73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038240" y="285264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www.1ppt.com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，成立于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，最早网站名为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国  是国内最早一批从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下载服务的专业网站，经过多年的运营和发展，原网站技术架构和网站目录已经不能适应新的发展趋势，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进行改版，并更名为第一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取消了网站内收费项目，目前第一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站内所有资源均为免费下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-1440" y="1530360"/>
            <a:ext cx="9138960" cy="532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Desktop\素材\照片\建筑\city_wallpaper_by_faytalitygfx-d577mqg.jpg"/>
          <p:cNvPicPr/>
          <p:nvPr/>
        </p:nvPicPr>
        <p:blipFill>
          <a:blip r:embed="rId2"/>
          <a:srcRect l="0" t="30409" r="0" b="34795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1968480" y="957240"/>
            <a:ext cx="511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0" y="1457280"/>
            <a:ext cx="9142560" cy="73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393920" y="276552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1393920" y="381492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1393920" y="494028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900000" y="6308640"/>
            <a:ext cx="67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23:03:00Z</dcterms:created>
  <dc:creator/>
  <dc:description/>
  <cp:keywords>幻灯片之家 http:/www.eeppt.com</cp:keywords>
  <dc:language>en-US</dc:language>
  <cp:lastModifiedBy/>
  <dcterms:modified xsi:type="dcterms:W3CDTF">2015-07-20T06:31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