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0.jpeg" ContentType="image/jpeg"/>
  <Override PartName="/ppt/media/image15.jpeg" ContentType="image/jpeg"/>
  <Override PartName="/ppt/media/image19.gif" ContentType="image/gif"/>
  <Override PartName="/ppt/media/image1.jpeg" ContentType="image/jpeg"/>
  <Override PartName="/ppt/media/image18.jpeg" ContentType="image/jpeg"/>
  <Override PartName="/ppt/media/image16.jpeg" ContentType="image/jpeg"/>
  <Override PartName="/ppt/media/image21.jpeg" ContentType="image/jpeg"/>
  <Override PartName="/ppt/media/image17.gif" ContentType="image/gif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62700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211440" y="24220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04256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62700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211440" y="4641480"/>
            <a:ext cx="2460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042560" y="1773000"/>
            <a:ext cx="7643880" cy="30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959360" y="46414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59360" y="2422080"/>
            <a:ext cx="372996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042560" y="4641480"/>
            <a:ext cx="7643880" cy="202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../../../../&#24120;&#29992;&#36719;&#20214;/Storm2011595.exe" TargetMode="External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hyperlink" Target="http://www.eeppt.com/sucai/" TargetMode="Externa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../../&#23433;&#24466;&#29983;&#35762;&#25925;&#20107;01&#30343;&#24093;&#30340;&#26032;&#35013; &#35266;&#30475;.flv" TargetMode="External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aike.baidu.com/view/582298.htm" TargetMode="External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42560" y="2997360"/>
            <a:ext cx="7643880" cy="36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隶书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隶书"/>
                <a:ea typeface="隶书"/>
              </a:rPr>
              <a:t>假设大家是初中一年级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隶书"/>
              </a:rPr>
              <a:t>“</a:t>
            </a:r>
            <a:r>
              <a:rPr b="0" lang="ru-RU" sz="4000" spc="-1" strike="noStrike">
                <a:solidFill>
                  <a:srgbClr val="000000"/>
                </a:solidFill>
                <a:latin typeface="隶书"/>
                <a:ea typeface="隶书"/>
              </a:rPr>
              <a:t>火箭班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  <a:ea typeface="隶书"/>
              </a:rPr>
              <a:t>”</a:t>
            </a:r>
            <a:r>
              <a:rPr b="0" lang="ru-RU" sz="4000" spc="-1" strike="noStrike">
                <a:solidFill>
                  <a:srgbClr val="000000"/>
                </a:solidFill>
                <a:latin typeface="隶书"/>
                <a:ea typeface="隶书"/>
              </a:rPr>
              <a:t>的学生，（但是可以用现在的思维水平考虑问题，注意时空、角色转换）而我就是你们这学期的语文老师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隶书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13080" y="6453360"/>
            <a:ext cx="44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641320" y="1628640"/>
            <a:ext cx="354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皇帝的新装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课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652608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7a8a14461329f0426b63e5a7"/>
          <p:cNvPicPr/>
          <p:nvPr/>
        </p:nvPicPr>
        <p:blipFill>
          <a:blip r:embed="rId2"/>
          <a:stretch/>
        </p:blipFill>
        <p:spPr>
          <a:xfrm>
            <a:off x="1835280" y="2708280"/>
            <a:ext cx="1296720" cy="142236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280" y="4408560"/>
            <a:ext cx="7489800" cy="24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所谓童心，其实是人在最初未受外界任何干扰时一颗毫无造作，绝对真诚的本心。如果失掉童心，便是失掉真心；失去真心，也就失去了做一个真人的资格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宋体"/>
              </a:rPr>
              <a:t>。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280" y="1413000"/>
            <a:ext cx="76438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夫童心者，绝假纯真，最初一念之本心也。若失却童心，便失却真心；失却真心，便失却真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——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明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·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李贽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童心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隶书"/>
              </a:rPr>
              <a:t>读准字音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203640" y="2610000"/>
            <a:ext cx="562752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炫耀   愚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妥当   呈报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滑稽   陛下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赐给   爵士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头衔   勋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御聘   骇人听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不可救药    随声附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413080" y="6453360"/>
            <a:ext cx="44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5" descr="hddxz-01"/>
          <p:cNvPicPr/>
          <p:nvPr/>
        </p:nvPicPr>
        <p:blipFill>
          <a:blip r:embed="rId2"/>
          <a:stretch/>
        </p:blipFill>
        <p:spPr>
          <a:xfrm>
            <a:off x="1523880" y="1295280"/>
            <a:ext cx="6172200" cy="35816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6"/>
          <p:cNvSpPr/>
          <p:nvPr/>
        </p:nvSpPr>
        <p:spPr>
          <a:xfrm>
            <a:off x="1752480" y="52578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495360" y="49528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１、很久很久以前，在某个国家，有一个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皇帝很喜欢新衣服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一天，来了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两个骗子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自称能织世上最漂亮的布，而且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用这种布织成的衣服愚蠢的人或不诚实的人是看不见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，皇帝便给了许多钱给这两个骗子让他们马上工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1523880" y="533412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２、于是，这两个骗子便在皇帝的一间大屋子里搭起织机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假装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很起劲的织起布来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　嘎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....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嘎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.....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hddxz-02"/>
          <p:cNvPicPr/>
          <p:nvPr/>
        </p:nvPicPr>
        <p:blipFill>
          <a:blip r:embed="rId2"/>
          <a:stretch/>
        </p:blipFill>
        <p:spPr>
          <a:xfrm>
            <a:off x="1600200" y="1371600"/>
            <a:ext cx="609588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04"/>
          <p:cNvPicPr/>
          <p:nvPr/>
        </p:nvPicPr>
        <p:blipFill>
          <a:blip r:embed="rId2"/>
          <a:stretch/>
        </p:blipFill>
        <p:spPr>
          <a:xfrm>
            <a:off x="1523880" y="1143000"/>
            <a:ext cx="6248520" cy="380988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1219320" y="4952880"/>
            <a:ext cx="754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过了一段时间，皇帝忍不住想去看看这种神奇的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布料。他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: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现在布料应该快织完了吧！我是不是</a:t>
            </a:r>
            <a:br>
              <a:rPr sz="2400"/>
            </a:b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该去瞧一眼呢？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但是，他马上想起来了，任何不诚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实或愚蠢的人是看不到这种布料的，便派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宰相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去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80880" y="914400"/>
            <a:ext cx="8762760" cy="6170400"/>
            <a:chOff x="380880" y="914400"/>
            <a:chExt cx="8762760" cy="6170400"/>
          </a:xfrm>
        </p:grpSpPr>
        <p:sp>
          <p:nvSpPr>
            <p:cNvPr id="119" name="Rectangle 6"/>
            <p:cNvSpPr/>
            <p:nvPr/>
          </p:nvSpPr>
          <p:spPr>
            <a:xfrm>
              <a:off x="380880" y="914400"/>
              <a:ext cx="8762760" cy="319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8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    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Rectangle 7"/>
            <p:cNvSpPr/>
            <p:nvPr/>
          </p:nvSpPr>
          <p:spPr>
            <a:xfrm>
              <a:off x="380880" y="4105080"/>
              <a:ext cx="8762760" cy="297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4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于是，宰相走进了两个骗子织布的那个大屋子。“噢！上帝呀！快让我瞧一眼这布料吧！”宰相在心里祈祷着。宰相拼命睁大眼睛，好看清楚些。但是，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织布机上空空荡荡，没有任何东西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。“噢！我的天哪！我怎么什么东西也看不见呀？”宰相想。“啊，哈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……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你觉得这布怎么样啊？”骗子们问他。“啊！难道这不是世界上最美的布料？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1" name="Picture 8" descr="05.gif (35162 bytes)"/>
          <p:cNvPicPr/>
          <p:nvPr/>
        </p:nvPicPr>
        <p:blipFill>
          <a:blip r:embed="rId2"/>
          <a:stretch/>
        </p:blipFill>
        <p:spPr>
          <a:xfrm>
            <a:off x="1905120" y="1219320"/>
            <a:ext cx="5410080" cy="320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371600" y="1905120"/>
            <a:ext cx="6851520" cy="4419000"/>
            <a:chOff x="1371600" y="1905120"/>
            <a:chExt cx="6851520" cy="4419000"/>
          </a:xfrm>
        </p:grpSpPr>
        <p:sp>
          <p:nvSpPr>
            <p:cNvPr id="125" name="Rectangle 6"/>
            <p:cNvSpPr/>
            <p:nvPr/>
          </p:nvSpPr>
          <p:spPr>
            <a:xfrm>
              <a:off x="1371600" y="1905120"/>
              <a:ext cx="6851520" cy="342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Rectangle 7"/>
            <p:cNvSpPr/>
            <p:nvPr/>
          </p:nvSpPr>
          <p:spPr>
            <a:xfrm>
              <a:off x="1371600" y="5330880"/>
              <a:ext cx="6851520" cy="99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AutoShape 8"/>
          <p:cNvSpPr/>
          <p:nvPr/>
        </p:nvSpPr>
        <p:spPr>
          <a:xfrm>
            <a:off x="1238400" y="1646280"/>
            <a:ext cx="4492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9"/>
          <p:cNvSpPr/>
          <p:nvPr/>
        </p:nvSpPr>
        <p:spPr>
          <a:xfrm>
            <a:off x="685800" y="57150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于是，他回来对皇帝说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嗯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那可真是块漂亮精致的布料。哦，很快就要完工了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虽然他什么也没看见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10" descr="06.gif (122176 bytes)"/>
          <p:cNvPicPr/>
          <p:nvPr/>
        </p:nvPicPr>
        <p:blipFill>
          <a:blip r:embed="rId2"/>
          <a:stretch/>
        </p:blipFill>
        <p:spPr>
          <a:xfrm>
            <a:off x="1295280" y="1447920"/>
            <a:ext cx="6477120" cy="426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143000" y="1295280"/>
            <a:ext cx="7619760" cy="5562360"/>
            <a:chOff x="1143000" y="1295280"/>
            <a:chExt cx="7619760" cy="5562360"/>
          </a:xfrm>
        </p:grpSpPr>
        <p:sp>
          <p:nvSpPr>
            <p:cNvPr id="133" name="Rectangle 6"/>
            <p:cNvSpPr/>
            <p:nvPr/>
          </p:nvSpPr>
          <p:spPr>
            <a:xfrm>
              <a:off x="1143000" y="1295280"/>
              <a:ext cx="7619760" cy="39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</a:t>
              </a:r>
              <a:r>
                <a:rPr b="0" lang="zh-CN" sz="180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 </a:t>
              </a:r>
              <a:r>
                <a:rPr b="0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                               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Rectangle 7"/>
            <p:cNvSpPr/>
            <p:nvPr/>
          </p:nvSpPr>
          <p:spPr>
            <a:xfrm>
              <a:off x="1143000" y="5216040"/>
              <a:ext cx="7619760" cy="164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6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、过了不久，皇帝心想，“不知那块布料织完了没有，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我简直等不及了。嗯，我得另外派一个人去看看。”</a:t>
              </a:r>
              <a:br>
                <a:rPr sz="2400"/>
              </a:b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于是，他又派了一个大臣去，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同样的事情又发生了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5" name="AutoShape 8"/>
          <p:cNvSpPr/>
          <p:nvPr/>
        </p:nvSpPr>
        <p:spPr>
          <a:xfrm>
            <a:off x="1028880" y="1463760"/>
            <a:ext cx="449244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9" descr="06.gif (122176 bytes)"/>
          <p:cNvPicPr/>
          <p:nvPr/>
        </p:nvPicPr>
        <p:blipFill>
          <a:blip r:embed="rId2"/>
          <a:stretch/>
        </p:blipFill>
        <p:spPr>
          <a:xfrm>
            <a:off x="1295280" y="1447920"/>
            <a:ext cx="6858000" cy="40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5" descr="08.gif (37158 bytes)"/>
          <p:cNvPicPr/>
          <p:nvPr/>
        </p:nvPicPr>
        <p:blipFill>
          <a:blip r:embed="rId2"/>
          <a:stretch/>
        </p:blipFill>
        <p:spPr>
          <a:xfrm>
            <a:off x="1523880" y="990720"/>
            <a:ext cx="624852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6"/>
          <p:cNvSpPr/>
          <p:nvPr/>
        </p:nvSpPr>
        <p:spPr>
          <a:xfrm>
            <a:off x="762120" y="472428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最后，皇帝决定要亲自去看看那块布料。于是，在许多大臣的簇拥下，皇帝来到骗子织布的地方，两个骗子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假装干得比以前更卖力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。“啊，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…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陛下，您看这布料漂亮吗？”骗子们问。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皇帝不愿说什么也没看到，只表示满意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在大臣们的建议下，皇帝决定穿这美丽布料做成的衣服参加游行大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5" descr="09.gif (41271 bytes)"/>
          <p:cNvPicPr/>
          <p:nvPr/>
        </p:nvPicPr>
        <p:blipFill>
          <a:blip r:embed="rId2"/>
          <a:stretch/>
        </p:blipFill>
        <p:spPr>
          <a:xfrm>
            <a:off x="1447920" y="1447920"/>
            <a:ext cx="6400800" cy="373356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6"/>
          <p:cNvSpPr/>
          <p:nvPr/>
        </p:nvSpPr>
        <p:spPr>
          <a:xfrm>
            <a:off x="1028880" y="5334120"/>
            <a:ext cx="708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在游行的前夜，两个骗子忙了个通宵。他们摆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1409760" y="5334120"/>
            <a:ext cx="632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一副要按时赶好皇帝新衣的样子，整夜赶工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4292640"/>
            <a:ext cx="7772400" cy="110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  <a:ea typeface="隶书"/>
              </a:rPr>
              <a:t>皇帝的新装</a:t>
            </a:r>
            <a:endParaRPr b="0" lang="en-US" sz="6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4360" y="5300280"/>
            <a:ext cx="6400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人教版新课程标准语文实验教材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七年级上册第六单元的一篇</a:t>
            </a:r>
            <a:r>
              <a:rPr b="0" lang="zh-CN" sz="2800" spc="-1" strike="noStrike" u="sng">
                <a:solidFill>
                  <a:srgbClr val="cc6600"/>
                </a:solidFill>
                <a:uFillTx/>
                <a:latin typeface="黑体"/>
                <a:ea typeface="黑体"/>
                <a:hlinkClick r:id="rId2"/>
              </a:rPr>
              <a:t>童话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10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200"/>
                            </p:stCondLst>
                            <p:childTnLst>
                              <p:par>
                                <p:cTn id="11" nodeType="afterEffect" fill="hold" presetClass="entr" presetID="1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5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6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7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8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9"/>
          <p:cNvSpPr/>
          <p:nvPr/>
        </p:nvSpPr>
        <p:spPr>
          <a:xfrm>
            <a:off x="2343240" y="2000160"/>
            <a:ext cx="44575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0"/>
          <p:cNvSpPr/>
          <p:nvPr/>
        </p:nvSpPr>
        <p:spPr>
          <a:xfrm>
            <a:off x="914400" y="5181480"/>
            <a:ext cx="7467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到了第二天早上，两个骗子对皇帝说：“陛下，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我们刚完成您游行的新衣服。”说完，便十分优雅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地把衣服捧给皇帝。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  当然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其实他们手上什么也没有。</a:t>
            </a:r>
            <a:r>
              <a:rPr b="0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1" descr="10.gif (37939 bytes)"/>
          <p:cNvPicPr/>
          <p:nvPr/>
        </p:nvPicPr>
        <p:blipFill>
          <a:blip r:embed="rId2"/>
          <a:stretch/>
        </p:blipFill>
        <p:spPr>
          <a:xfrm>
            <a:off x="1143000" y="1295280"/>
            <a:ext cx="6477120" cy="386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Picture 5" descr="11"/>
          <p:cNvPicPr/>
          <p:nvPr/>
        </p:nvPicPr>
        <p:blipFill>
          <a:blip r:embed="rId2"/>
          <a:stretch/>
        </p:blipFill>
        <p:spPr>
          <a:xfrm>
            <a:off x="1219320" y="1371600"/>
            <a:ext cx="6553080" cy="388620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6"/>
          <p:cNvSpPr/>
          <p:nvPr/>
        </p:nvSpPr>
        <p:spPr>
          <a:xfrm>
            <a:off x="990720" y="54864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“好了，陛下，就让我们在这面大镜子前为您穿</a:t>
            </a:r>
            <a:br>
              <a:rPr sz="2400"/>
            </a:b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上这套新衣吧！”于是，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皇帝脱光了衣服，只剩下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衣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两个骗子装模做样地一件一件为他上新衣服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13080" y="6453360"/>
            <a:ext cx="44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"/>
                <a:hlinkClick r:id="rId3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5" descr="12"/>
          <p:cNvPicPr/>
          <p:nvPr/>
        </p:nvPicPr>
        <p:blipFill>
          <a:blip r:embed="rId2"/>
          <a:stretch/>
        </p:blipFill>
        <p:spPr>
          <a:xfrm>
            <a:off x="1676520" y="1523880"/>
            <a:ext cx="5867280" cy="3429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6"/>
          <p:cNvSpPr/>
          <p:nvPr/>
        </p:nvSpPr>
        <p:spPr>
          <a:xfrm>
            <a:off x="914400" y="502920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皇帝穿着新衣服游行的消息很快便在老百姓中传开了。“嗨，听说皇帝的新衣服特别漂亮，叫人难以相信这是真的。”  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不错，而且更奇特的是愚蠢的人或者不诚实的人都看不见这衣服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 游行终于开始了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2303640" y="2000160"/>
            <a:ext cx="4536720" cy="28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6"/>
          <p:cNvSpPr/>
          <p:nvPr/>
        </p:nvSpPr>
        <p:spPr>
          <a:xfrm>
            <a:off x="800280" y="5486400"/>
            <a:ext cx="754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 就在这个时候，有个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小孩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突然叫了起来：“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可是他什么也没穿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”小孩的父亲赶紧捂住他的嘴，但是这小孩子的话在百姓中迅速传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7" descr="13.gif (42243 bytes)"/>
          <p:cNvPicPr/>
          <p:nvPr/>
        </p:nvPicPr>
        <p:blipFill>
          <a:blip r:embed="rId2"/>
          <a:stretch/>
        </p:blipFill>
        <p:spPr>
          <a:xfrm>
            <a:off x="1295280" y="1523880"/>
            <a:ext cx="647712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Text Box 2"/>
          <p:cNvSpPr/>
          <p:nvPr/>
        </p:nvSpPr>
        <p:spPr>
          <a:xfrm>
            <a:off x="1981080" y="380880"/>
            <a:ext cx="449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3"/>
          <p:cNvSpPr/>
          <p:nvPr/>
        </p:nvSpPr>
        <p:spPr>
          <a:xfrm>
            <a:off x="2514600" y="68580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5"/>
          <p:cNvSpPr/>
          <p:nvPr/>
        </p:nvSpPr>
        <p:spPr>
          <a:xfrm>
            <a:off x="1066680" y="5029200"/>
            <a:ext cx="701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、皇帝感到十分难堪，他这才觉得老百姓说的话似乎是对的。但他心里却想：“我必须把这游行大典举行完毕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因此他摆出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一负更骄傲的神气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6" descr="14.gif (39228 bytes)"/>
          <p:cNvPicPr/>
          <p:nvPr/>
        </p:nvPicPr>
        <p:blipFill>
          <a:blip r:embed="rId2"/>
          <a:stretch/>
        </p:blipFill>
        <p:spPr>
          <a:xfrm>
            <a:off x="1676520" y="1447920"/>
            <a:ext cx="57909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听说训练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宋体"/>
              </a:rPr>
              <a:t>安徒生讲故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01  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黑体"/>
              </a:rPr>
              <a:t>皇帝的新装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(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黑体"/>
              </a:rPr>
              <a:t>结尾游行片段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)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宋体"/>
              </a:rPr>
              <a:t>   </a:t>
            </a:r>
            <a:r>
              <a:rPr b="0" lang="ru-RU" sz="4400" spc="-1" strike="noStrike" u="sng">
                <a:solidFill>
                  <a:srgbClr val="cc6600"/>
                </a:solidFill>
                <a:uFillTx/>
                <a:latin typeface="Arial"/>
                <a:ea typeface="宋体"/>
                <a:hlinkClick r:id="rId2"/>
              </a:rPr>
              <a:t>观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宋体"/>
              </a:rPr>
              <a:t>大家讲讲自己都有哪些喜欢的童话故事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0000"/>
          <p:cNvPicPr/>
          <p:nvPr/>
        </p:nvPicPr>
        <p:blipFill>
          <a:blip r:embed="rId2"/>
          <a:stretch/>
        </p:blipFill>
        <p:spPr>
          <a:xfrm>
            <a:off x="0" y="0"/>
            <a:ext cx="9144000" cy="685476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78920" y="-360"/>
            <a:ext cx="87138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抓住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新装</a:t>
            </a:r>
            <a:r>
              <a:rPr b="1" lang="en-US" sz="2400" spc="-1" strike="noStrike">
                <a:solidFill>
                  <a:srgbClr val="000000"/>
                </a:solidFill>
                <a:latin typeface="华文中宋"/>
                <a:ea typeface="华文中宋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华文中宋"/>
              </a:rPr>
              <a:t>这条线索，按故事发展的先后顺序，概括主要情节。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619280" y="1700280"/>
            <a:ext cx="2232000" cy="50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皇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爱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骗子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做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官员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看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皇帝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小孩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揭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新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5"/>
          <p:cNvSpPr/>
          <p:nvPr/>
        </p:nvSpPr>
        <p:spPr>
          <a:xfrm>
            <a:off x="2700360" y="2205000"/>
            <a:ext cx="0" cy="57636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6"/>
          <p:cNvSpPr/>
          <p:nvPr/>
        </p:nvSpPr>
        <p:spPr>
          <a:xfrm>
            <a:off x="324000" y="1701720"/>
            <a:ext cx="151128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引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开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发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高潮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99"/>
                </a:solidFill>
                <a:latin typeface="黑体"/>
                <a:ea typeface="黑体"/>
              </a:rPr>
              <a:t>结局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7"/>
          <p:cNvSpPr/>
          <p:nvPr/>
        </p:nvSpPr>
        <p:spPr>
          <a:xfrm>
            <a:off x="2700360" y="3213000"/>
            <a:ext cx="0" cy="57636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2771640" y="4221000"/>
            <a:ext cx="0" cy="57636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9"/>
          <p:cNvSpPr/>
          <p:nvPr/>
        </p:nvSpPr>
        <p:spPr>
          <a:xfrm>
            <a:off x="2771640" y="5229360"/>
            <a:ext cx="0" cy="576000"/>
          </a:xfrm>
          <a:prstGeom prst="line">
            <a:avLst/>
          </a:prstGeom>
          <a:ln w="127080">
            <a:solidFill>
              <a:srgbClr val="3366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3924360" y="1197000"/>
            <a:ext cx="396072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服装费用：不惜倾其所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心思兴趣：最爱炫耀新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换衣次数：每一天每一点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11"/>
          <p:cNvSpPr/>
          <p:nvPr/>
        </p:nvSpPr>
        <p:spPr>
          <a:xfrm>
            <a:off x="3924360" y="1747800"/>
            <a:ext cx="48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用夸张的修辞突出皇帝的荒唐昏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2"/>
          <p:cNvSpPr/>
          <p:nvPr/>
        </p:nvSpPr>
        <p:spPr>
          <a:xfrm>
            <a:off x="3924360" y="2565360"/>
            <a:ext cx="396072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布的色彩和图案：分外美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布的特性：神奇怪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3"/>
          <p:cNvSpPr/>
          <p:nvPr/>
        </p:nvSpPr>
        <p:spPr>
          <a:xfrm>
            <a:off x="3924360" y="2781360"/>
            <a:ext cx="48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用想象手法写骗子如何诱皇帝上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3924360" y="3357720"/>
            <a:ext cx="3960720" cy="157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心理：怕被知道自己看不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神态：装模作样地看了又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言行：点头赞美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“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美极了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  <a:ea typeface="宋体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5"/>
          <p:cNvSpPr/>
          <p:nvPr/>
        </p:nvSpPr>
        <p:spPr>
          <a:xfrm>
            <a:off x="3924360" y="3716280"/>
            <a:ext cx="482436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表里不一，虚伪至极，与后面小孩的天真无邪形成鲜明对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6"/>
          <p:cNvSpPr/>
          <p:nvPr/>
        </p:nvSpPr>
        <p:spPr>
          <a:xfrm>
            <a:off x="3924360" y="4724280"/>
            <a:ext cx="36003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动作：在镜子前转动身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心理：让人觉得确有新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7"/>
          <p:cNvSpPr/>
          <p:nvPr/>
        </p:nvSpPr>
        <p:spPr>
          <a:xfrm>
            <a:off x="3924360" y="4941720"/>
            <a:ext cx="295272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自欺欺人，丑态百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18"/>
          <p:cNvSpPr/>
          <p:nvPr/>
        </p:nvSpPr>
        <p:spPr>
          <a:xfrm>
            <a:off x="3924360" y="5737320"/>
            <a:ext cx="3600360" cy="1015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揭穿方式：私下传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  <a:ea typeface="宋体"/>
              </a:rPr>
              <a:t>皇帝表现：发抖又摆傲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19"/>
          <p:cNvSpPr/>
          <p:nvPr/>
        </p:nvSpPr>
        <p:spPr>
          <a:xfrm>
            <a:off x="3924360" y="6021360"/>
            <a:ext cx="521964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表明皇帝及官员的昏庸、愚蠢、虚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20" descr="2"/>
          <p:cNvPicPr/>
          <p:nvPr/>
        </p:nvPicPr>
        <p:blipFill>
          <a:blip r:embed="rId3"/>
          <a:stretch/>
        </p:blipFill>
        <p:spPr>
          <a:xfrm>
            <a:off x="8424720" y="-96840"/>
            <a:ext cx="684360" cy="68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2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8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d39"/>
          <p:cNvPicPr/>
          <p:nvPr/>
        </p:nvPicPr>
        <p:blipFill>
          <a:blip r:embed="rId2"/>
          <a:stretch/>
        </p:blipFill>
        <p:spPr>
          <a:xfrm>
            <a:off x="0" y="3240"/>
            <a:ext cx="9144000" cy="6854760"/>
          </a:xfrm>
          <a:prstGeom prst="rect">
            <a:avLst/>
          </a:prstGeom>
          <a:ln w="0">
            <a:noFill/>
          </a:ln>
        </p:spPr>
      </p:pic>
      <p:grpSp>
        <p:nvGrpSpPr>
          <p:cNvPr id="195" name=""/>
          <p:cNvGrpSpPr/>
          <p:nvPr/>
        </p:nvGrpSpPr>
        <p:grpSpPr>
          <a:xfrm>
            <a:off x="3276720" y="3068640"/>
            <a:ext cx="1512720" cy="1441440"/>
            <a:chOff x="3276720" y="3068640"/>
            <a:chExt cx="1512720" cy="1441440"/>
          </a:xfrm>
        </p:grpSpPr>
        <p:sp>
          <p:nvSpPr>
            <p:cNvPr id="196" name="AutoShape 4"/>
            <p:cNvSpPr/>
            <p:nvPr/>
          </p:nvSpPr>
          <p:spPr>
            <a:xfrm>
              <a:off x="3276720" y="3068640"/>
              <a:ext cx="1512720" cy="1441440"/>
            </a:xfrm>
            <a:custGeom>
              <a:avLst/>
              <a:gdLst>
                <a:gd name="textAreaLeft" fmla="*/ 355320 w 1512720"/>
                <a:gd name="textAreaRight" fmla="*/ 1157400 w 1512720"/>
                <a:gd name="textAreaTop" fmla="*/ 338400 h 1441440"/>
                <a:gd name="textAreaBottom" fmla="*/ 1103040 h 1441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2849" y="12346"/>
                  </a:lnTo>
                  <a:lnTo>
                    <a:pt x="786" y="14846"/>
                  </a:lnTo>
                  <a:lnTo>
                    <a:pt x="4007" y="15212"/>
                  </a:lnTo>
                  <a:lnTo>
                    <a:pt x="3163" y="18437"/>
                  </a:lnTo>
                  <a:lnTo>
                    <a:pt x="6271" y="17515"/>
                  </a:lnTo>
                  <a:lnTo>
                    <a:pt x="6580" y="20741"/>
                  </a:lnTo>
                  <a:lnTo>
                    <a:pt x="9116" y="18723"/>
                  </a:lnTo>
                  <a:lnTo>
                    <a:pt x="10800" y="21600"/>
                  </a:lnTo>
                  <a:lnTo>
                    <a:pt x="12346" y="18751"/>
                  </a:lnTo>
                  <a:lnTo>
                    <a:pt x="14846" y="20814"/>
                  </a:lnTo>
                  <a:lnTo>
                    <a:pt x="15212" y="17593"/>
                  </a:lnTo>
                  <a:lnTo>
                    <a:pt x="18437" y="18437"/>
                  </a:lnTo>
                  <a:lnTo>
                    <a:pt x="17515" y="15329"/>
                  </a:lnTo>
                  <a:lnTo>
                    <a:pt x="20741" y="15020"/>
                  </a:lnTo>
                  <a:lnTo>
                    <a:pt x="18723" y="12484"/>
                  </a:lnTo>
                  <a:lnTo>
                    <a:pt x="21600" y="10800"/>
                  </a:lnTo>
                  <a:lnTo>
                    <a:pt x="18751" y="9254"/>
                  </a:lnTo>
                  <a:lnTo>
                    <a:pt x="20814" y="6754"/>
                  </a:lnTo>
                  <a:lnTo>
                    <a:pt x="17593" y="6388"/>
                  </a:lnTo>
                  <a:lnTo>
                    <a:pt x="18437" y="3163"/>
                  </a:lnTo>
                  <a:lnTo>
                    <a:pt x="15329" y="4085"/>
                  </a:lnTo>
                  <a:lnTo>
                    <a:pt x="15020" y="859"/>
                  </a:lnTo>
                  <a:lnTo>
                    <a:pt x="12484" y="2877"/>
                  </a:lnTo>
                  <a:lnTo>
                    <a:pt x="10800" y="0"/>
                  </a:lnTo>
                  <a:lnTo>
                    <a:pt x="9254" y="2849"/>
                  </a:lnTo>
                  <a:lnTo>
                    <a:pt x="6754" y="786"/>
                  </a:lnTo>
                  <a:lnTo>
                    <a:pt x="6388" y="4007"/>
                  </a:lnTo>
                  <a:lnTo>
                    <a:pt x="3163" y="3163"/>
                  </a:lnTo>
                  <a:lnTo>
                    <a:pt x="4085" y="6271"/>
                  </a:lnTo>
                  <a:lnTo>
                    <a:pt x="859" y="6580"/>
                  </a:lnTo>
                  <a:lnTo>
                    <a:pt x="2877" y="9116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WordArt 5"/>
            <p:cNvSpPr txBox="1"/>
            <p:nvPr/>
          </p:nvSpPr>
          <p:spPr>
            <a:xfrm>
              <a:off x="3637080" y="3429000"/>
              <a:ext cx="719280" cy="79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ln w="0">
                    <a:noFill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c0c0c0">
                        <a:alpha val="75000"/>
                      </a:srgbClr>
                    </a:outerShdw>
                  </a:effectLst>
                  <a:latin typeface="黑体"/>
                </a:rPr>
                <a:t>骗</a:t>
              </a:r>
              <a:endParaRPr b="0" lang="en-US" sz="1800" spc="-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75000"/>
                    </a:srgbClr>
                  </a:outerShdw>
                </a:effectLst>
                <a:latin typeface="黑体"/>
                <a:ea typeface="黑体"/>
              </a:endParaRPr>
            </a:p>
          </p:txBody>
        </p:sp>
      </p:grpSp>
      <p:sp>
        <p:nvSpPr>
          <p:cNvPr id="198" name="AutoShape 6"/>
          <p:cNvSpPr/>
          <p:nvPr/>
        </p:nvSpPr>
        <p:spPr>
          <a:xfrm>
            <a:off x="6303960" y="4581360"/>
            <a:ext cx="1076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216" y="-9506"/>
                </a:moveTo>
                <a:lnTo>
                  <a:pt x="-1529" y="4050"/>
                </a:lnTo>
              </a:path>
              <a:path w="21600" h="21600">
                <a:moveTo>
                  <a:pt x="-1529" y="0"/>
                </a:moveTo>
                <a:lnTo>
                  <a:pt x="-1529" y="21600"/>
                </a:lnTo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百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7"/>
          <p:cNvSpPr/>
          <p:nvPr/>
        </p:nvSpPr>
        <p:spPr>
          <a:xfrm>
            <a:off x="6303960" y="2205000"/>
            <a:ext cx="1076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34343" y="37238"/>
                </a:moveTo>
                <a:lnTo>
                  <a:pt x="-1529" y="4050"/>
                </a:lnTo>
              </a:path>
              <a:path w="21600" h="21600">
                <a:moveTo>
                  <a:pt x="-1529" y="0"/>
                </a:moveTo>
                <a:lnTo>
                  <a:pt x="-1529" y="21600"/>
                </a:lnTo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小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8"/>
          <p:cNvSpPr/>
          <p:nvPr/>
        </p:nvSpPr>
        <p:spPr>
          <a:xfrm>
            <a:off x="615960" y="2276640"/>
            <a:ext cx="1076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5688" y="34538"/>
                </a:moveTo>
                <a:lnTo>
                  <a:pt x="23129" y="4050"/>
                </a:lnTo>
              </a:path>
              <a:path w="21600" h="21600">
                <a:moveTo>
                  <a:pt x="23129" y="0"/>
                </a:moveTo>
                <a:lnTo>
                  <a:pt x="23129" y="21600"/>
                </a:lnTo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骗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9"/>
          <p:cNvSpPr/>
          <p:nvPr/>
        </p:nvSpPr>
        <p:spPr>
          <a:xfrm>
            <a:off x="542880" y="4581360"/>
            <a:ext cx="10764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56995" y="-11700"/>
                </a:moveTo>
                <a:lnTo>
                  <a:pt x="23129" y="4050"/>
                </a:lnTo>
              </a:path>
              <a:path w="21600" h="21600">
                <a:moveTo>
                  <a:pt x="23129" y="0"/>
                </a:moveTo>
                <a:lnTo>
                  <a:pt x="23129" y="21600"/>
                </a:lnTo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官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10"/>
          <p:cNvSpPr/>
          <p:nvPr/>
        </p:nvSpPr>
        <p:spPr>
          <a:xfrm>
            <a:off x="3438360" y="1125360"/>
            <a:ext cx="1278000" cy="6098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-1288" y="4050"/>
                </a:moveTo>
                <a:lnTo>
                  <a:pt x="-1288" y="4050"/>
                </a:lnTo>
                <a:lnTo>
                  <a:pt x="-1288" y="34931"/>
                </a:lnTo>
                <a:lnTo>
                  <a:pt x="10196" y="66994"/>
                </a:lnTo>
              </a:path>
              <a:path w="21600" h="21600">
                <a:moveTo>
                  <a:pt x="-1288" y="0"/>
                </a:moveTo>
                <a:lnTo>
                  <a:pt x="-1288" y="21600"/>
                </a:lnTo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  <a:ea typeface="华文中宋"/>
              </a:rPr>
              <a:t>皇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WordArt 11"/>
          <p:cNvSpPr txBox="1"/>
          <p:nvPr/>
        </p:nvSpPr>
        <p:spPr>
          <a:xfrm rot="5400000">
            <a:off x="3563280" y="206028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受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204" name="WordArt 12"/>
          <p:cNvSpPr txBox="1"/>
          <p:nvPr/>
        </p:nvSpPr>
        <p:spPr>
          <a:xfrm rot="5400000">
            <a:off x="2194920" y="256356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行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205" name="WordArt 13"/>
          <p:cNvSpPr txBox="1"/>
          <p:nvPr/>
        </p:nvSpPr>
        <p:spPr>
          <a:xfrm rot="5400000">
            <a:off x="2194920" y="4292280"/>
            <a:ext cx="71928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助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206" name="WordArt 14"/>
          <p:cNvSpPr txBox="1"/>
          <p:nvPr/>
        </p:nvSpPr>
        <p:spPr>
          <a:xfrm rot="5400000">
            <a:off x="5003640" y="2565360"/>
            <a:ext cx="718920" cy="57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揭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207" name="WordArt 15"/>
          <p:cNvSpPr txBox="1"/>
          <p:nvPr/>
        </p:nvSpPr>
        <p:spPr>
          <a:xfrm rot="5400000">
            <a:off x="5076720" y="4221360"/>
            <a:ext cx="719280" cy="576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0000ff"/>
                </a:solidFill>
                <a:latin typeface="黑体"/>
              </a:rPr>
              <a:t>传</a:t>
            </a:r>
            <a:endParaRPr b="1" lang="en-US" sz="1800" spc="-1" strike="noStrike">
              <a:ln w="0">
                <a:noFill/>
              </a:ln>
              <a:solidFill>
                <a:srgbClr val="0000ff"/>
              </a:solidFill>
              <a:latin typeface="黑体"/>
              <a:ea typeface="黑体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2484360" y="0"/>
            <a:ext cx="395928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愚蠢昏庸、穷奢极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荒唐虚伪、自欺欺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7"/>
          <p:cNvSpPr/>
          <p:nvPr/>
        </p:nvSpPr>
        <p:spPr>
          <a:xfrm>
            <a:off x="6156360" y="2997360"/>
            <a:ext cx="1655640" cy="1008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诚实天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直言不讳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8"/>
          <p:cNvSpPr/>
          <p:nvPr/>
        </p:nvSpPr>
        <p:spPr>
          <a:xfrm>
            <a:off x="0" y="5300640"/>
            <a:ext cx="2305080" cy="1366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虚伪自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阿谀奉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明哲保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9"/>
          <p:cNvSpPr/>
          <p:nvPr/>
        </p:nvSpPr>
        <p:spPr>
          <a:xfrm>
            <a:off x="179280" y="3068640"/>
            <a:ext cx="1944720" cy="9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狡猾奸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善于设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20"/>
          <p:cNvSpPr/>
          <p:nvPr/>
        </p:nvSpPr>
        <p:spPr>
          <a:xfrm>
            <a:off x="5724360" y="5229360"/>
            <a:ext cx="2160720" cy="14396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胆小怕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人云亦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随波逐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Picture 21" descr="图片15"/>
          <p:cNvPicPr/>
          <p:nvPr/>
        </p:nvPicPr>
        <p:blipFill>
          <a:blip r:embed="rId3"/>
          <a:stretch/>
        </p:blipFill>
        <p:spPr>
          <a:xfrm>
            <a:off x="7961400" y="2637000"/>
            <a:ext cx="1182600" cy="1773000"/>
          </a:xfrm>
          <a:prstGeom prst="rect">
            <a:avLst/>
          </a:prstGeom>
          <a:ln w="0">
            <a:noFill/>
          </a:ln>
        </p:spPr>
      </p:pic>
      <p:sp>
        <p:nvSpPr>
          <p:cNvPr id="214" name="WordArt 22"/>
          <p:cNvSpPr txBox="1"/>
          <p:nvPr/>
        </p:nvSpPr>
        <p:spPr>
          <a:xfrm>
            <a:off x="468360" y="404640"/>
            <a:ext cx="16588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75000"/>
                    </a:srgbClr>
                  </a:outerShdw>
                </a:effectLst>
                <a:latin typeface="华文新魏"/>
              </a:rPr>
              <a:t>结构分析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75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2500"/>
                            </p:stCondLst>
                            <p:childTnLst>
                              <p:par>
                                <p:cTn id="16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385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6" dur="385" fill="hold"/>
                                        <p:tgtEl>
                                          <p:spTgt spid="2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8" dur="385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0" dur="385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500"/>
                            </p:stCondLst>
                            <p:childTnLst>
                              <p:par>
                                <p:cTn id="17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38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385" fill="hold"/>
                                        <p:tgtEl>
                                          <p:spTgt spid="20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8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80" dur="385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8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500"/>
                            </p:stCondLst>
                            <p:childTnLst>
                              <p:par>
                                <p:cTn id="18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385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6" dur="385" fill="hold"/>
                                        <p:tgtEl>
                                          <p:spTgt spid="20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8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88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8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90" dur="385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9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500"/>
                            </p:stCondLst>
                            <p:childTnLst>
                              <p:par>
                                <p:cTn id="19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385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6" dur="385" fill="hold"/>
                                        <p:tgtEl>
                                          <p:spTgt spid="20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9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98" dur="38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9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0" dur="385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0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6500"/>
                            </p:stCondLst>
                            <p:childTnLst>
                              <p:par>
                                <p:cTn id="203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385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6" dur="385" fill="hold"/>
                                        <p:tgtEl>
                                          <p:spTgt spid="20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8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0" dur="385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7500"/>
                            </p:stCondLst>
                            <p:childTnLst>
                              <p:par>
                                <p:cTn id="213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8500"/>
                            </p:stCondLst>
                            <p:childTnLst>
                              <p:par>
                                <p:cTn id="217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19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2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3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5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27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229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3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987280" y="765000"/>
            <a:ext cx="764388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隶书"/>
              </a:rPr>
              <a:t>总结全文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6438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、具体问题具体分析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说真话！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、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任何不</a:t>
            </a:r>
            <a:r>
              <a:rPr b="0" lang="ru-RU" sz="2800" spc="-1" strike="noStrike" u="sng">
                <a:solidFill>
                  <a:srgbClr val="cc6600"/>
                </a:solidFill>
                <a:uFillTx/>
                <a:latin typeface="Arial"/>
                <a:ea typeface="楷体_GB2312"/>
                <a:hlinkClick r:id="rId2"/>
              </a:rPr>
              <a:t>称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的或者愚蠢得不可救药的人，都看不见这衣服。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 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寓言中（小孩除外）各种人物心理的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逻辑原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乌合之众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价值观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人人自危、敢怒不敢言的反讽 商机和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公关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、民众的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觉醒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打破游戏规则的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勇气和冲动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、不相信自己的眼睛，还可以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信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谁 谁主沉浮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0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虚荣心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的幽灵为何不死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7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、不法分子披上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合法的外衣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招摇撞骗！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…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2000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2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2000" fill="hold"/>
                                        <p:tgtEl>
                                          <p:spTgt spid="2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0" fill="hold"/>
                                        <p:tgtEl>
                                          <p:spTgt spid="2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2000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2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2000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2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2000" fill="hold"/>
                                        <p:tgtEl>
                                          <p:spTgt spid="2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请你课后阅读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叶圣陶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写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皇帝的新装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的续篇，想想续篇有什么新的含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你也试着运用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寓言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的形式写一个续篇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想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力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夸张、拟人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）越丰富越好！！！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0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字以上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下次课向全班同学展示、分享和交流！！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4"/>
          <p:cNvSpPr/>
          <p:nvPr/>
        </p:nvSpPr>
        <p:spPr>
          <a:xfrm>
            <a:off x="5292720" y="519120"/>
            <a:ext cx="3097080" cy="936720"/>
          </a:xfrm>
          <a:prstGeom prst="cloudCallout">
            <a:avLst>
              <a:gd name="adj1" fmla="val 59893"/>
              <a:gd name="adj2" fmla="val 99662"/>
            </a:avLst>
          </a:prstGeom>
          <a:solidFill>
            <a:srgbClr val="ff00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课后作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黑体"/>
                <a:ea typeface="黑体"/>
              </a:rPr>
              <a:t>选讲缘由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宏观上，食品安全问题（生命健康权）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诚信危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——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冲破道德底线的事件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——“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说真话”游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中观上，合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“中小学教材教法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课程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微观上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“寓言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作为一种儿童文学在中学教材中的重要地位及其现实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24360" y="691920"/>
            <a:ext cx="259272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Arial"/>
                <a:ea typeface="宋体"/>
              </a:rPr>
              <a:t>叶圣陶续写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21844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　　那个光着身子的皇帝在游行受到嘲笑后恼羞成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当场宣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谁再说坏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立即处决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结果四五十人被就地处死。从此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皇帝再不穿别的衣服。有一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他的爱妃陪他喝酒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无意间讲了一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啊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把胸膛弄脏了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!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就被打入了冷宫。另一次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一位大臣辞职后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宋体"/>
              </a:rPr>
              <a:t>: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再不用看不穿衣服的皇帝了。”都因犯了皇帝的禁令而被杀。有一次皇帝巡行京城，因为经过的街道多，说笑的老百姓也越多，皇帝竟杀了一千多老百姓。有一个慈心的老大臣为了改变这种状况，想了一个办法，去对皇帝说：“您向来喜欢新衣服，还是另做一套新的换上吧！”可是皇帝硬说：“这套神奇的衣服永远不会旧。”把他关进了监狱。人们请求皇帝给予“言论自由，嬉笑自由”，皇帝一律拒绝。以后大家都对皇帝采取了回避的态度。但皇帝仍然疑心。他命令士兵，凡是有笑声的家里，都要把人抓出来杀掉，结果激起了人们的反抗，大家一起拥到皇帝跟前，撕他的肉，并大声喊：“撕掉你空虚的衣裳！”最后，连士兵也站在人民一边。皇帝就像从天上掉下一块大石头砸在头顶上，身体一软就瘫在地上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　　于是大家就推举那个天真无邪的</a:t>
            </a:r>
            <a:r>
              <a:rPr b="0" lang="ru-RU" sz="2000" spc="-1" strike="noStrike">
                <a:solidFill>
                  <a:srgbClr val="ff0000"/>
                </a:solidFill>
                <a:latin typeface="Arial"/>
                <a:ea typeface="宋体"/>
              </a:rPr>
              <a:t>孩子当上了皇帝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宋体"/>
              </a:rPr>
              <a:t>，造福于民！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隶书"/>
              </a:rPr>
              <a:t>教学目标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隶书"/>
              </a:rPr>
              <a:t>（分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隶书"/>
              </a:rPr>
              <a:t>3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隶书"/>
              </a:rPr>
              <a:t>课时）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23640" y="2421000"/>
            <a:ext cx="84978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字词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识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相关文学常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理解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人物性格特征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领悟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寓言所揭示的主题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能有感情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复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的故事情节和灵活运用“寓言”（想象和夸张）这一文体形式进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写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4"/>
          <p:cNvSpPr/>
          <p:nvPr/>
        </p:nvSpPr>
        <p:spPr>
          <a:xfrm>
            <a:off x="900000" y="2492280"/>
            <a:ext cx="612144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5"/>
          <p:cNvSpPr/>
          <p:nvPr/>
        </p:nvSpPr>
        <p:spPr>
          <a:xfrm>
            <a:off x="1116000" y="3141720"/>
            <a:ext cx="712800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6"/>
          <p:cNvSpPr/>
          <p:nvPr/>
        </p:nvSpPr>
        <p:spPr>
          <a:xfrm>
            <a:off x="611280" y="3789360"/>
            <a:ext cx="2735280" cy="216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042560" y="1628280"/>
            <a:ext cx="7643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§</a:t>
            </a:r>
            <a:r>
              <a:rPr b="1" lang="ru-RU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皇帝的新装</a:t>
            </a:r>
            <a:br>
              <a:rPr sz="3200"/>
            </a:br>
            <a:br>
              <a:rPr sz="3200"/>
            </a:br>
            <a:r>
              <a:rPr b="1" lang="ru-RU" sz="18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安徒生</a:t>
            </a:r>
            <a:endParaRPr b="0" lang="en-US" sz="1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755280" y="3357360"/>
            <a:ext cx="793116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学体裁：童话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想象、夸张和拟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中人物：皇帝 骗子 官员 百姓 小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章脉络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爱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展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→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揭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ru-RU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文本启示：具体问题具体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——</a:t>
            </a:r>
            <a:r>
              <a:rPr b="1" lang="ru-RU" sz="2800" spc="-1" strike="noStrike">
                <a:solidFill>
                  <a:srgbClr val="ff0000"/>
                </a:solidFill>
                <a:latin typeface="华文彩云"/>
                <a:ea typeface="华文彩云"/>
              </a:rPr>
              <a:t>说真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6275160" y="54936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00"/>
                </a:solidFill>
                <a:latin typeface="Arial"/>
                <a:ea typeface="隶书"/>
              </a:rPr>
              <a:t>板书设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13080" y="6453360"/>
            <a:ext cx="4464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cc6600"/>
                </a:solidFill>
                <a:uFillTx/>
                <a:latin typeface="Arial"/>
                <a:hlinkClick r:id="rId2"/>
              </a:rPr>
              <a:t>ppt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00000"/>
                </a:solidFill>
                <a:latin typeface="Arial"/>
              </a:rPr>
              <a:t>使用规范说明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ru-RU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ru-RU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ru-RU" sz="15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cc66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99640" y="2610000"/>
            <a:ext cx="807588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隶书"/>
                <a:ea typeface="隶书"/>
              </a:rPr>
              <a:t>感谢您的真诚聆听！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Arial"/>
                <a:ea typeface="隶书"/>
              </a:rPr>
              <a:t>教学目标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隶书"/>
              </a:rPr>
              <a:t>（分</a:t>
            </a:r>
            <a:r>
              <a:rPr b="1" lang="en-US" sz="2800" spc="-1" strike="noStrike">
                <a:solidFill>
                  <a:srgbClr val="800000"/>
                </a:solidFill>
                <a:latin typeface="Arial"/>
                <a:ea typeface="隶书"/>
              </a:rPr>
              <a:t>3</a:t>
            </a:r>
            <a:r>
              <a:rPr b="1" lang="ru-RU" sz="2800" spc="-1" strike="noStrike">
                <a:solidFill>
                  <a:srgbClr val="800000"/>
                </a:solidFill>
                <a:latin typeface="Arial"/>
                <a:ea typeface="隶书"/>
              </a:rPr>
              <a:t>课时）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2422080"/>
            <a:ext cx="81471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掌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生字词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识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重要相关文学常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理解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人物性格特征和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领悟</a:t>
            </a:r>
            <a:r>
              <a:rPr b="1" lang="zh-CN" sz="3600" spc="-1" strike="noStrike" u="sng">
                <a:solidFill>
                  <a:srgbClr val="0033cc"/>
                </a:solidFill>
                <a:uFillTx/>
                <a:latin typeface="Arial"/>
                <a:ea typeface="黑体"/>
              </a:rPr>
              <a:t>寓言所揭示的主题思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能有感情地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复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主要的故事情节和灵活运用“寓言”（想象和夸张）这一文体形式进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写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00000"/>
                </a:solidFill>
                <a:latin typeface="隶书"/>
                <a:ea typeface="隶书"/>
              </a:rPr>
              <a:t>教学流程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708000" y="2565000"/>
            <a:ext cx="2376360" cy="35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知识回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性格分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课堂对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升华主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总结全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宋体"/>
              </a:rPr>
              <a:t>作者简介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           </a:t>
            </a:r>
            <a:r>
              <a:rPr b="1" lang="ru-RU" sz="2800" spc="-1" strike="noStrike">
                <a:solidFill>
                  <a:srgbClr val="cc6600"/>
                </a:solidFill>
                <a:latin typeface="Arial"/>
                <a:ea typeface="宋体"/>
              </a:rPr>
              <a:t>安徒生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05~187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）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,19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世纪丹麦文学巨匠，世界著名的童话作家。他的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6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余篇童话在近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5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年中被翻译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40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多种文字，从丹麦传向世界。安徒生生于鞋匠家庭，童年生活穷苦，早期写有诗歌、剧本和长篇小说等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35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年开始写童话，著名的童话有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丑小鸭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海的女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卖火柴的小女孩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夜莺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、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《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皇帝的新装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》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6600"/>
                </a:solidFill>
                <a:latin typeface="Arial"/>
                <a:ea typeface="宋体"/>
              </a:rPr>
              <a:t>写作背景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世纪末代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19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世纪初，丹麦人民生活在水深火热之中，封建统治阶级则穷奢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shē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极欲，挥霍无度。面对这样的现实，安徒生根据西班牙的民间故事改编，创作了本文，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揭露了贵族阶层的阿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ē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谀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(yú)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  <a:ea typeface="宋体"/>
              </a:rPr>
              <a:t>奉承和虚伪透顶，深刻地解剖了当时的社会的病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宋体"/>
              </a:rPr>
              <a:t>童话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童话是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儿童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文学的一种。这种作品通过丰富的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想象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、大胆的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夸张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来塑造形象，反映生活，对儿童进行思想教育。语言通俗、生动，故事情节往离奇曲折 ，引人入胜。童话又往往采用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拟人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 的方法，举凡鸟兽虫鱼，花草树木，整个大自然以及家具、玩具都可赋予生命，注入思想感情，使它们人格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42560" y="1773000"/>
            <a:ext cx="764388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00000"/>
              </a:solidFill>
              <a:latin typeface="Arial"/>
              <a:ea typeface="宋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42560" y="2422080"/>
            <a:ext cx="764388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童话，是认识世界的一种途径，是照亮我们心灵的闪光，是一种思维方式，是一种力量，一种美丽，一种永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－－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《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儿童文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“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迷信是傻子遇见了骗子的结果！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       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宋体"/>
              </a:rPr>
              <a:t>－－伏尔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2T13:07:26Z</dcterms:created>
  <dc:creator/>
  <dc:description/>
  <dc:language>en-US</dc:language>
  <cp:lastModifiedBy>GZB</cp:lastModifiedBy>
  <dcterms:modified xsi:type="dcterms:W3CDTF">2015-07-20T07:54:07Z</dcterms:modified>
  <cp:revision>23</cp:revision>
  <dc:subject/>
  <dc:title>情境创设（角色扮演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a609000000000001024140</vt:lpwstr>
  </property>
</Properties>
</file>