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4.gif" ContentType="image/gif"/>
  <Override PartName="/ppt/media/image3.jpeg" ContentType="image/jpeg"/>
  <Override PartName="/ppt/media/image15.png" ContentType="image/png"/>
  <Override PartName="/ppt/media/image23.jpeg" ContentType="image/jpeg"/>
  <Override PartName="/ppt/media/image21.jpeg" ContentType="image/jpeg"/>
  <Override PartName="/ppt/media/image19.jpeg" ContentType="image/jpeg"/>
  <Override PartName="/ppt/media/image17.png" ContentType="image/png"/>
  <Override PartName="/ppt/media/image13.png" ContentType="image/png"/>
  <Override PartName="/ppt/media/image16.png" ContentType="image/png"/>
  <Override PartName="/ppt/media/chimes.wav" ContentType="audio/x-wav"/>
  <Override PartName="/ppt/media/image10.png" ContentType="image/png"/>
  <Override PartName="/ppt/media/image6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87F-0FC5-4B1F-BD91-D29707C8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B4C-939F-41E2-940A-7E276F3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7B8-F968-42BB-AA79-0A539402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769-939A-4A60-A446-A4D9C2BF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491-567D-4D80-9B5C-278BE784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553-C6E8-4C23-B5DA-5B1C2360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3C4-087B-4888-8713-EB14401C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DF0-0AED-400B-8328-2A2AF035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C8DD-3FD1-4DBF-94A0-60DF05CE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06CF-81DE-4B08-A49B-79887C91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0823-C1BE-46C9-B717-EBAF9B87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6BA-08AC-48B9-BA6D-82DEFEE6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EDCB-ED86-4AAB-8C7B-01A810740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rcRect l="183" t="0" r="0" b="0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86120" y="1413000"/>
            <a:ext cx="14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黄鹤楼送孟浩然之广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件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P4371"/>
          <p:cNvPicPr/>
          <p:nvPr/>
        </p:nvPicPr>
        <p:blipFill>
          <a:blip r:embed="rId1"/>
          <a:stretch/>
        </p:blipFill>
        <p:spPr>
          <a:xfrm>
            <a:off x="6705720" y="449568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533520" y="380880"/>
            <a:ext cx="72388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ff"/>
                </a:solidFill>
                <a:latin typeface="Times New Roman"/>
                <a:ea typeface="华文彩云"/>
              </a:rPr>
              <a:t>探究学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们学校正在美化西河沿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让你来设计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打算怎样来布置</a:t>
            </a:r>
            <a:r>
              <a:rPr b="0" lang="en-US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4009"/>
          <p:cNvPicPr/>
          <p:nvPr/>
        </p:nvPicPr>
        <p:blipFill>
          <a:blip r:embed="rId1"/>
          <a:stretch/>
        </p:blipFill>
        <p:spPr>
          <a:xfrm>
            <a:off x="68580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P3959"/>
          <p:cNvPicPr/>
          <p:nvPr/>
        </p:nvPicPr>
        <p:blipFill>
          <a:blip r:embed="rId2"/>
          <a:stretch/>
        </p:blipFill>
        <p:spPr>
          <a:xfrm>
            <a:off x="304920" y="42670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P4009"/>
          <p:cNvPicPr/>
          <p:nvPr/>
        </p:nvPicPr>
        <p:blipFill>
          <a:blip r:embed="rId3"/>
          <a:stretch/>
        </p:blipFill>
        <p:spPr>
          <a:xfrm>
            <a:off x="35812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124080" y="533520"/>
            <a:ext cx="60199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方正舒体"/>
              </a:rPr>
              <a:t>请多多指教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P3356"/>
          <p:cNvPicPr/>
          <p:nvPr/>
        </p:nvPicPr>
        <p:blipFill>
          <a:blip r:embed="rId2"/>
          <a:stretch/>
        </p:blipFill>
        <p:spPr>
          <a:xfrm>
            <a:off x="6248520" y="44956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P4010"/>
          <p:cNvPicPr/>
          <p:nvPr/>
        </p:nvPicPr>
        <p:blipFill>
          <a:blip r:embed="rId3"/>
          <a:stretch/>
        </p:blipFill>
        <p:spPr>
          <a:xfrm>
            <a:off x="7391520" y="3276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P4010"/>
          <p:cNvPicPr/>
          <p:nvPr/>
        </p:nvPicPr>
        <p:blipFill>
          <a:blip r:embed="rId4"/>
          <a:stretch/>
        </p:blipFill>
        <p:spPr>
          <a:xfrm>
            <a:off x="5715000" y="44197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752480" y="15238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044800" y="380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耸构巍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044800" y="99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高标巃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96884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倚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河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045160" y="4724280"/>
            <a:ext cx="10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重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馆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2044800" y="4038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四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  <a:ea typeface="黑体"/>
              </a:rPr>
              <a:t>闼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霞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044800" y="2362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坐窥井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2044800" y="3352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俯拍云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380880" y="3049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高大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80880" y="32004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雄伟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9"/>
          <p:cNvSpPr/>
          <p:nvPr/>
        </p:nvSpPr>
        <p:spPr>
          <a:xfrm>
            <a:off x="3657600" y="609480"/>
            <a:ext cx="533520" cy="4419720"/>
          </a:xfrm>
          <a:custGeom>
            <a:avLst/>
            <a:gdLst>
              <a:gd name="textAreaLeft" fmla="*/ 0 w 533520"/>
              <a:gd name="textAreaRight" fmla="*/ 192600 w 5335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4114800" y="2438280"/>
            <a:ext cx="457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亦荆吴形胜之最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5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1_00"/>
          <p:cNvPicPr/>
          <p:nvPr/>
        </p:nvPicPr>
        <p:blipFill>
          <a:blip r:embed="rId1"/>
          <a:stretch/>
        </p:blipFill>
        <p:spPr>
          <a:xfrm>
            <a:off x="0" y="0"/>
            <a:ext cx="2895480" cy="411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5"/>
          <p:cNvPicPr/>
          <p:nvPr/>
        </p:nvPicPr>
        <p:blipFill>
          <a:blip r:embed="rId2"/>
          <a:stretch/>
        </p:blipFill>
        <p:spPr>
          <a:xfrm>
            <a:off x="6172200" y="0"/>
            <a:ext cx="297180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1"/>
          <p:cNvPicPr/>
          <p:nvPr/>
        </p:nvPicPr>
        <p:blipFill>
          <a:blip r:embed="rId3"/>
          <a:stretch/>
        </p:blipFill>
        <p:spPr>
          <a:xfrm>
            <a:off x="2916360" y="2492280"/>
            <a:ext cx="317484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5"/>
          <p:cNvPicPr/>
          <p:nvPr/>
        </p:nvPicPr>
        <p:blipFill>
          <a:blip r:embed="rId1"/>
          <a:stretch/>
        </p:blipFill>
        <p:spPr>
          <a:xfrm>
            <a:off x="4724280" y="762120"/>
            <a:ext cx="4419720" cy="6095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home_r1_c2"/>
          <p:cNvPicPr/>
          <p:nvPr/>
        </p:nvPicPr>
        <p:blipFill>
          <a:blip r:embed="rId2"/>
          <a:stretch/>
        </p:blipFill>
        <p:spPr>
          <a:xfrm>
            <a:off x="0" y="0"/>
            <a:ext cx="457200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A1B-F850-491B-BCCE-C18CADBA49F5}" type="slidenum">
              <a:t>15</a:t>
            </a:fld>
          </a:p>
        </p:txBody>
      </p:sp>
    </p:spTree>
  </p:cSld>
  <p:transition spd="med">
    <p:dissolve/>
    <p:sndAc>
      <p:stSnd>
        <p:snd r:embed="rId27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4191120" cy="5715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11"/>
          <p:cNvPicPr/>
          <p:nvPr/>
        </p:nvPicPr>
        <p:blipFill>
          <a:blip r:embed="rId2"/>
          <a:stretch/>
        </p:blipFill>
        <p:spPr>
          <a:xfrm>
            <a:off x="4648320" y="1143000"/>
            <a:ext cx="449568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home"/>
          <p:cNvPicPr/>
          <p:nvPr/>
        </p:nvPicPr>
        <p:blipFill>
          <a:blip r:embed="rId1"/>
          <a:stretch/>
        </p:blipFill>
        <p:spPr>
          <a:xfrm>
            <a:off x="7324560" y="5029200"/>
            <a:ext cx="1465560" cy="1486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533520" y="990720"/>
            <a:ext cx="82296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联系我们以前学过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展示华夏文化的魅力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说黄鹤楼和于园在体现我国传统艺术上的表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出文中有关词句，谈谈你的看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蝶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09480" y="304920"/>
            <a:ext cx="8077320" cy="58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隶书"/>
              </a:rPr>
              <a:t>黄鹤楼送孟浩然之广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　　　　　　　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　</a:t>
            </a:r>
            <a:r>
              <a:rPr b="1" lang="en-US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(</a:t>
            </a:r>
            <a:r>
              <a:rPr b="1" lang="zh-CN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李白</a:t>
            </a:r>
            <a:r>
              <a:rPr b="1" lang="en-US" sz="3600" spc="-1" strike="noStrike">
                <a:solidFill>
                  <a:srgbClr val="ff6600"/>
                </a:solidFill>
                <a:latin typeface="方正舒体"/>
                <a:ea typeface="方正舒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故人西辞黄鹤楼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烟花三月下扬州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孤帆远影碧空尽</a:t>
            </a:r>
            <a:r>
              <a:rPr b="1" lang="en-US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唯见长江天际流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6"/>
          <p:cNvSpPr/>
          <p:nvPr/>
        </p:nvSpPr>
        <p:spPr>
          <a:xfrm>
            <a:off x="2050920" y="3645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蝶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2975400" y="228600"/>
            <a:ext cx="57877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黄鹤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崔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昔人已乘黄鹤去，此地空余黄鹤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黄鹤一去不复返，白云千载空悠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晴川历历汉阳树，芳草萋萋鹦鹉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日暮乡关何处是？烟波江上使人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岳阳楼（湖南岳阳）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4648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岳阳楼"/>
          <p:cNvPicPr/>
          <p:nvPr/>
        </p:nvPicPr>
        <p:blipFill>
          <a:blip r:embed="rId2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204360" y="914400"/>
            <a:ext cx="2009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Times New Roman"/>
                <a:ea typeface="隶书"/>
              </a:rPr>
              <a:t>岳阳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762120" y="51055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位于湖南岳阳，以范仲淹的名篇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岳阳楼记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而名闻天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204360" y="914400"/>
            <a:ext cx="2009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Times New Roman"/>
                <a:ea typeface="隶书"/>
              </a:rPr>
              <a:t>腾王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358d4586f6d331e5b2a0503af3fe62fe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600200" y="51814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9640" y="501336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位于江西南昌，因王勃的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腾王阁序</a:t>
            </a: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而著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02"/>
          <p:cNvPicPr/>
          <p:nvPr/>
        </p:nvPicPr>
        <p:blipFill>
          <a:blip r:embed="rId2"/>
          <a:stretch/>
        </p:blipFill>
        <p:spPr>
          <a:xfrm>
            <a:off x="0" y="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3128040" y="990720"/>
            <a:ext cx="2009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黄鹤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1_00"/>
          <p:cNvPicPr/>
          <p:nvPr/>
        </p:nvPicPr>
        <p:blipFill>
          <a:blip r:embed="rId1"/>
          <a:stretch/>
        </p:blipFill>
        <p:spPr>
          <a:xfrm>
            <a:off x="0" y="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5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108000" y="4724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800080"/>
                </a:solidFill>
                <a:latin typeface="Times New Roman"/>
              </a:rPr>
              <a:t>位于湖北武汉，历代名士崔颢、李白、白居易、贾岛、陆游、杨慎、张居正等都先后到这里游乐，吟诗作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中国结"/>
          <p:cNvPicPr/>
          <p:nvPr/>
        </p:nvPicPr>
        <p:blipFill>
          <a:blip r:embed="rId1"/>
          <a:stretch/>
        </p:blipFill>
        <p:spPr>
          <a:xfrm>
            <a:off x="7620120" y="-533520"/>
            <a:ext cx="652320" cy="373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中国结"/>
          <p:cNvPicPr/>
          <p:nvPr/>
        </p:nvPicPr>
        <p:blipFill>
          <a:blip r:embed="rId2"/>
          <a:stretch/>
        </p:blipFill>
        <p:spPr>
          <a:xfrm>
            <a:off x="7853400" y="-838080"/>
            <a:ext cx="1290600" cy="5105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33520" y="0"/>
            <a:ext cx="723888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用工具书及课文页下注释读懂课文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 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等常见文言实词和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等常见文言虚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本文严谨的结构和优美的语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欣赏黄鹤楼和于园两种不同建筑风格的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此品味中国的古代建筑艺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说说自己的感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baby"/>
          <p:cNvPicPr/>
          <p:nvPr/>
        </p:nvPicPr>
        <p:blipFill>
          <a:blip r:embed="rId1"/>
          <a:stretch/>
        </p:blipFill>
        <p:spPr>
          <a:xfrm>
            <a:off x="7010280" y="4210200"/>
            <a:ext cx="2419560" cy="26478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96720" y="44280"/>
            <a:ext cx="838224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d60093"/>
                </a:solidFill>
                <a:latin typeface="Times New Roman"/>
                <a:ea typeface="华文彩云"/>
              </a:rPr>
              <a:t>给下面的字词注释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州城西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隅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，有黄鹤楼者。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图经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云：“费祎登仙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尝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驾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）黄鹤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憩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此，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　  ）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名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楼。”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事列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《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神仙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》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之传，迹存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《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述异</a:t>
            </a:r>
            <a:r>
              <a:rPr b="1" lang="en-US" sz="2800" spc="-1" strike="noStrike" u="sng">
                <a:solidFill>
                  <a:srgbClr val="6600ff"/>
                </a:solidFill>
                <a:uFillTx/>
                <a:latin typeface="Times New Roman"/>
              </a:rPr>
              <a:t>》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之志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。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）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耸构巍峨，高标巃嵏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，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倚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河汉，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临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江流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重檐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）馆翼，四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闼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霞敞；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坐窥井邑，俯拍云烟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：亦荆吴形胜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 ）也。 何必濑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九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柱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          ），东阳八咏，乃可</a:t>
            </a: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赏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00ff"/>
                </a:solidFill>
                <a:uFillTx/>
                <a:latin typeface="Times New Roman"/>
              </a:rPr>
              <a:t>时物，会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灵仙</a:t>
            </a:r>
            <a:r>
              <a:rPr b="1" lang="zh-CN" sz="2800" spc="-1" strike="noStrike">
                <a:solidFill>
                  <a:srgbClr val="6600ff"/>
                </a:solidFill>
                <a:latin typeface="Times New Roman"/>
              </a:rPr>
              <a:t>（      ）者哉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4812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角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97180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曾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724280" y="144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762012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21932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88620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334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934320" y="2514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鹤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50292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靠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858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临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733920" y="34290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层屋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769608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6094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好的事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525780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泛指多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9907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屋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指屋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200400" y="6172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圣诞礼包"/>
          <p:cNvPicPr/>
          <p:nvPr/>
        </p:nvPicPr>
        <p:blipFill>
          <a:blip r:embed="rId2"/>
          <a:stretch/>
        </p:blipFill>
        <p:spPr>
          <a:xfrm>
            <a:off x="304920" y="3733920"/>
            <a:ext cx="2514600" cy="2895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圣诞礼包"/>
          <p:cNvPicPr/>
          <p:nvPr/>
        </p:nvPicPr>
        <p:blipFill>
          <a:blip r:embed="rId3"/>
          <a:stretch/>
        </p:blipFill>
        <p:spPr>
          <a:xfrm>
            <a:off x="1828800" y="4876920"/>
            <a:ext cx="1654200" cy="1676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533520" y="990720"/>
            <a:ext cx="83055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找出文中能够体现黄鹤楼特征的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438280" y="2286000"/>
            <a:ext cx="6324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作者带着我们去黄鹤楼和于园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神游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了一番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你对此的总体印象如何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两者有何不同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你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神游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时的感受又是怎样的</a:t>
            </a:r>
            <a:r>
              <a:rPr b="1" lang="en-US" sz="36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971800" y="2362320"/>
            <a:ext cx="380880" cy="45720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1143000" y="1143000"/>
            <a:ext cx="380880" cy="457200"/>
          </a:xfrm>
          <a:prstGeom prst="smileyFace">
            <a:avLst>
              <a:gd name="adj" fmla="val 465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0" y="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课文品读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2:37:40Z</dcterms:created>
  <dc:creator/>
  <dc:description/>
  <cp:keywords>幻灯片之家 http:/www.eeppt.com</cp:keywords>
  <dc:language>en-US</dc:language>
  <cp:lastModifiedBy/>
  <dcterms:modified xsi:type="dcterms:W3CDTF">2015-07-10T13:26:30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