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34D-2003-4B17-AB87-67988670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C97-CB68-4839-AF5F-21963828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2D0-6B99-4FF7-8F8F-9A8BCC68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4D4-3217-4F5B-AA14-56AECCB4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86B-6C2C-44BD-958D-22E88646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D39-6BEC-4B4B-B5FC-6617C0B3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5E1-5B6E-44D2-9648-6BD35643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69F-D6AB-4884-9F9F-6322FA60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747-FAEA-44D6-A4B1-43C80608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013-4FFF-4272-9DCF-ABA6911E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698-30D0-40AC-B9B7-E28A8FBC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594-3842-4825-8913-BC1C3FF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B767-0013-4F49-BBEE-45CA72A12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971640" y="148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北师大版  五年级 语文 下册  第九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120" y="314172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活见鬼》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31240" y="306792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两人为什么“相视愕然，不觉大笑”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11280" y="184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理解重点句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细读"/>
          <p:cNvPicPr/>
          <p:nvPr/>
        </p:nvPicPr>
        <p:blipFill>
          <a:blip r:embed="rId2"/>
          <a:stretch/>
        </p:blipFill>
        <p:spPr>
          <a:xfrm>
            <a:off x="539640" y="836640"/>
            <a:ext cx="1656000" cy="53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270828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因为两人互相怀疑对方是鬼，其中一人还把另一人推下桥去，被推下桥的人又怀疑推他的人是鬼，就这样两人互相怀疑，当看到对方不是鬼时，于是恍然大悟。原来是自己疑心太中，疑神疑鬼的，世上哪里有什么鬼呀？明白之后都大笑起来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184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理解重点句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细读"/>
          <p:cNvPicPr/>
          <p:nvPr/>
        </p:nvPicPr>
        <p:blipFill>
          <a:blip r:embed="rId2"/>
          <a:stretch/>
        </p:blipFill>
        <p:spPr>
          <a:xfrm>
            <a:off x="539640" y="836640"/>
            <a:ext cx="1656000" cy="531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5640" y="5373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132000" y="2349000"/>
            <a:ext cx="49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联系实际具体说说从这则故事中你受到什么启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拓展学习"/>
          <p:cNvPicPr/>
          <p:nvPr/>
        </p:nvPicPr>
        <p:blipFill>
          <a:blip r:embed="rId2"/>
          <a:stretch/>
        </p:blipFill>
        <p:spPr>
          <a:xfrm>
            <a:off x="395280" y="1341360"/>
            <a:ext cx="2222640" cy="54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小女孩"/>
          <p:cNvPicPr/>
          <p:nvPr/>
        </p:nvPicPr>
        <p:blipFill>
          <a:blip r:embed="rId3"/>
          <a:stretch/>
        </p:blipFill>
        <p:spPr>
          <a:xfrm>
            <a:off x="1116000" y="270828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627280" y="2421000"/>
            <a:ext cx="379584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68360" y="2133720"/>
            <a:ext cx="8172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学习能学会本课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正确断句，流利地朗读。力争达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熟读成诵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根据现代文、工具书理解文章内容，在反复诵读课文中，能产生自己的独特感受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46280" y="1484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4F9-F8C5-4448-B046-13432F70FBAD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535040" y="4532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916360" y="404640"/>
            <a:ext cx="6048360" cy="2880000"/>
          </a:xfrm>
          <a:prstGeom prst="cloudCallout">
            <a:avLst>
              <a:gd name="adj1" fmla="val -49476"/>
              <a:gd name="adj2" fmla="val 5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844720" y="1052640"/>
            <a:ext cx="561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世界上有鬼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说没有，你的理由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说有，你的理由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小男孩1"/>
          <p:cNvPicPr/>
          <p:nvPr/>
        </p:nvPicPr>
        <p:blipFill>
          <a:blip r:embed="rId2"/>
          <a:stretch/>
        </p:blipFill>
        <p:spPr>
          <a:xfrm>
            <a:off x="1187280" y="2997360"/>
            <a:ext cx="1352880" cy="30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创设情境"/>
          <p:cNvPicPr/>
          <p:nvPr/>
        </p:nvPicPr>
        <p:blipFill>
          <a:blip r:embed="rId3"/>
          <a:stretch/>
        </p:blipFill>
        <p:spPr>
          <a:xfrm>
            <a:off x="468360" y="765000"/>
            <a:ext cx="2146320" cy="588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71640" y="2781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借助工具书独立地自主学习这篇文言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71640" y="364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对照下面的译文，看看自己的翻译有那些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方面，还有哪些不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初读感知"/>
          <p:cNvPicPr/>
          <p:nvPr/>
        </p:nvPicPr>
        <p:blipFill>
          <a:blip r:embed="rId2"/>
          <a:stretch/>
        </p:blipFill>
        <p:spPr>
          <a:xfrm>
            <a:off x="755640" y="134136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340000" y="2781360"/>
            <a:ext cx="7200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趋     炊      沾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踉      跄      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读一读"/>
          <p:cNvPicPr/>
          <p:nvPr/>
        </p:nvPicPr>
        <p:blipFill>
          <a:blip r:embed="rId2"/>
          <a:stretch/>
        </p:blipFill>
        <p:spPr>
          <a:xfrm>
            <a:off x="179280" y="404640"/>
            <a:ext cx="1514520" cy="1800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411280" y="227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q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564000" y="2276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chu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076720" y="2276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z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268360" y="4221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708360" y="422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435640" y="422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47640" y="2276640"/>
            <a:ext cx="640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赴饮：赴宴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值：正赶上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蔽：遮盖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趋：跑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俄顷：不一会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读一读"/>
          <p:cNvPicPr/>
          <p:nvPr/>
        </p:nvPicPr>
        <p:blipFill>
          <a:blip r:embed="rId2"/>
          <a:stretch/>
        </p:blipFill>
        <p:spPr>
          <a:xfrm>
            <a:off x="179280" y="404640"/>
            <a:ext cx="1514520" cy="18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11280" y="184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理解重点句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966600" y="26362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疑为鬼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838160" y="349956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说说为何疑为鬼？说说你的理解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774520" y="436032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夜黑、偶遇、且久之不语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细读"/>
          <p:cNvPicPr/>
          <p:nvPr/>
        </p:nvPicPr>
        <p:blipFill>
          <a:blip r:embed="rId2"/>
          <a:stretch/>
        </p:blipFill>
        <p:spPr>
          <a:xfrm>
            <a:off x="539640" y="836640"/>
            <a:ext cx="1656000" cy="531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254960" y="263628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因奋力挤之桥下而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11280" y="184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理解重点句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053800" y="443628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以足撩之，偶不相值，便肯定遇上鬼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406520" y="34995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说说为何会这么做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细读"/>
          <p:cNvPicPr/>
          <p:nvPr/>
        </p:nvPicPr>
        <p:blipFill>
          <a:blip r:embed="rId2"/>
          <a:stretch/>
        </p:blipFill>
        <p:spPr>
          <a:xfrm>
            <a:off x="539640" y="836640"/>
            <a:ext cx="1656000" cy="53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6:23:46Z</dcterms:created>
  <dc:creator/>
  <dc:description/>
  <cp:keywords>幻灯片之家 http:/www.eeppt.com</cp:keywords>
  <dc:language>en-US</dc:language>
  <cp:lastModifiedBy/>
  <dcterms:modified xsi:type="dcterms:W3CDTF">2015-07-18T13:45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