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611-5335-4617-9C19-3BB23392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062-A1D0-4262-8CED-B74A2177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1FC-9B2C-427A-9029-63DCC459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6EB-520B-43ED-A8A3-47E40BB3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C68F-FB11-4BDC-9380-C9CE430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60E0-E9AF-4B8A-9917-4056EABA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C913-D598-44AA-930D-6257149E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F601-F49E-44E8-A394-29BE7D8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742F-E813-4BF7-930A-5FE7742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3205-5B47-4466-B514-5E801244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6030-F887-4151-8A28-9C54769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BEF-F6B4-491B-B0F0-13E2A7A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9FD6-8124-478A-B333-A9ADF64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4FFB-D254-4AC2-8245-EB1ABA9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FD2D-79A1-4C35-8836-597C4CE9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0FE9-7254-44AC-B368-22F8E5EE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E48-D404-4834-B83A-AEE01FE9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043-324C-4FDE-9611-F3753516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36F-FE94-49C1-A43D-EBB43021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A78-2639-4AF1-8B8A-6375DC5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596-732D-4D89-8720-E502978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790-45D6-4DE6-B433-5421BAD5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78D-0709-44E5-8891-843E085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7F5-F856-4D76-B39D-6AB0DCA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AE9-CEAE-4BAF-B6CD-D5F07D86B4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82C1-5E1A-4BE8-94EE-7AB4C7E56E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e1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e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79160" y="342900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猴王出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5"/>
          <p:cNvSpPr/>
          <p:nvPr/>
        </p:nvSpPr>
        <p:spPr>
          <a:xfrm>
            <a:off x="3859200" y="17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猴王出世插图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 rot="5400000">
            <a:off x="-228600" y="16002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33"/>
                </a:solidFill>
                <a:latin typeface="华文新魏"/>
              </a:rPr>
              <a:t>美猴王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0033"/>
              </a:solidFill>
              <a:latin typeface="华文新魏"/>
              <a:ea typeface="华文新魏"/>
            </a:endParaRPr>
          </a:p>
        </p:txBody>
      </p:sp>
      <p:sp>
        <p:nvSpPr>
          <p:cNvPr id="146" name="WordArt 4"/>
          <p:cNvSpPr txBox="1"/>
          <p:nvPr/>
        </p:nvSpPr>
        <p:spPr>
          <a:xfrm rot="5400000">
            <a:off x="1142640" y="35053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99"/>
                </a:solidFill>
                <a:latin typeface="华文新魏"/>
              </a:rPr>
              <a:t>孙悟空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99"/>
              </a:solidFill>
              <a:latin typeface="华文新魏"/>
              <a:ea typeface="华文新魏"/>
            </a:endParaRPr>
          </a:p>
        </p:txBody>
      </p:sp>
      <p:sp>
        <p:nvSpPr>
          <p:cNvPr id="14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e1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252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文选自我国古代杰出的长篇神话小说《西游记》，作者是明代的吴承恩。小说主要讲述了唐僧师徒四人历尽千辛万苦到西天取经的故事，主要人物有唐僧、孙悟空、猪八戒、沙和尚等。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80880" y="88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470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本课是我国古典小说《西游记》中的一个片段，课文叙述了石猴成为猴王的一段经历。读课文，看看石猴是哪来的，又是怎样成为猴王的。把不懂的地方画下来，跟同学、老师讨论。把你喜欢的语句多读几遍，也可以抄下来。如有兴趣还可以读读《西游记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难理解的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字叫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灵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中指仙石有了灵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了人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石头的边隙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喜不自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欢喜的自己不能控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容非常高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耍子去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去玩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造地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形成而又合乎理想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拱伏无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伏在地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朝上礼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违抗的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抓耳挠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乱抓耳朵和腮帮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容非常着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忙乱或苦闷的无计可施的样子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力倦神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累了而全身无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神不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句段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3978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那猴在山中，却会行走跳跃，食草木，饮涧泉，采山花，觅树果；与狼虫为伴，虎豹为群，獐鹿为友，猕猿为亲；夜宿石崖之下，朝游峰洞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2133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面更无树木遮阳，左右倒有芝兰相衬。盖自开辟以来，每受天真地秀，日精月华感之既久，遂有通灵之意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瞑目蹲身，将身一纵，径跳入瀑布泉中，忽睁睛抬头观看，那里边却无水无波，明明朗朗的一架桥梁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4400" y="88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句段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39020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914400" y="82224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华文行楷"/>
                <a:ea typeface="华文行楷"/>
              </a:rPr>
              <a:t>改错别字</a:t>
            </a:r>
            <a:r>
              <a:rPr b="1" lang="en-US" sz="3600" spc="-1" strike="noStrike">
                <a:solidFill>
                  <a:srgbClr val="cccc99"/>
                </a:solidFill>
                <a:latin typeface="Times New Roman"/>
                <a:ea typeface="华文琥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2739960"/>
            <a:ext cx="8076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支（  ） 桥粱（  ）抓耳挠鳃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署（  ） 疲蜷（  ）伸头缩项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9051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41972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543800" y="2743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358128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858000" y="342900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106668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6858000" y="5105520"/>
            <a:ext cx="45720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90512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41972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543800" y="4387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使用规范说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5AEA-7CBF-4F3E-93A9-FE73F47E89EC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8360" y="907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把成语补充完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2478240"/>
            <a:ext cx="8381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拱伏无（  ）   各抒己（  ）   兴国（  ）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（  ）近人   （  ）里如一   酸甜（  ）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气（  ）人   千（  ）一发   身（  ）其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9568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0" y="24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43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9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58000" y="3747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447920" y="50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809880" y="5043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477120" y="50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2:34:47Z</dcterms:created>
  <dc:creator/>
  <dc:description/>
  <cp:keywords>幻灯片之家 http:/www.eeppt.com</cp:keywords>
  <dc:language>en-US</dc:language>
  <cp:lastModifiedBy/>
  <dcterms:modified xsi:type="dcterms:W3CDTF">2015-07-18T13:56:0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