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内乘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8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132920" y="1914480"/>
            <a:ext cx="445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决问题课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线下载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6453360"/>
            <a:ext cx="5079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变化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4840" y="489492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读一读，说说你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74840" y="534708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任选一个问题，读读，画画，列出算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98280" y="580392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检验评价：大家看看这位同学的图、算式，你知道他选的是哪个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吗？你是怎么知道的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258920" y="2421000"/>
            <a:ext cx="69134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位杂技演员表演“顶碗”，每个人都要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一共要顶多少个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现在她们各顶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碗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个人还要顶几个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一共还要顶几个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0" name="Picture 20" descr="13"/>
          <p:cNvPicPr/>
          <p:nvPr/>
        </p:nvPicPr>
        <p:blipFill>
          <a:blip r:embed="rId2"/>
          <a:srcRect l="5805" t="0" r="3419" b="-2738"/>
          <a:stretch/>
        </p:blipFill>
        <p:spPr>
          <a:xfrm>
            <a:off x="5549760" y="2766960"/>
            <a:ext cx="223380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巩固，解决问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"/>
          <p:cNvSpPr/>
          <p:nvPr/>
        </p:nvSpPr>
        <p:spPr>
          <a:xfrm>
            <a:off x="1106640" y="6118200"/>
            <a:ext cx="67593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7920" y="0"/>
            <a:ext cx="8466120" cy="6858000"/>
            <a:chOff x="-7920" y="0"/>
            <a:chExt cx="8466120" cy="6858000"/>
          </a:xfrm>
        </p:grpSpPr>
        <p:sp>
          <p:nvSpPr>
            <p:cNvPr id="149" name="矩形 4"/>
            <p:cNvSpPr/>
            <p:nvPr/>
          </p:nvSpPr>
          <p:spPr>
            <a:xfrm>
              <a:off x="570240" y="0"/>
              <a:ext cx="6742440" cy="825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-79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7"/>
            <p:cNvSpPr/>
            <p:nvPr/>
          </p:nvSpPr>
          <p:spPr>
            <a:xfrm rot="20926800">
              <a:off x="1934640" y="3570480"/>
              <a:ext cx="4667040" cy="14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6"/>
          <p:cNvSpPr/>
          <p:nvPr/>
        </p:nvSpPr>
        <p:spPr>
          <a:xfrm>
            <a:off x="3780000" y="2924280"/>
            <a:ext cx="66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引出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3" name="Picture 12" descr="63-1"/>
          <p:cNvPicPr/>
          <p:nvPr/>
        </p:nvPicPr>
        <p:blipFill>
          <a:blip r:embed="rId2"/>
          <a:stretch/>
        </p:blipFill>
        <p:spPr>
          <a:xfrm>
            <a:off x="1673280" y="1779480"/>
            <a:ext cx="54198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333360" y="272880"/>
            <a:ext cx="83628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比较辨析，选择合适方法解答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阅读比较，初步感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71680" y="542340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读一读这两道题，说说你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71680" y="59234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比一比这两道题，你有什么发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14360" y="262908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排桌子，每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，一共有多少张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414360" y="3895560"/>
            <a:ext cx="833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排桌子，一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，另一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，一共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有多少张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比较辨析，选择合适方法解答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73120" y="57790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就这两道题，你能用算式表示出来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239920" y="3200400"/>
            <a:ext cx="3135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×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张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238480" y="5000760"/>
            <a:ext cx="2909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张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选择算法，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414360" y="262908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排桌子，每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，一共有多少张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725840" y="3895560"/>
            <a:ext cx="4784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排桌子，一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，另一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，一共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有多少张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比较辨析，选择合适方法解答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画中体会，深化理解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3" name="Group 22"/>
          <p:cNvGrpSpPr/>
          <p:nvPr/>
        </p:nvGrpSpPr>
        <p:grpSpPr>
          <a:xfrm>
            <a:off x="4738320" y="4437000"/>
            <a:ext cx="3835440" cy="982800"/>
            <a:chOff x="4738320" y="4437000"/>
            <a:chExt cx="3835440" cy="982800"/>
          </a:xfrm>
        </p:grpSpPr>
        <p:sp>
          <p:nvSpPr>
            <p:cNvPr id="104" name="Rectangle 15"/>
            <p:cNvSpPr/>
            <p:nvPr/>
          </p:nvSpPr>
          <p:spPr>
            <a:xfrm>
              <a:off x="4738320" y="4511160"/>
              <a:ext cx="74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5" name="Picture 19" descr="未标题-2"/>
            <p:cNvPicPr/>
            <p:nvPr/>
          </p:nvPicPr>
          <p:blipFill>
            <a:blip r:embed="rId2"/>
            <a:srcRect l="52930" t="3887" r="-971" b="42532"/>
            <a:stretch/>
          </p:blipFill>
          <p:spPr>
            <a:xfrm>
              <a:off x="5135040" y="4437000"/>
              <a:ext cx="3438720" cy="98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21"/>
          <p:cNvGrpSpPr/>
          <p:nvPr/>
        </p:nvGrpSpPr>
        <p:grpSpPr>
          <a:xfrm>
            <a:off x="875160" y="4365720"/>
            <a:ext cx="3888720" cy="1755720"/>
            <a:chOff x="875160" y="4365720"/>
            <a:chExt cx="3888720" cy="1755720"/>
          </a:xfrm>
        </p:grpSpPr>
        <p:sp>
          <p:nvSpPr>
            <p:cNvPr id="107" name="Text Box 13"/>
            <p:cNvSpPr/>
            <p:nvPr/>
          </p:nvSpPr>
          <p:spPr>
            <a:xfrm>
              <a:off x="875160" y="4506480"/>
              <a:ext cx="74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8" name="Picture 20" descr="未标题-2"/>
            <p:cNvPicPr/>
            <p:nvPr/>
          </p:nvPicPr>
          <p:blipFill>
            <a:blip r:embed="rId3"/>
            <a:srcRect l="0" t="0" r="54919" b="4305"/>
            <a:stretch/>
          </p:blipFill>
          <p:spPr>
            <a:xfrm>
              <a:off x="1534680" y="4365720"/>
              <a:ext cx="322920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Rectangle 3"/>
          <p:cNvSpPr/>
          <p:nvPr/>
        </p:nvSpPr>
        <p:spPr>
          <a:xfrm>
            <a:off x="782640" y="2610360"/>
            <a:ext cx="65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能画图解释为什么这样算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1538280" y="3328920"/>
            <a:ext cx="2994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×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张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5321160" y="3328920"/>
            <a:ext cx="2779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张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比较辨析，选择合适方法解答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回顾检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479592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请大家看第一题，再看看你画的图和列出的算式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它们表达的意思一样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39640" y="57153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第二题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95280" y="253692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排桌子，每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，一共有多少张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706760" y="3247920"/>
            <a:ext cx="4784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排桌子，一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，另一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，一共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有多少张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14"/>
          <p:cNvPicPr/>
          <p:nvPr/>
        </p:nvPicPr>
        <p:blipFill>
          <a:blip r:embed="rId2"/>
          <a:stretch/>
        </p:blipFill>
        <p:spPr>
          <a:xfrm>
            <a:off x="971640" y="2637000"/>
            <a:ext cx="7488000" cy="2077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巩固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基本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50960" y="50486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请你任选一题，读一读，画一画，列出算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1200" y="56599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检验评价：大家看看这位同学的题目、图、算式，评一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4360" y="2655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12800" y="38019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巩固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95200" y="50486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自己读一读，能直接用算式表示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93760" y="55886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你还能提出其他数学问题并解答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456280" y="2655720"/>
            <a:ext cx="3455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刘奶奶家养了两种不同的鸡，一种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只，另一种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还养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种不同的鸭子，每种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刘奶奶家养了多少只鸡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刘奶奶家养了多少只鸭子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基本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>幻灯片之家 http:/www.eeppt.com</cp:keywords>
  <dc:language>en-US</dc:language>
  <cp:lastModifiedBy/>
  <dcterms:modified xsi:type="dcterms:W3CDTF">2015-07-20T03:18:48Z</dcterms:modified>
  <cp:revision>3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