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8291175" cy="1143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C7AA-161C-4678-9926-90F9C2C4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16462440" cy="190656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ctr">
            <a:noAutofit/>
          </a:bodyPr>
          <a:p>
            <a:pPr indent="0" algn="ctr"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666880"/>
            <a:ext cx="16462440" cy="359892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6608160"/>
            <a:ext cx="16462440" cy="359892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B51B-BC91-4351-888C-CD3F233D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16462440" cy="190656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ctr">
            <a:noAutofit/>
          </a:bodyPr>
          <a:p>
            <a:pPr indent="0" algn="ctr"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666880"/>
            <a:ext cx="8033400" cy="359892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49560" y="2666880"/>
            <a:ext cx="8033400" cy="359892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6608160"/>
            <a:ext cx="8033400" cy="359892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349560" y="6608160"/>
            <a:ext cx="8033400" cy="359892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9F24-0600-4A41-8A39-B1CFE0EB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16462440" cy="190656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ctr">
            <a:noAutofit/>
          </a:bodyPr>
          <a:p>
            <a:pPr indent="0" algn="ctr"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2666880"/>
            <a:ext cx="5300640" cy="359892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480000" y="2666880"/>
            <a:ext cx="5300640" cy="359892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046320" y="2666880"/>
            <a:ext cx="5300640" cy="359892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6608160"/>
            <a:ext cx="5300640" cy="359892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480000" y="6608160"/>
            <a:ext cx="5300640" cy="359892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2046320" y="6608160"/>
            <a:ext cx="5300640" cy="359892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4BF0-4CAB-4C13-9D51-3000FDD6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16462440" cy="190656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ctr">
            <a:noAutofit/>
          </a:bodyPr>
          <a:p>
            <a:pPr indent="0" algn="ctr"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2666880"/>
            <a:ext cx="16462440" cy="75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74"/>
              </a:spcBef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25E6-93AC-448D-87F3-FC28DB9A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16462440" cy="190656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ctr">
            <a:noAutofit/>
          </a:bodyPr>
          <a:p>
            <a:pPr indent="0" algn="ctr"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2666880"/>
            <a:ext cx="16462440" cy="754560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6FAA-25A2-40D3-B097-DE3451ED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16462440" cy="190656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ctr">
            <a:noAutofit/>
          </a:bodyPr>
          <a:p>
            <a:pPr indent="0" algn="ctr"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2666880"/>
            <a:ext cx="8033400" cy="754560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349560" y="2666880"/>
            <a:ext cx="8033400" cy="754560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D39-FA2D-437D-8770-E93870B1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16462440" cy="190656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ctr">
            <a:noAutofit/>
          </a:bodyPr>
          <a:p>
            <a:pPr indent="0" algn="ctr"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0FC0-6874-49C0-8881-DCCEDA1C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457200"/>
            <a:ext cx="16462440" cy="88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74"/>
              </a:spcBef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4CEA-9EAA-40E4-B901-C7900508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16462440" cy="190656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ctr">
            <a:noAutofit/>
          </a:bodyPr>
          <a:p>
            <a:pPr indent="0" algn="ctr"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666880"/>
            <a:ext cx="8033400" cy="359892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349560" y="2666880"/>
            <a:ext cx="8033400" cy="754560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6608160"/>
            <a:ext cx="8033400" cy="359892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79BE-8E5F-45EB-92A0-698AAA68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16462440" cy="190656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ctr">
            <a:noAutofit/>
          </a:bodyPr>
          <a:p>
            <a:pPr indent="0" algn="ctr"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666880"/>
            <a:ext cx="8033400" cy="754560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49560" y="2666880"/>
            <a:ext cx="8033400" cy="359892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349560" y="6608160"/>
            <a:ext cx="8033400" cy="359892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2E3D-D6F4-45C2-A89A-3B3E0757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16462440" cy="190656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ctr">
            <a:noAutofit/>
          </a:bodyPr>
          <a:p>
            <a:pPr indent="0" algn="ctr"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666880"/>
            <a:ext cx="8033400" cy="359892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49560" y="2666880"/>
            <a:ext cx="8033400" cy="359892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6608160"/>
            <a:ext cx="16462440" cy="359892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086C-49AA-4188-9F32-79C4FEF7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16462440" cy="190656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ctr">
            <a:noAutofit/>
          </a:bodyPr>
          <a:p>
            <a:pPr indent="0" algn="ctr"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666880"/>
            <a:ext cx="16462440" cy="754560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t">
            <a:normAutofit fontScale="99000"/>
          </a:bodyPr>
          <a:p>
            <a:pPr marL="630000" indent="-630000">
              <a:spcBef>
                <a:spcPts val="1474"/>
              </a:spcBef>
              <a:buClr>
                <a:srgbClr val="000000"/>
              </a:buClr>
              <a:buFont typeface="Arial"/>
              <a:buChar char="•"/>
              <a:tabLst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lvl="1" marL="1365480" indent="-524880">
              <a:spcBef>
                <a:spcPts val="1474"/>
              </a:spcBef>
              <a:buClr>
                <a:srgbClr val="000000"/>
              </a:buClr>
              <a:buFont typeface="Arial"/>
              <a:buChar char="–"/>
              <a:tabLst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lvl="2" marL="2101320" indent="-419760">
              <a:spcBef>
                <a:spcPts val="1474"/>
              </a:spcBef>
              <a:buClr>
                <a:srgbClr val="000000"/>
              </a:buClr>
              <a:buFont typeface="Arial"/>
              <a:buChar char="•"/>
              <a:tabLst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lvl="3" marL="2941920" indent="-419400">
              <a:spcBef>
                <a:spcPts val="1474"/>
              </a:spcBef>
              <a:buClr>
                <a:srgbClr val="000000"/>
              </a:buClr>
              <a:buFont typeface="Arial"/>
              <a:buChar char="–"/>
              <a:tabLst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lvl="4" marL="3782520" indent="-419400">
              <a:spcBef>
                <a:spcPts val="1474"/>
              </a:spcBef>
              <a:buClr>
                <a:srgbClr val="000000"/>
              </a:buClr>
              <a:buFont typeface="Arial"/>
              <a:buChar char="»"/>
              <a:tabLst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lvl="5" marL="3782520" indent="-419400">
              <a:spcBef>
                <a:spcPts val="1474"/>
              </a:spcBef>
              <a:buClr>
                <a:srgbClr val="000000"/>
              </a:buClr>
              <a:buFont typeface="Arial"/>
              <a:buChar char="»"/>
              <a:tabLst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lvl="6" marL="3782520" indent="-419400">
              <a:spcBef>
                <a:spcPts val="1474"/>
              </a:spcBef>
              <a:buClr>
                <a:srgbClr val="000000"/>
              </a:buClr>
              <a:buFont typeface="Arial"/>
              <a:buChar char="»"/>
              <a:tabLst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10410480"/>
            <a:ext cx="4268880" cy="79380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9600" y="10410480"/>
            <a:ext cx="5791320" cy="79380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09400" y="10410480"/>
            <a:ext cx="4267440" cy="79380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C583-22C2-42C7-A66A-6F0AA990BD6F}" type="slidenum">
              <a:rPr b="0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1"/>
          <p:cNvPicPr/>
          <p:nvPr/>
        </p:nvPicPr>
        <p:blipFill>
          <a:blip r:embed="rId1"/>
          <a:stretch/>
        </p:blipFill>
        <p:spPr>
          <a:xfrm>
            <a:off x="0" y="1035000"/>
            <a:ext cx="18291240" cy="91458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5376960" y="57240"/>
            <a:ext cx="8678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模板无忧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ww.mb5u.com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模板无忧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ww.mb5u.co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1800" y="10683720"/>
            <a:ext cx="6842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http://www.eeppt.com/suca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07600" y="27000"/>
            <a:ext cx="422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军人</a:t>
            </a: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36360" y="315720"/>
            <a:ext cx="16417800" cy="95724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ctr">
            <a:noAutofit/>
          </a:bodyPr>
          <a:p>
            <a:pPr indent="0" algn="ctr"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r>
              <a:rPr b="0" lang="zh-CN" sz="8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5640" y="2117520"/>
            <a:ext cx="17859240" cy="869940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4576400" y="555480"/>
            <a:ext cx="2778120" cy="5828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096E-2518-4E74-8BCD-882607E8D1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2"/>
          <p:cNvPicPr/>
          <p:nvPr/>
        </p:nvPicPr>
        <p:blipFill>
          <a:blip r:embed="rId1"/>
          <a:stretch/>
        </p:blipFill>
        <p:spPr>
          <a:xfrm>
            <a:off x="0" y="1035000"/>
            <a:ext cx="18291240" cy="914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64720" y="1633680"/>
            <a:ext cx="16462440" cy="138888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ctr">
            <a:noAutofit/>
          </a:bodyPr>
          <a:p>
            <a:pPr indent="0" algn="ctr">
              <a:buNone/>
              <a:tabLst>
                <a:tab algn="l" pos="0"/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64720" y="3843000"/>
            <a:ext cx="16462440" cy="5497560"/>
          </a:xfrm>
          <a:prstGeom prst="rect">
            <a:avLst/>
          </a:prstGeom>
          <a:noFill/>
          <a:ln w="0">
            <a:noFill/>
          </a:ln>
        </p:spPr>
        <p:txBody>
          <a:bodyPr lIns="169920" rIns="169920" tIns="84960" bIns="8496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98480"/>
                <a:tab algn="l" pos="3397320"/>
                <a:tab algn="l" pos="5095800"/>
                <a:tab algn="l" pos="6794640"/>
                <a:tab algn="l" pos="8493120"/>
                <a:tab algn="l" pos="101916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4:57:06Z</dcterms:created>
  <dc:creator>Beer</dc:creator>
  <dc:description/>
  <dc:language>en-US</dc:language>
  <cp:lastModifiedBy>微软用户</cp:lastModifiedBy>
  <dcterms:modified xsi:type="dcterms:W3CDTF">2015-07-21T02:47:45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