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B0F-9535-4A92-A16D-8506E916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872-CD33-4759-BAC7-65BBB52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1FC-74E8-4ACF-8565-4DB8D54F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AF7-4C53-4FE9-BEC0-7BAFA791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1AA-A825-43CB-A0CA-9AB5C389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525-681D-413D-A6BD-6577EE1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86C-24C3-4AFA-92F9-70A0DCC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B3C-3E2C-49AF-B515-BB80B1E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C78-7D07-4B47-BD29-3F074B4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E56-C17A-4954-AF81-28FDEAD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5CF-8CDB-4550-911C-44C15D2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8F6-A94A-4DAD-AB37-C7FB200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8E92-FFCA-4E70-B36E-C88283917D2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676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191040" y="62895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DBF-B512-4B3C-9E76-2C5CFB821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57:28Z</dcterms:created>
  <dc:creator>Admin</dc:creator>
  <dc:description/>
  <dc:language>en-US</dc:language>
  <cp:lastModifiedBy>jccook</cp:lastModifiedBy>
  <dcterms:modified xsi:type="dcterms:W3CDTF">2015-07-20T09:23:19Z</dcterms:modified>
  <cp:revision>6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