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E82-B7B8-4DCF-BE95-5992C46F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D0F-0EDC-488D-A468-9600C22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593-09C8-4F80-8C60-5B2AEB9C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3D9-702C-48D2-956D-A9D7C66F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A372-E143-4A2A-89CD-29777D71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C978-8F7D-4775-A69B-58C239C9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F3E-DF7E-4488-9EF9-0ACCECB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7670-5B61-4DB2-9C2C-1D5B9E0A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74A5-E16C-4F90-B2AF-FCEA3C77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154C-E82A-4520-92EE-0ACB7A9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C879-CEA5-49E9-8103-80B6A4F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AA1-B880-4D05-AB49-D466709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FE9B-5F38-41B4-87BA-D23570B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0B2F-55FC-41C1-813D-03DB930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CD34-D9A9-4A0A-943E-07D1FB3A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A6BF-1143-44B4-A4F3-131D10C9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B9A-453F-44EF-A2C3-C697257B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7E39-8AE6-4AF1-88B5-369D9B57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519E-8618-4786-92FC-9B3CA95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3603-14E8-44F3-9DEA-79438E4D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1D4E-B3FD-42E8-A5C5-38A1EB47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AA67-6663-489A-8812-817F7AC6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E2C-0749-4D19-810F-6FB2BA1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CAB1-FF0D-4E22-A3DB-85233D5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DAF0-5702-4D17-858C-D3AADF5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5195-E844-4BB2-ADFF-E553DE8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3058-FD6A-49F0-829A-DDE3DA34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D414-E1E7-4ABA-9216-35E67BA7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6E83-8266-4E4C-8267-51CA1C21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420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82120" y="11505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628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420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82120" y="3836160"/>
            <a:ext cx="257868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E236-F4C3-4556-B95B-803D89F3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F3D-D4B9-4E48-97F3-5AAFC5EF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634-9491-467C-8B54-D70E042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6280" y="298440"/>
            <a:ext cx="800892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12F-2362-4FDD-93EC-A4AF029F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D38-0557-42CC-929C-A26CDB9C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8361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0B9-41BC-405B-9DD3-A7E8765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150560"/>
            <a:ext cx="390816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836160"/>
            <a:ext cx="80089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687-9EB4-4F22-89CA-2504B5A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59F3-0824-4051-B4DC-E4BF05AF10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9638-3DEF-440C-AA43-1AAD7E2E84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6280" y="1150560"/>
            <a:ext cx="8008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34c8db"/>
              </a:buClr>
              <a:buSzPct val="7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5595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E5A-FFB0-4AC7-84A2-055D4A89AD2E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566280" y="298440"/>
            <a:ext cx="8008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34c8db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9"/>
          <p:cNvSpPr/>
          <p:nvPr/>
        </p:nvSpPr>
        <p:spPr>
          <a:xfrm>
            <a:off x="3965400" y="901800"/>
            <a:ext cx="1173240" cy="117468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95b"/>
                </a:solidFill>
                <a:latin typeface="Bernard MT Condensed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0"/>
          <p:cNvSpPr/>
          <p:nvPr/>
        </p:nvSpPr>
        <p:spPr>
          <a:xfrm>
            <a:off x="1077840" y="3146400"/>
            <a:ext cx="250920" cy="25092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7819920" y="3146400"/>
            <a:ext cx="252360" cy="250920"/>
          </a:xfrm>
          <a:prstGeom prst="ellipse">
            <a:avLst/>
          </a:prstGeom>
          <a:solidFill>
            <a:srgbClr val="cdc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2"/>
          <p:cNvSpPr/>
          <p:nvPr/>
        </p:nvSpPr>
        <p:spPr>
          <a:xfrm>
            <a:off x="4497480" y="5524560"/>
            <a:ext cx="108000" cy="108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3"/>
          <p:cNvSpPr/>
          <p:nvPr/>
        </p:nvSpPr>
        <p:spPr>
          <a:xfrm>
            <a:off x="4546440" y="5632560"/>
            <a:ext cx="0" cy="1225440"/>
          </a:xfrm>
          <a:prstGeom prst="line">
            <a:avLst/>
          </a:prstGeom>
          <a:ln w="6480">
            <a:solidFill>
              <a:srgbClr val="cdc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3655-BD15-404C-BCFC-BA535515D9F5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1385640" y="2577600"/>
            <a:ext cx="639756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34c8db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5595b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5595b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5595b"/>
              </a:solidFill>
              <a:latin typeface="Calibri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55595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55595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office 2010\PPT\素材管理\PPT图表\PPT图表研究院\作业\小人.png"/>
          <p:cNvPicPr/>
          <p:nvPr/>
        </p:nvPicPr>
        <p:blipFill>
          <a:blip r:embed="rId1"/>
          <a:stretch/>
        </p:blipFill>
        <p:spPr>
          <a:xfrm>
            <a:off x="6516720" y="4092480"/>
            <a:ext cx="797040" cy="127980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47"/>
          <p:cNvGrpSpPr/>
          <p:nvPr/>
        </p:nvGrpSpPr>
        <p:grpSpPr>
          <a:xfrm>
            <a:off x="2851200" y="2383920"/>
            <a:ext cx="4960800" cy="3278880"/>
            <a:chOff x="2851200" y="2383920"/>
            <a:chExt cx="4960800" cy="3278880"/>
          </a:xfrm>
        </p:grpSpPr>
        <p:grpSp>
          <p:nvGrpSpPr>
            <p:cNvPr id="132" name="组合 148"/>
            <p:cNvGrpSpPr/>
            <p:nvPr/>
          </p:nvGrpSpPr>
          <p:grpSpPr>
            <a:xfrm>
              <a:off x="3562200" y="2383920"/>
              <a:ext cx="3263760" cy="3278880"/>
              <a:chOff x="3562200" y="2383920"/>
              <a:chExt cx="3263760" cy="3278880"/>
            </a:xfrm>
          </p:grpSpPr>
          <p:grpSp>
            <p:nvGrpSpPr>
              <p:cNvPr id="133" name="组合 150"/>
              <p:cNvGrpSpPr/>
              <p:nvPr/>
            </p:nvGrpSpPr>
            <p:grpSpPr>
              <a:xfrm>
                <a:off x="3804120" y="2383920"/>
                <a:ext cx="2865960" cy="2243160"/>
                <a:chOff x="3804120" y="2383920"/>
                <a:chExt cx="2865960" cy="2243160"/>
              </a:xfrm>
            </p:grpSpPr>
            <p:sp>
              <p:nvSpPr>
                <p:cNvPr id="134" name="下弧形箭头 1"/>
                <p:cNvSpPr/>
                <p:nvPr/>
              </p:nvSpPr>
              <p:spPr>
                <a:xfrm flipH="1" rot="21306000">
                  <a:off x="4209840" y="2812320"/>
                  <a:ext cx="2389680" cy="171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等腰三角形 35"/>
                <p:cNvSpPr/>
                <p:nvPr/>
              </p:nvSpPr>
              <p:spPr>
                <a:xfrm rot="20163600">
                  <a:off x="3902040" y="2511000"/>
                  <a:ext cx="763560" cy="644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矩形 165"/>
                <p:cNvSpPr/>
                <p:nvPr/>
              </p:nvSpPr>
              <p:spPr>
                <a:xfrm rot="1993800">
                  <a:off x="4105080" y="2647440"/>
                  <a:ext cx="74124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5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下弧形箭头 1"/>
                <p:cNvSpPr/>
                <p:nvPr/>
              </p:nvSpPr>
              <p:spPr>
                <a:xfrm flipH="1" rot="301800">
                  <a:off x="4518000" y="3076920"/>
                  <a:ext cx="2100960" cy="1243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1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41"/>
                <p:cNvSpPr/>
                <p:nvPr/>
              </p:nvSpPr>
              <p:spPr>
                <a:xfrm rot="373200">
                  <a:off x="4106160" y="2589840"/>
                  <a:ext cx="659160" cy="50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组合 151"/>
              <p:cNvGrpSpPr/>
              <p:nvPr/>
            </p:nvGrpSpPr>
            <p:grpSpPr>
              <a:xfrm>
                <a:off x="5157000" y="2917080"/>
                <a:ext cx="1668960" cy="1502280"/>
                <a:chOff x="5157000" y="2917080"/>
                <a:chExt cx="1668960" cy="1502280"/>
              </a:xfrm>
            </p:grpSpPr>
            <p:sp>
              <p:nvSpPr>
                <p:cNvPr id="140" name="下弧形箭头 1"/>
                <p:cNvSpPr/>
                <p:nvPr/>
              </p:nvSpPr>
              <p:spPr>
                <a:xfrm flipH="1" rot="415800">
                  <a:off x="5288040" y="3284640"/>
                  <a:ext cx="1472400" cy="104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01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159"/>
                <p:cNvSpPr/>
                <p:nvPr/>
              </p:nvSpPr>
              <p:spPr>
                <a:xfrm rot="2760000">
                  <a:off x="5341320" y="3079440"/>
                  <a:ext cx="471240" cy="6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124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下弧形箭头 1"/>
                <p:cNvSpPr/>
                <p:nvPr/>
              </p:nvSpPr>
              <p:spPr>
                <a:xfrm flipH="1" rot="1011000">
                  <a:off x="5443200" y="3465000"/>
                  <a:ext cx="1301040" cy="756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81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等腰三角形 14"/>
                <p:cNvSpPr/>
                <p:nvPr/>
              </p:nvSpPr>
              <p:spPr>
                <a:xfrm rot="20872200">
                  <a:off x="5193360" y="2963160"/>
                  <a:ext cx="483480" cy="39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椭圆 44"/>
                <p:cNvSpPr/>
                <p:nvPr/>
              </p:nvSpPr>
              <p:spPr>
                <a:xfrm>
                  <a:off x="5341320" y="2971440"/>
                  <a:ext cx="375480" cy="389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组合 152"/>
              <p:cNvGrpSpPr/>
              <p:nvPr/>
            </p:nvGrpSpPr>
            <p:grpSpPr>
              <a:xfrm>
                <a:off x="3562200" y="3098880"/>
                <a:ext cx="3116520" cy="2563920"/>
                <a:chOff x="3562200" y="3098880"/>
                <a:chExt cx="3116520" cy="2563920"/>
              </a:xfrm>
            </p:grpSpPr>
            <p:sp>
              <p:nvSpPr>
                <p:cNvPr id="146" name="下弧形箭头 1"/>
                <p:cNvSpPr/>
                <p:nvPr/>
              </p:nvSpPr>
              <p:spPr>
                <a:xfrm flipH="1" rot="19552800">
                  <a:off x="4193280" y="3588480"/>
                  <a:ext cx="2233080" cy="158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等腰三角形 35"/>
                <p:cNvSpPr/>
                <p:nvPr/>
              </p:nvSpPr>
              <p:spPr>
                <a:xfrm rot="18409800">
                  <a:off x="3657240" y="3909600"/>
                  <a:ext cx="713520" cy="59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矩形 155"/>
                <p:cNvSpPr/>
                <p:nvPr/>
              </p:nvSpPr>
              <p:spPr>
                <a:xfrm rot="240000">
                  <a:off x="3765240" y="3963600"/>
                  <a:ext cx="692640" cy="104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1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下弧形箭头 1"/>
                <p:cNvSpPr/>
                <p:nvPr/>
              </p:nvSpPr>
              <p:spPr>
                <a:xfrm flipH="1" rot="20148600">
                  <a:off x="447372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下弧形箭头 1"/>
                <p:cNvSpPr/>
                <p:nvPr/>
              </p:nvSpPr>
              <p:spPr>
                <a:xfrm flipH="1" rot="20148600">
                  <a:off x="447840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椭圆 149"/>
            <p:cNvSpPr/>
            <p:nvPr/>
          </p:nvSpPr>
          <p:spPr>
            <a:xfrm>
              <a:off x="2851200" y="4782960"/>
              <a:ext cx="4960800" cy="2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68"/>
          <p:cNvGrpSpPr/>
          <p:nvPr/>
        </p:nvGrpSpPr>
        <p:grpSpPr>
          <a:xfrm>
            <a:off x="988920" y="1671480"/>
            <a:ext cx="1661400" cy="379440"/>
            <a:chOff x="988920" y="1671480"/>
            <a:chExt cx="1661400" cy="379440"/>
          </a:xfrm>
        </p:grpSpPr>
        <p:grpSp>
          <p:nvGrpSpPr>
            <p:cNvPr id="153" name="组合 169"/>
            <p:cNvGrpSpPr/>
            <p:nvPr/>
          </p:nvGrpSpPr>
          <p:grpSpPr>
            <a:xfrm>
              <a:off x="988920" y="1671480"/>
              <a:ext cx="257040" cy="379440"/>
              <a:chOff x="988920" y="1671480"/>
              <a:chExt cx="257040" cy="379440"/>
            </a:xfrm>
          </p:grpSpPr>
          <p:sp>
            <p:nvSpPr>
              <p:cNvPr id="154" name="Freeform 11"/>
              <p:cNvSpPr/>
              <p:nvPr/>
            </p:nvSpPr>
            <p:spPr>
              <a:xfrm>
                <a:off x="1063800" y="2010240"/>
                <a:ext cx="111600" cy="406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"/>
              <p:cNvSpPr/>
              <p:nvPr/>
            </p:nvSpPr>
            <p:spPr>
              <a:xfrm>
                <a:off x="1063800" y="1984320"/>
                <a:ext cx="111600" cy="147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"/>
              <p:cNvSpPr/>
              <p:nvPr/>
            </p:nvSpPr>
            <p:spPr>
              <a:xfrm>
                <a:off x="1018800" y="1752840"/>
                <a:ext cx="201240" cy="2178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4"/>
              <p:cNvSpPr/>
              <p:nvPr/>
            </p:nvSpPr>
            <p:spPr>
              <a:xfrm>
                <a:off x="988920" y="1710720"/>
                <a:ext cx="6120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5"/>
              <p:cNvSpPr/>
              <p:nvPr/>
            </p:nvSpPr>
            <p:spPr>
              <a:xfrm>
                <a:off x="1189080" y="1710720"/>
                <a:ext cx="5688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"/>
              <p:cNvSpPr/>
              <p:nvPr/>
            </p:nvSpPr>
            <p:spPr>
              <a:xfrm>
                <a:off x="1104480" y="1671480"/>
                <a:ext cx="25560" cy="6804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170"/>
            <p:cNvSpPr/>
            <p:nvPr/>
          </p:nvSpPr>
          <p:spPr>
            <a:xfrm>
              <a:off x="164664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直接箭头连接符 171"/>
            <p:cNvCxnSpPr/>
            <p:nvPr/>
          </p:nvCxnSpPr>
          <p:spPr>
            <a:xfrm flipV="1">
              <a:off x="1349640" y="1688040"/>
              <a:ext cx="1080" cy="34632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162" name="矩形 1"/>
          <p:cNvSpPr/>
          <p:nvPr/>
        </p:nvSpPr>
        <p:spPr>
          <a:xfrm>
            <a:off x="511200" y="2016000"/>
            <a:ext cx="289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81"/>
          <p:cNvGrpSpPr/>
          <p:nvPr/>
        </p:nvGrpSpPr>
        <p:grpSpPr>
          <a:xfrm>
            <a:off x="6137280" y="1674720"/>
            <a:ext cx="1786680" cy="368280"/>
            <a:chOff x="6137280" y="1674720"/>
            <a:chExt cx="1786680" cy="368280"/>
          </a:xfrm>
        </p:grpSpPr>
        <p:grpSp>
          <p:nvGrpSpPr>
            <p:cNvPr id="164" name="组合 182"/>
            <p:cNvGrpSpPr/>
            <p:nvPr/>
          </p:nvGrpSpPr>
          <p:grpSpPr>
            <a:xfrm>
              <a:off x="6137280" y="1706040"/>
              <a:ext cx="398880" cy="307080"/>
              <a:chOff x="6137280" y="1706040"/>
              <a:chExt cx="398880" cy="307080"/>
            </a:xfrm>
          </p:grpSpPr>
          <p:sp>
            <p:nvSpPr>
              <p:cNvPr id="165" name="Freeform 6"/>
              <p:cNvSpPr/>
              <p:nvPr/>
            </p:nvSpPr>
            <p:spPr>
              <a:xfrm>
                <a:off x="6318360" y="1764720"/>
                <a:ext cx="85680" cy="1324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"/>
              <p:cNvSpPr/>
              <p:nvPr/>
            </p:nvSpPr>
            <p:spPr>
              <a:xfrm>
                <a:off x="6137280" y="1706040"/>
                <a:ext cx="398880" cy="3070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83"/>
            <p:cNvSpPr/>
            <p:nvPr/>
          </p:nvSpPr>
          <p:spPr>
            <a:xfrm>
              <a:off x="6920280" y="1674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直接箭头连接符 184"/>
            <p:cNvCxnSpPr/>
            <p:nvPr/>
          </p:nvCxnSpPr>
          <p:spPr>
            <a:xfrm flipV="1">
              <a:off x="6626880" y="16855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grpSp>
        <p:nvGrpSpPr>
          <p:cNvPr id="169" name="组合 187"/>
          <p:cNvGrpSpPr/>
          <p:nvPr/>
        </p:nvGrpSpPr>
        <p:grpSpPr>
          <a:xfrm>
            <a:off x="947880" y="3409920"/>
            <a:ext cx="1731600" cy="368280"/>
            <a:chOff x="947880" y="3409920"/>
            <a:chExt cx="1731600" cy="368280"/>
          </a:xfrm>
        </p:grpSpPr>
        <p:grpSp>
          <p:nvGrpSpPr>
            <p:cNvPr id="170" name="组合 188"/>
            <p:cNvGrpSpPr/>
            <p:nvPr/>
          </p:nvGrpSpPr>
          <p:grpSpPr>
            <a:xfrm>
              <a:off x="947880" y="3431880"/>
              <a:ext cx="322560" cy="326160"/>
              <a:chOff x="947880" y="3431880"/>
              <a:chExt cx="322560" cy="326160"/>
            </a:xfrm>
          </p:grpSpPr>
          <p:sp>
            <p:nvSpPr>
              <p:cNvPr id="171" name="Oval 17"/>
              <p:cNvSpPr/>
              <p:nvPr/>
            </p:nvSpPr>
            <p:spPr>
              <a:xfrm>
                <a:off x="1157400" y="3519000"/>
                <a:ext cx="47520" cy="5184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31480" y="3580560"/>
                <a:ext cx="99360" cy="17748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947880" y="3460320"/>
                <a:ext cx="167400" cy="29772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0"/>
              <p:cNvSpPr/>
              <p:nvPr/>
            </p:nvSpPr>
            <p:spPr>
              <a:xfrm>
                <a:off x="1112400" y="3431880"/>
                <a:ext cx="158040" cy="28404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189"/>
            <p:cNvSpPr/>
            <p:nvPr/>
          </p:nvSpPr>
          <p:spPr>
            <a:xfrm>
              <a:off x="1675800" y="3409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直接箭头连接符 190"/>
            <p:cNvCxnSpPr/>
            <p:nvPr/>
          </p:nvCxnSpPr>
          <p:spPr>
            <a:xfrm flipV="1">
              <a:off x="1380240" y="34207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177" name=""/>
          <p:cNvSpPr/>
          <p:nvPr/>
        </p:nvSpPr>
        <p:spPr>
          <a:xfrm>
            <a:off x="1391040" y="260280"/>
            <a:ext cx="61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5595b"/>
                </a:solidFill>
                <a:latin typeface="楷体"/>
                <a:ea typeface="楷体"/>
              </a:rPr>
              <a:t>箭头</a:t>
            </a:r>
            <a:r>
              <a:rPr b="0" lang="en-US" sz="4000" spc="-1" strike="noStrike">
                <a:solidFill>
                  <a:srgbClr val="55595b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55595b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5595b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5595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4c8db"/>
                </a:solidFill>
                <a:latin typeface="Broadway"/>
              </a:rPr>
              <a:t>使用规范说明</a:t>
            </a:r>
            <a:endParaRPr b="1" lang="en-US" sz="3200" spc="-1" strike="noStrike">
              <a:solidFill>
                <a:srgbClr val="34c8db"/>
              </a:solidFill>
              <a:latin typeface="Broadway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5595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31A-FFD6-406E-AC14-BE8BECCAB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5Z</dcterms:modified>
  <cp:revision>9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