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295-D579-4B12-B577-6D63A038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C3E-E37D-49A2-82E0-8152DD23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AAA-E23E-4BE1-AAC1-74C45544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2A2-9A2A-40F4-B441-AF75C20A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836A-C5BA-4951-A644-BD7441C5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C9E7-7EFB-4469-900D-EB5EAA99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B501-BB47-4683-8105-9967C2E5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E8C3-74CA-4EFF-AF36-72BFFF23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8BC1-1171-46A3-AFB4-B1EAA90F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9954-265C-4683-9DCC-9CDF0B14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076A-4DDA-4C89-897B-96BF7505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9E5-7BF7-4186-AF9A-0135C9D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5B13-0C2D-4A0E-8BE2-67B714F1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F6FF-14DF-4B67-8898-B07AC9DA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9E11-AB17-4E60-BD80-1A4B4819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F149-B4C6-4125-9266-70E17E08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0380-CEB0-4BAF-BAFA-656252DF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8D3-A743-40E6-A5B1-C5D6CCD0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BB8-17A6-4FF7-AE11-D40577A6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1FF-840C-4890-AFA8-4DF16559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1B7-C9DB-42E8-8A3D-86F7ED0F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19C-C719-4E7B-959C-DBD6F04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23F-BE3C-48B9-A19A-0D994A1C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D2E-0243-4D49-B446-BA222A6A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AD35-E975-4F0D-A5CA-5C132238FC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DD63-86B7-46DE-84EA-04654A5DCC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C949-2306-477E-B940-193980A033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9E33-823B-4811-BAFF-DFA9860000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u=2217509709,2216447988&amp;fm=21&amp;gp=0" descr=""/>
          <p:cNvPicPr/>
          <p:nvPr/>
        </p:nvPicPr>
        <p:blipFill>
          <a:blip r:embed="rId1"/>
          <a:stretch/>
        </p:blipFill>
        <p:spPr>
          <a:xfrm>
            <a:off x="38160" y="193680"/>
            <a:ext cx="9055080" cy="646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57560" y="82404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箭头上升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15E6-C8D3-4D04-AC63-C76FDC9E72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