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B9C-EF72-4004-B424-D7C4E55E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0BB-0D74-48FE-8644-B59AD25A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188-0487-45CC-90B0-E57DBFF4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F7B-14EF-4D0A-BFB3-D6A865B7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A25C-85C8-4487-9C6A-5F12FF4F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408A-2631-4F5E-A29D-E1E15163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6267-B09D-437B-A2E5-C0538567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D215-26C8-4D2D-B240-DE6C82F7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B1F6-0D21-41CF-B4B6-419EE438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A088-85F6-4CF7-9F88-ED3A0E8F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75A0-2D41-43BB-8440-FBD4DCD7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22A-E91B-4B6A-BB4A-D7EC26E3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28F9-AEA3-4FDA-9C81-FA24CA80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AD4B-4DD7-4B6E-9A98-1FD8B825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E2B2-C376-4982-8E8A-FB34BDD7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7408-BA82-43CC-A1CB-FD21FEE5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35B9-084D-41AF-A841-840FC20F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47790-3F38-48D2-B9A9-FD5AFFE3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A62DE-2367-4A2C-8A8E-8FF0624D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C3548-88A4-4877-B687-02DA284F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C4103-0C1F-423A-AF56-C7941E70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9E2CF-AC5B-4E9D-81CA-6CC4AF95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46B-5B19-4E6F-B78A-51C81DFA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14D48-3D4C-42EF-94DE-EF8FC983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6A704-19F5-4A2C-B67C-CE0884E6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408AE-28A2-4C51-BE77-A089D845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8B42B-88E1-456B-99D8-9D2CDD50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423C-E57C-446F-A6BC-0C028CE4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032BE-73AF-4021-8DB2-1C92E717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3E38C-7A13-48C6-B107-AF3E7960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FFAB5-EE1D-4AF2-B52C-D8685D10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8C16E-4700-44F1-B4B2-D7E7375E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ACADC-7254-4F2F-8BEE-45264D7D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265-78E8-48E6-87A1-CD9197BB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B65CD-E48D-4975-99A5-CF7B0E8B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CDCE9-5B9C-47AB-B4AC-AD174AF1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643F6-1DB0-4DB5-BEFA-8AEC6A7C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33F9E-9ABB-46D8-9C73-533817E4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049ED-6638-40CF-AC07-1C555F4E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C7E06-AFFB-45B1-B2ED-7392C8B1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5497C-9602-4E1D-A469-FFBEB6EC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22CEE-A22B-463E-93F7-079C7628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D8202-776A-46C5-A532-E3049C63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718D4-FCB7-4645-AC98-2FCA6980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FF4-B46C-4D68-8362-571A8E60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0A23B-785C-493A-902E-E0F3F171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AF515-33FF-4354-8DBB-891345EF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10136-F4C5-4DC1-A79D-8DCFA74C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5445A-7CBC-4944-866D-CC8C744D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E9731-6BDC-43C6-AEF3-7F500766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D1484-BC80-45AE-BFE0-6011DBF1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F2931-CC6C-4EFE-BADE-B8738212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3A037-FBAF-422F-A53F-49AC4563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0C30B-F498-4F18-AF1F-D1F8AEA2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A7DBF-13BD-4588-A6B1-925D58A9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1AA-E126-46D8-8CB7-BD1E69B2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3B21B-BEB5-460D-9764-8FAF4FE2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8EBDE-C2F5-474B-BADA-F798C799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69CE3-472F-4BEA-A0FC-C2096FF9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FF4D0-9FA6-4A02-9F72-D8FEADA0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FD241-A1E6-4359-BB2A-79FDBC9B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33EB3-55FC-470E-B89D-2761A465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4FCCF-F895-4615-A113-608ABE59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6554E-4E7E-4A1A-B93E-A53D9FF0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AC082-5537-4F49-8258-07580092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44A0B-D053-435D-9E71-1F91A726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D9A-595C-4BEC-B52A-8DA94196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A4216-5A6B-49A8-A8EB-8D7769C5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81E48-21CB-4762-A43E-089C8CE1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562A0-A447-4559-83E1-27694CCC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F2AD-66BD-497C-A6FE-77B4D2C7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166-141C-4A4C-9E12-57904280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60D1-5469-4A6A-9CA4-E91802813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200"/>
              <a:ext cx="889200" cy="720360"/>
              <a:chOff x="67680" y="3922200"/>
              <a:chExt cx="889200" cy="72036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440"/>
                <a:ext cx="22824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840" y="4311000"/>
                <a:ext cx="389160" cy="220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360" y="4155120"/>
                <a:ext cx="40572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600" cy="1004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48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8200" y="3854520"/>
                <a:ext cx="6480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760"/>
                <a:ext cx="1833840" cy="1663200"/>
                <a:chOff x="852120" y="4055760"/>
                <a:chExt cx="1833840" cy="166320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2160" y="3944880"/>
                  <a:ext cx="473760" cy="121536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8000" y="6174000"/>
              <a:ext cx="790200" cy="634680"/>
              <a:chOff x="468000" y="6174000"/>
              <a:chExt cx="79020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2680" y="6174360"/>
                <a:ext cx="19764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0680" y="6513840"/>
                <a:ext cx="337320" cy="21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640" y="6410880"/>
                <a:ext cx="35136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8800" y="1747080"/>
                <a:ext cx="20736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2640" y="2154240"/>
                <a:ext cx="35460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360" y="2205720"/>
                <a:ext cx="36936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840" cy="581400"/>
              <a:chOff x="1293840" y="0"/>
              <a:chExt cx="54684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88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3680" y="103320"/>
                <a:ext cx="297000" cy="182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3920" y="489240"/>
                <a:ext cx="30924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A928-2654-4E7B-A266-BD437640CAA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26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5"/>
            <p:cNvSpPr/>
            <p:nvPr/>
          </p:nvSpPr>
          <p:spPr>
            <a:xfrm>
              <a:off x="323640" y="0"/>
              <a:ext cx="106704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CAAC-92B7-4BF4-907F-7715559470B6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gradFill rotWithShape="0">
            <a:gsLst>
              <a:gs pos="0">
                <a:srgbClr val="a9a9a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0" y="5943600"/>
            <a:ext cx="9144000" cy="457200"/>
          </a:xfrm>
          <a:prstGeom prst="rect">
            <a:avLst/>
          </a:prstGeom>
          <a:gradFill rotWithShape="0">
            <a:gsLst>
              <a:gs pos="0">
                <a:srgbClr val="a9a9a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a9a9a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6095880"/>
            <a:ext cx="8305920" cy="304920"/>
          </a:xfrm>
          <a:prstGeom prst="rect">
            <a:avLst/>
          </a:prstGeom>
          <a:gradFill rotWithShape="0">
            <a:gsLst>
              <a:gs pos="0">
                <a:srgbClr val="72848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80880" y="6400800"/>
            <a:ext cx="8763120" cy="304920"/>
          </a:xfrm>
          <a:prstGeom prst="rect">
            <a:avLst/>
          </a:prstGeom>
          <a:gradFill rotWithShape="0">
            <a:gsLst>
              <a:gs pos="0">
                <a:srgbClr val="72848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09480" y="76320"/>
            <a:ext cx="8534520" cy="304560"/>
          </a:xfrm>
          <a:prstGeom prst="rect">
            <a:avLst/>
          </a:prstGeom>
          <a:gradFill rotWithShape="0">
            <a:gsLst>
              <a:gs pos="0">
                <a:srgbClr val="72848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aa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aa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543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8f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8543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8f8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8543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2EE9-B34C-4DE3-869D-39EF83440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219" name="Freeform 3"/>
            <p:cNvSpPr/>
            <p:nvPr/>
          </p:nvSpPr>
          <p:spPr>
            <a:xfrm>
              <a:off x="790200" y="0"/>
              <a:ext cx="629280" cy="62136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4"/>
            <p:cNvSpPr/>
            <p:nvPr/>
          </p:nvSpPr>
          <p:spPr>
            <a:xfrm>
              <a:off x="160920" y="8280"/>
              <a:ext cx="798840" cy="6213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5"/>
            <p:cNvSpPr/>
            <p:nvPr/>
          </p:nvSpPr>
          <p:spPr>
            <a:xfrm>
              <a:off x="0" y="774000"/>
              <a:ext cx="637560" cy="6296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>
              <a:off x="1656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1411560" y="24156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8"/>
            <p:cNvSpPr/>
            <p:nvPr/>
          </p:nvSpPr>
          <p:spPr>
            <a:xfrm>
              <a:off x="1411560" y="31392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7717320" y="0"/>
              <a:ext cx="635760" cy="62136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8175600" y="8280"/>
              <a:ext cx="798840" cy="6213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8505720" y="774000"/>
              <a:ext cx="637560" cy="6296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849924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790200" y="6236280"/>
              <a:ext cx="629280" cy="62136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16092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0" y="5453280"/>
              <a:ext cx="637560" cy="6296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1656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17"/>
            <p:cNvSpPr/>
            <p:nvPr/>
          </p:nvSpPr>
          <p:spPr>
            <a:xfrm>
              <a:off x="1411560" y="656712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18"/>
            <p:cNvSpPr/>
            <p:nvPr/>
          </p:nvSpPr>
          <p:spPr>
            <a:xfrm>
              <a:off x="1411560" y="649476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19"/>
            <p:cNvSpPr/>
            <p:nvPr/>
          </p:nvSpPr>
          <p:spPr>
            <a:xfrm>
              <a:off x="322200" y="1395360"/>
              <a:ext cx="48600" cy="40662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20"/>
            <p:cNvSpPr/>
            <p:nvPr/>
          </p:nvSpPr>
          <p:spPr>
            <a:xfrm>
              <a:off x="249840" y="1395360"/>
              <a:ext cx="48600" cy="40662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21"/>
            <p:cNvSpPr/>
            <p:nvPr/>
          </p:nvSpPr>
          <p:spPr>
            <a:xfrm>
              <a:off x="8773200" y="1395360"/>
              <a:ext cx="48600" cy="40662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22"/>
            <p:cNvSpPr/>
            <p:nvPr/>
          </p:nvSpPr>
          <p:spPr>
            <a:xfrm>
              <a:off x="8844840" y="1395360"/>
              <a:ext cx="48600" cy="40662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7717320" y="6236280"/>
              <a:ext cx="635760" cy="62136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24"/>
            <p:cNvSpPr/>
            <p:nvPr/>
          </p:nvSpPr>
          <p:spPr>
            <a:xfrm>
              <a:off x="817560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25"/>
            <p:cNvSpPr/>
            <p:nvPr/>
          </p:nvSpPr>
          <p:spPr>
            <a:xfrm>
              <a:off x="8505720" y="5453280"/>
              <a:ext cx="637560" cy="6296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26"/>
            <p:cNvSpPr/>
            <p:nvPr/>
          </p:nvSpPr>
          <p:spPr>
            <a:xfrm>
              <a:off x="849924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888d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3"/>
          </p:nvPr>
        </p:nvSpPr>
        <p:spPr>
          <a:xfrm>
            <a:off x="301320" y="616860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4"/>
          </p:nvPr>
        </p:nvSpPr>
        <p:spPr>
          <a:xfrm>
            <a:off x="3124080" y="61686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5"/>
          </p:nvPr>
        </p:nvSpPr>
        <p:spPr>
          <a:xfrm>
            <a:off x="6552720" y="616860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8B7C-6D82-4D61-B757-0BFAC3E75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3772-82B4-4E4F-87DD-A8238EBA8E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72,21,&#24187;&#28783;&#29255; 21" TargetMode="External"/><Relationship Id="rId3" Type="http://schemas.openxmlformats.org/officeDocument/2006/relationships/hyperlink" Target="278,22,&#24187;&#28783;&#29255; 22" TargetMode="External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30440" y="12193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将相和幻灯片完整版下载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80880" y="1523880"/>
            <a:ext cx="8534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⒈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这个故事主要讲了什么？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⒉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抓住人物的言行，分析人物的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格特点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⒊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讨论、汇报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⒋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情朗读，深入理解人物性格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点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WordArt 3"/>
          <p:cNvSpPr txBox="1"/>
          <p:nvPr/>
        </p:nvSpPr>
        <p:spPr>
          <a:xfrm>
            <a:off x="3048120" y="457200"/>
            <a:ext cx="3581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学习方法</a:t>
            </a:r>
            <a:endParaRPr b="1" lang="en-US" sz="36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3" descr="YW00044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4673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>
            <a:off x="1371600" y="6172200"/>
            <a:ext cx="990720" cy="577080"/>
          </a:xfrm>
          <a:prstGeom prst="rect">
            <a:avLst/>
          </a:prstGeom>
          <a:solidFill>
            <a:srgbClr val="e33a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99ff"/>
                </a:solidFill>
                <a:uFillTx/>
                <a:latin typeface="Arial"/>
                <a:hlinkClick r:id="rId2"/>
              </a:rPr>
              <a:t>廉颇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124080" y="6172200"/>
            <a:ext cx="1295640" cy="577080"/>
          </a:xfrm>
          <a:prstGeom prst="rect">
            <a:avLst/>
          </a:prstGeom>
          <a:solidFill>
            <a:srgbClr val="e33a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99ff"/>
                </a:solidFill>
                <a:uFillTx/>
                <a:latin typeface="Arial"/>
                <a:hlinkClick r:id="rId3"/>
              </a:rPr>
              <a:t>蔺相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5791320" y="6248520"/>
            <a:ext cx="533160" cy="380880"/>
          </a:xfrm>
          <a:custGeom>
            <a:avLst/>
            <a:gdLst>
              <a:gd name="textAreaLeft" fmla="*/ 23760 w 533160"/>
              <a:gd name="textAreaRight" fmla="*/ 509400 w 53316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78" y="1350"/>
                </a:lnTo>
                <a:lnTo>
                  <a:pt x="1350" y="135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78" y="20250"/>
                </a:lnTo>
                <a:lnTo>
                  <a:pt x="28878" y="135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78" y="2025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228" h="21600">
                <a:moveTo>
                  <a:pt x="15114" y="3800"/>
                </a:moveTo>
                <a:lnTo>
                  <a:pt x="17704" y="6425"/>
                </a:lnTo>
                <a:lnTo>
                  <a:pt x="17704" y="4675"/>
                </a:lnTo>
                <a:lnTo>
                  <a:pt x="19489" y="4675"/>
                </a:lnTo>
                <a:lnTo>
                  <a:pt x="19489" y="8210"/>
                </a:lnTo>
                <a:lnTo>
                  <a:pt x="22114" y="10800"/>
                </a:lnTo>
                <a:lnTo>
                  <a:pt x="20451" y="10800"/>
                </a:lnTo>
                <a:lnTo>
                  <a:pt x="20451" y="18028"/>
                </a:lnTo>
                <a:lnTo>
                  <a:pt x="9776" y="18028"/>
                </a:lnTo>
                <a:lnTo>
                  <a:pt x="9776" y="10800"/>
                </a:lnTo>
                <a:lnTo>
                  <a:pt x="8114" y="10800"/>
                </a:lnTo>
                <a:close/>
              </a:path>
              <a:path fill="darkenLess" w="30228" h="21600">
                <a:moveTo>
                  <a:pt x="17704" y="6425"/>
                </a:moveTo>
                <a:lnTo>
                  <a:pt x="17704" y="4675"/>
                </a:lnTo>
                <a:lnTo>
                  <a:pt x="19489" y="4675"/>
                </a:lnTo>
                <a:lnTo>
                  <a:pt x="19489" y="8210"/>
                </a:lnTo>
                <a:close/>
              </a:path>
              <a:path fill="darkenLess" w="30228" h="21600">
                <a:moveTo>
                  <a:pt x="14186" y="14318"/>
                </a:moveTo>
                <a:lnTo>
                  <a:pt x="16041" y="14318"/>
                </a:lnTo>
                <a:lnTo>
                  <a:pt x="16041" y="18028"/>
                </a:lnTo>
                <a:lnTo>
                  <a:pt x="20451" y="18028"/>
                </a:lnTo>
                <a:lnTo>
                  <a:pt x="20451" y="10800"/>
                </a:lnTo>
                <a:lnTo>
                  <a:pt x="9776" y="10800"/>
                </a:lnTo>
                <a:lnTo>
                  <a:pt x="9776" y="18028"/>
                </a:lnTo>
                <a:lnTo>
                  <a:pt x="14186" y="18028"/>
                </a:lnTo>
                <a:close/>
              </a:path>
            </a:pathLst>
          </a:custGeom>
          <a:solidFill>
            <a:srgbClr val="e33a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1600200" y="167544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99"/>
                </a:solidFill>
                <a:latin typeface="Arial"/>
              </a:rPr>
              <a:t>观察课文插图，想象人物当时的言行，说说廉颇负荆请罪的情景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5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5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577DD-577A-4FD2-B8C6-88374CBD30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3" descr="YW00044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24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52280" y="62485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2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8278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学了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将相和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这篇课文后，你喜欢文中哪个人物？为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723960" y="3733920"/>
            <a:ext cx="8420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WordArt 4"/>
          <p:cNvSpPr txBox="1"/>
          <p:nvPr/>
        </p:nvSpPr>
        <p:spPr>
          <a:xfrm>
            <a:off x="3352680" y="304920"/>
            <a:ext cx="28958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说一说</a:t>
            </a:r>
            <a:endParaRPr b="1" lang="en-US" sz="36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3"/>
          <p:cNvSpPr/>
          <p:nvPr/>
        </p:nvSpPr>
        <p:spPr>
          <a:xfrm>
            <a:off x="1219320" y="2362320"/>
            <a:ext cx="792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个故事之间有什么联系？将相和好的根本原因是什么？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WordArt 4"/>
          <p:cNvSpPr txBox="1"/>
          <p:nvPr/>
        </p:nvSpPr>
        <p:spPr>
          <a:xfrm>
            <a:off x="2971800" y="609480"/>
            <a:ext cx="3276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行楷"/>
              </a:rPr>
              <a:t>思考题</a:t>
            </a:r>
            <a:endParaRPr b="1" lang="en-US" sz="3600" spc="-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WordArt 2"/>
          <p:cNvSpPr txBox="1"/>
          <p:nvPr/>
        </p:nvSpPr>
        <p:spPr>
          <a:xfrm rot="438000">
            <a:off x="1294920" y="304920"/>
            <a:ext cx="2286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482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作    业</a:t>
            </a:r>
            <a:endParaRPr b="1" lang="en-US" sz="6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482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95440" y="1689120"/>
            <a:ext cx="259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拓  展  延  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1295280" y="3048120"/>
            <a:ext cx="711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d8543a"/>
                </a:solidFill>
                <a:latin typeface="Times New Roman"/>
                <a:ea typeface="黑体"/>
              </a:rPr>
              <a:t>通过一件事写写同学、朋友之间团结友爱的事，要写清前因后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4"/>
          <p:cNvSpPr/>
          <p:nvPr/>
        </p:nvSpPr>
        <p:spPr>
          <a:xfrm>
            <a:off x="295200" y="1066680"/>
            <a:ext cx="88488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廉颇很不服气，他对别人说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我廉颇攻无不克，战无不胜，立下许多大功。他蔺相如有什么能耐，就靠一张嘴，反而爬到我头上去了。我碰见他，得给他个下不了台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话传到了蔺相如耳朵里，蔺相如就请病假不上朝，免得跟廉颇见面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6"/>
          <p:cNvSpPr/>
          <p:nvPr/>
        </p:nvSpPr>
        <p:spPr>
          <a:xfrm>
            <a:off x="6629400" y="6095880"/>
            <a:ext cx="838080" cy="381240"/>
          </a:xfrm>
          <a:custGeom>
            <a:avLst/>
            <a:gdLst>
              <a:gd name="textAreaLeft" fmla="*/ 23760 w 838080"/>
              <a:gd name="textAreaRight" fmla="*/ 814320 w 838080"/>
              <a:gd name="textAreaTop" fmla="*/ 23760 h 381240"/>
              <a:gd name="textAreaBottom" fmla="*/ 357480 h 381240"/>
            </a:gdLst>
            <a:ahLst/>
            <a:rect l="textAreaLeft" t="textAreaTop" r="textAreaRight" b="textAreaBottom"/>
            <a:pathLst>
              <a:path w="47459" h="21600">
                <a:moveTo>
                  <a:pt x="0" y="0"/>
                </a:moveTo>
                <a:lnTo>
                  <a:pt x="47459" y="0"/>
                </a:lnTo>
                <a:lnTo>
                  <a:pt x="47459" y="21600"/>
                </a:lnTo>
                <a:lnTo>
                  <a:pt x="0" y="21600"/>
                </a:lnTo>
                <a:close/>
              </a:path>
              <a:path fill="lightenLess" w="47459" h="21600">
                <a:moveTo>
                  <a:pt x="0" y="0"/>
                </a:moveTo>
                <a:lnTo>
                  <a:pt x="47459" y="0"/>
                </a:lnTo>
                <a:lnTo>
                  <a:pt x="46109" y="1350"/>
                </a:lnTo>
                <a:lnTo>
                  <a:pt x="1350" y="1350"/>
                </a:lnTo>
                <a:close/>
              </a:path>
              <a:path fill="darken" w="47459" h="21600">
                <a:moveTo>
                  <a:pt x="47459" y="0"/>
                </a:moveTo>
                <a:lnTo>
                  <a:pt x="47459" y="21600"/>
                </a:lnTo>
                <a:lnTo>
                  <a:pt x="46109" y="20250"/>
                </a:lnTo>
                <a:lnTo>
                  <a:pt x="46109" y="1350"/>
                </a:lnTo>
                <a:close/>
              </a:path>
              <a:path fill="darkenLess" w="47459" h="21600">
                <a:moveTo>
                  <a:pt x="4745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6109" y="20250"/>
                </a:lnTo>
                <a:close/>
              </a:path>
              <a:path fill="lighten" w="4745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7459" h="21600">
                <a:moveTo>
                  <a:pt x="16686" y="7475"/>
                </a:moveTo>
                <a:lnTo>
                  <a:pt x="20212" y="7475"/>
                </a:lnTo>
                <a:lnTo>
                  <a:pt x="20212" y="12839"/>
                </a:lnTo>
                <a:cubicBezTo>
                  <a:pt x="20212" y="13766"/>
                  <a:pt x="21017" y="14501"/>
                  <a:pt x="22058" y="14501"/>
                </a:cubicBezTo>
                <a:lnTo>
                  <a:pt x="23729" y="14501"/>
                </a:lnTo>
                <a:cubicBezTo>
                  <a:pt x="24771" y="14501"/>
                  <a:pt x="25576" y="13766"/>
                  <a:pt x="25576" y="12839"/>
                </a:cubicBezTo>
                <a:lnTo>
                  <a:pt x="25576" y="7475"/>
                </a:lnTo>
                <a:lnTo>
                  <a:pt x="23729" y="7475"/>
                </a:lnTo>
                <a:lnTo>
                  <a:pt x="27256" y="3949"/>
                </a:lnTo>
                <a:lnTo>
                  <a:pt x="30948" y="7475"/>
                </a:lnTo>
                <a:lnTo>
                  <a:pt x="29102" y="7475"/>
                </a:lnTo>
                <a:lnTo>
                  <a:pt x="29102" y="12839"/>
                </a:lnTo>
                <a:cubicBezTo>
                  <a:pt x="29102" y="15621"/>
                  <a:pt x="26512" y="18194"/>
                  <a:pt x="23729" y="18194"/>
                </a:cubicBezTo>
                <a:lnTo>
                  <a:pt x="22058" y="18194"/>
                </a:lnTo>
                <a:cubicBezTo>
                  <a:pt x="19276" y="18194"/>
                  <a:pt x="16686" y="15621"/>
                  <a:pt x="16686" y="12839"/>
                </a:cubicBezTo>
                <a:close/>
              </a:path>
            </a:pathLst>
          </a:custGeom>
          <a:solidFill>
            <a:srgbClr val="e33a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2338200" y="555480"/>
            <a:ext cx="505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蔺相如的话传到了廉颇的耳朵里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廉颇静下心来想了想，觉得自己为了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争一口气，就不顾国家的利益，真不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应该。于是，他脱下战袍，背上荆条，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到蔺要相如门上请罪。蔺相如见廉颇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来负荆请罪，连忙热情地出来迎接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从此以后，他们俩成为了好朋友，同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心协力保卫赵国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7620120" y="5791320"/>
            <a:ext cx="609480" cy="533160"/>
          </a:xfrm>
          <a:custGeom>
            <a:avLst/>
            <a:gdLst>
              <a:gd name="textAreaLeft" fmla="*/ 33120 w 609480"/>
              <a:gd name="textAreaRight" fmla="*/ 576360 w 609480"/>
              <a:gd name="textAreaTop" fmla="*/ 33120 h 533160"/>
              <a:gd name="textAreaBottom" fmla="*/ 50004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340" y="1350"/>
                </a:lnTo>
                <a:lnTo>
                  <a:pt x="1350" y="135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340" y="20250"/>
                </a:lnTo>
                <a:lnTo>
                  <a:pt x="23340" y="135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340" y="2025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690" h="21600">
                <a:moveTo>
                  <a:pt x="12345" y="3800"/>
                </a:moveTo>
                <a:lnTo>
                  <a:pt x="14935" y="6425"/>
                </a:lnTo>
                <a:lnTo>
                  <a:pt x="14935" y="4675"/>
                </a:lnTo>
                <a:lnTo>
                  <a:pt x="16720" y="4675"/>
                </a:lnTo>
                <a:lnTo>
                  <a:pt x="16720" y="8210"/>
                </a:lnTo>
                <a:lnTo>
                  <a:pt x="19345" y="10800"/>
                </a:lnTo>
                <a:lnTo>
                  <a:pt x="17682" y="10800"/>
                </a:lnTo>
                <a:lnTo>
                  <a:pt x="17682" y="18028"/>
                </a:lnTo>
                <a:lnTo>
                  <a:pt x="7007" y="18028"/>
                </a:lnTo>
                <a:lnTo>
                  <a:pt x="7007" y="10800"/>
                </a:lnTo>
                <a:lnTo>
                  <a:pt x="5345" y="10800"/>
                </a:lnTo>
                <a:close/>
              </a:path>
              <a:path fill="darkenLess" w="24690" h="21600">
                <a:moveTo>
                  <a:pt x="14935" y="6425"/>
                </a:moveTo>
                <a:lnTo>
                  <a:pt x="14935" y="4675"/>
                </a:lnTo>
                <a:lnTo>
                  <a:pt x="16720" y="4675"/>
                </a:lnTo>
                <a:lnTo>
                  <a:pt x="16720" y="8210"/>
                </a:lnTo>
                <a:close/>
              </a:path>
              <a:path fill="darkenLess" w="24690" h="21600">
                <a:moveTo>
                  <a:pt x="11417" y="14318"/>
                </a:moveTo>
                <a:lnTo>
                  <a:pt x="13272" y="14318"/>
                </a:lnTo>
                <a:lnTo>
                  <a:pt x="13272" y="18028"/>
                </a:lnTo>
                <a:lnTo>
                  <a:pt x="17682" y="18028"/>
                </a:lnTo>
                <a:lnTo>
                  <a:pt x="17682" y="10800"/>
                </a:lnTo>
                <a:lnTo>
                  <a:pt x="7007" y="10800"/>
                </a:lnTo>
                <a:lnTo>
                  <a:pt x="7007" y="18028"/>
                </a:lnTo>
                <a:lnTo>
                  <a:pt x="11417" y="18028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6"/>
          <p:cNvSpPr/>
          <p:nvPr/>
        </p:nvSpPr>
        <p:spPr>
          <a:xfrm>
            <a:off x="3657600" y="3048120"/>
            <a:ext cx="51814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8"/>
          <p:cNvSpPr/>
          <p:nvPr/>
        </p:nvSpPr>
        <p:spPr>
          <a:xfrm>
            <a:off x="609480" y="3657600"/>
            <a:ext cx="47246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-305280" y="1905120"/>
            <a:ext cx="9448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蔺相如看秦王这样侮辱赵王，生气极了。他走到秦王面前，说：“请您为赵王击缶。”秦王拒绝了。蔺相如再要求，秦王还是拒绝。蔺相如说：“您跟我现在只有五步远。您不答应，我就跟您拼了！”秦王被逼得没法，只好敲了一下缶。蔺相如也叫人记录下来，说在渑池会上，秦王为赵王击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304920" y="441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0" y="228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赵王到了渑池，会见了秦王。秦王要赵王鼓瑟。赵王不好推辞，鼓了一段。秦王就叫人记录下来，说在渑池会上，赵王为秦王鼓瑟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0" y="5257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秦王没占到便宜。他知道廉颇已经在边境上做好了准备，不敢拿赵王怎么样，只好让赵王回去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685800" y="175248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3a05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e33a05"/>
                </a:solidFill>
                <a:latin typeface="Arial"/>
              </a:rPr>
              <a:t>秦王不敢进攻我们赵国，就因为武有廉颇，文有蔺相如。”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你认为这句话说得对吗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请联系上下文说说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7391520" y="5943600"/>
            <a:ext cx="533160" cy="380880"/>
          </a:xfrm>
          <a:custGeom>
            <a:avLst/>
            <a:gdLst>
              <a:gd name="textAreaLeft" fmla="*/ 23760 w 533160"/>
              <a:gd name="textAreaRight" fmla="*/ 509400 w 53316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78" y="1350"/>
                </a:lnTo>
                <a:lnTo>
                  <a:pt x="1350" y="135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78" y="20250"/>
                </a:lnTo>
                <a:lnTo>
                  <a:pt x="28878" y="135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78" y="2025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228" h="21600">
                <a:moveTo>
                  <a:pt x="8070" y="10800"/>
                </a:moveTo>
                <a:lnTo>
                  <a:pt x="22158" y="3756"/>
                </a:lnTo>
                <a:lnTo>
                  <a:pt x="22158" y="17844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380880" y="304920"/>
            <a:ext cx="8763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有一天，蔺相如坐车出去，远远看见廉颇骑着高头大马过来了，他赶紧叫车夫把车往回赶。蔺相如手下的人可看不顺眼了。他们说，蔺相如怕廉颇像老鼠见了猫似的，为什么要怕他呢！蔺相如对他们说：“诸位请想一想，廉将军和秦王比，谁厉害？”他们说：“当然秦王厉害。”蔺相如说：“秦王我都不怕，会怕廉将军吗？大家知道，秦王不敢进攻我们赵国，就因为武有廉颇，文有蔺相如。如果我们俩闹不和，就会削弱赵国的力量，秦国必然乘机来打我们。我所以避着廉将军，为的是我们赵国啊！”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6324480" y="3962520"/>
            <a:ext cx="213372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6"/>
          <p:cNvSpPr/>
          <p:nvPr/>
        </p:nvSpPr>
        <p:spPr>
          <a:xfrm>
            <a:off x="609480" y="4495680"/>
            <a:ext cx="807732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7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609480" y="5562720"/>
            <a:ext cx="79250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457200" y="6095880"/>
            <a:ext cx="81532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10"/>
          <p:cNvSpPr/>
          <p:nvPr/>
        </p:nvSpPr>
        <p:spPr>
          <a:xfrm>
            <a:off x="609480" y="6553080"/>
            <a:ext cx="47246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11"/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6837" y="3756"/>
                </a:moveTo>
                <a:lnTo>
                  <a:pt x="20924" y="10800"/>
                </a:lnTo>
                <a:lnTo>
                  <a:pt x="6837" y="17844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762120" y="274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0" y="673200"/>
            <a:ext cx="8915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9880" indent="-11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读自悟：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认为蔺相如是个怎样的人？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是从哪些语句体会到的？你可  以从课文中找出你认为含义深刻的句子，向同学说说你的理解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Line 5"/>
          <p:cNvSpPr/>
          <p:nvPr/>
        </p:nvSpPr>
        <p:spPr>
          <a:xfrm>
            <a:off x="4317840" y="6861240"/>
            <a:ext cx="57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304920" y="501480"/>
            <a:ext cx="883908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蔺相如看秦王这样侮辱赵王，生气极了。他走到秦王面前，说：“请您为赵王击缶。”秦王拒绝了。蔺相如再要求，秦王还是拒绝。蔺相如说：“您跟我现在只有五步远。您不答应，我就跟您拼了！”秦王被逼得没法，只好敲了一下缶。蔺相如也叫人记录下来，说在渑池会上，秦王为赵王击缶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304920" y="501480"/>
            <a:ext cx="883908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蔺相如看秦王这样侮辱赵王，生气极了。他走到秦王面前，说：“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请您为赵王击缶。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”秦王拒绝了。蔺相如再要求，秦王还是拒绝。蔺相如说：“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您跟我现在只有五步远。您不答应，我就跟您拼了！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”秦王被逼得没法，只好敲了一下缶。蔺相如也叫人记录下来，说在渑池会上，秦王为赵王击缶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304920" y="501480"/>
            <a:ext cx="883908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蔺相如看秦王这样侮辱赵王，生气极了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他走到秦王面前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，说：“请您为赵王击缶。”秦王拒绝了。蔺相如再要求，秦王还是拒绝。蔺相如说：“您跟我现在只有五步远。您不答应，我就跟您拼了！”秦王被逼得没法，只好敲了一下缶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蔺相如也叫人记录下来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，说在渑池会上，秦王为赵王击缶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矩形 6"/>
          <p:cNvSpPr/>
          <p:nvPr/>
        </p:nvSpPr>
        <p:spPr>
          <a:xfrm>
            <a:off x="1600200" y="18288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Object 4" descr="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34020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5"/>
          <p:cNvSpPr/>
          <p:nvPr/>
        </p:nvSpPr>
        <p:spPr>
          <a:xfrm>
            <a:off x="3581280" y="5334120"/>
            <a:ext cx="350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瑟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import52548_3"/>
          <p:cNvPicPr/>
          <p:nvPr/>
        </p:nvPicPr>
        <p:blipFill>
          <a:blip r:embed="rId1"/>
          <a:stretch/>
        </p:blipFill>
        <p:spPr>
          <a:xfrm>
            <a:off x="380880" y="533520"/>
            <a:ext cx="6324840" cy="53845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6"/>
          <p:cNvSpPr/>
          <p:nvPr/>
        </p:nvSpPr>
        <p:spPr>
          <a:xfrm>
            <a:off x="7638480" y="18921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缶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8" descr="1"/>
          <p:cNvPicPr/>
          <p:nvPr/>
        </p:nvPicPr>
        <p:blipFill>
          <a:blip r:embed="rId1"/>
          <a:stretch/>
        </p:blipFill>
        <p:spPr>
          <a:xfrm>
            <a:off x="380880" y="320760"/>
            <a:ext cx="8382240" cy="6216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51" name="Text Box 2"/>
          <p:cNvSpPr/>
          <p:nvPr/>
        </p:nvSpPr>
        <p:spPr>
          <a:xfrm>
            <a:off x="990720" y="12193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你认为蔺相如是个怎样的人？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762120" y="2895480"/>
            <a:ext cx="82296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蔺相如是个</a:t>
            </a:r>
            <a:r>
              <a:rPr b="1" lang="zh-CN" sz="4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　</a:t>
            </a:r>
            <a:r>
              <a:rPr b="1" lang="zh-CN" sz="4800" spc="-1" strike="noStrike">
                <a:solidFill>
                  <a:srgbClr val="006699"/>
                </a:solidFill>
                <a:latin typeface="Times New Roman"/>
                <a:ea typeface="华文行楷"/>
              </a:rPr>
              <a:t>　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　　　　　　　　　　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                   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4"/>
          <p:cNvSpPr/>
          <p:nvPr/>
        </p:nvSpPr>
        <p:spPr>
          <a:xfrm>
            <a:off x="4114800" y="3581280"/>
            <a:ext cx="3962520" cy="0"/>
          </a:xfrm>
          <a:prstGeom prst="line">
            <a:avLst/>
          </a:prstGeom>
          <a:ln cap="sq"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762120" y="274320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       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7"/>
          <p:cNvSpPr/>
          <p:nvPr/>
        </p:nvSpPr>
        <p:spPr>
          <a:xfrm>
            <a:off x="914400" y="4267080"/>
            <a:ext cx="723888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1594440" y="42022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的人。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09:35:14Z</dcterms:created>
  <dc:creator/>
  <dc:description/>
  <cp:keywords>幻灯片之家 http:/www.eeppt.com</cp:keywords>
  <dc:language>en-US</dc:language>
  <cp:lastModifiedBy/>
  <dcterms:modified xsi:type="dcterms:W3CDTF">2015-07-20T06:38:57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