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4DE-020B-4BE2-A77D-89E6D9C1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B72-960C-481E-AD7A-B60D7ABA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B93-F79B-4053-8923-6D47BD8B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010-4AF8-4074-9491-7F96BEF9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BF2-C5C4-4A50-9694-E2528AE6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D59-21B5-4985-83A8-DA7C8178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A0B-83A1-41E4-AF92-185D5CA0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A52-4316-480E-8157-7DB2B50A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ECC-33D3-4CC8-B81B-2EF86301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5C4-C1E8-4F67-85DC-55101A1C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4A6-5173-4E0B-8EFD-BDB66C2C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5C5-6393-4ABB-AAE5-48BC126A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B438-7DCF-43A1-8539-16A15B93D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1" descr=""/>
          <p:cNvPicPr/>
          <p:nvPr/>
        </p:nvPicPr>
        <p:blipFill>
          <a:blip r:embed="rId2"/>
          <a:stretch/>
        </p:blipFill>
        <p:spPr>
          <a:xfrm>
            <a:off x="0" y="1052640"/>
            <a:ext cx="9175680" cy="470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将相和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50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826920" y="836640"/>
            <a:ext cx="413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完璧归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1341360"/>
            <a:ext cx="784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完壁归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_____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结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416120" y="2421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依仗强势，要骗取和氏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323520" y="371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和氏璧完好无损地被送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84360" y="49417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到赵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"/>
                            </p:stCondLst>
                            <p:childTnLst>
                              <p:par>
                                <p:cTn id="3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826920" y="1652760"/>
            <a:ext cx="78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他理直气壮地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我看您并不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交付十五个城，所以把和氏璧拿了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来。您要是强逼我，我的脑袋和璧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一块儿撞碎在这柱子上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058640" y="977760"/>
            <a:ext cx="9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从下面的话可以看出蔺相如是怎样一个人？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74940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勇敢机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50600" y="566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19280" y="16351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理直气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"/>
                            </p:stCondLst>
                            <p:childTnLst>
                              <p:par>
                                <p:cTn id="3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1"/>
                            </p:stCondLst>
                            <p:childTnLst>
                              <p:par>
                                <p:cTn id="3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684360" y="98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到了举行典礼那一天，蔺相如进宫见了秦王，大大方方地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和氏璧已经送回赵国去了。您如果有诚意的话，先把十五个城叫给我国，我国马上把和氏璧送来，决不失信。不然，您杀了我也没用，天下的人都知道秦国是从来不讲信用的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秦王没有办法，只得客客气气地送蔺相如回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917000" y="562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373200" y="562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不畏强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348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大大方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"/>
                            </p:stCondLst>
                            <p:childTnLst>
                              <p:par>
                                <p:cTn id="3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"/>
                            </p:stCondLst>
                            <p:childTnLst>
                              <p:par>
                                <p:cTn id="3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68360" y="836640"/>
            <a:ext cx="32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Narrow"/>
                <a:ea typeface="黑体"/>
              </a:rPr>
              <a:t>课堂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00000" y="1700280"/>
            <a:ext cx="72741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蔺相如之所以说这块璧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儿小毛病，骗回和氏璧，是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67040" y="350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看出秦王的骗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57080" y="4475160"/>
            <a:ext cx="777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用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所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联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璧归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个故事说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200622515502158262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4356000" y="765000"/>
            <a:ext cx="38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渑池之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9640" y="1916280"/>
            <a:ext cx="83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渑池之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， 后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187280" y="3068640"/>
            <a:ext cx="71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约赵王在渑池相会，想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703840" y="422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吃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39640" y="4221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赵国便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68360" y="220500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可以看出蔺相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一个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95880" y="33577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勇敢、随机应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900000" y="148428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上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赵两国是打了平手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还是分出了胜负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YW00044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10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539640" y="83664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负荆请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826560" y="2131560"/>
            <a:ext cx="7417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认识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生字，会写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了解课文内容，领悟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故事之间的内在联系。感受人物形象，体会人物的爱国思想和他们各自的美好品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900000" y="126828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60020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11280" y="1773360"/>
            <a:ext cx="770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负荆请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__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，结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366280" y="2924280"/>
            <a:ext cx="47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廉颇看到蔺相如职位比自己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076720" y="407664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负荆请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39640" y="414972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很不服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"/>
                            </p:stCondLst>
                            <p:childTnLst>
                              <p:par>
                                <p:cTn id="4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39640" y="836640"/>
            <a:ext cx="784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蔺相如对廉颇的傲慢无礼是怎么做的？他为什么要这样做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34680" y="357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9640" y="357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    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先是对廉颇避让。他避让廉颇并非害怕他，而是为了国家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74312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26920" y="213372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Verdana"/>
              </a:rPr>
              <a:t>负荆请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可以看出蔺相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一个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855440" y="4508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识大体，胸怀宽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84360" y="328464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以国家利益为重，顾大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"/>
                            </p:stCondLst>
                            <p:childTnLst>
                              <p:par>
                                <p:cTn id="5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"/>
                            </p:stCondLst>
                            <p:childTnLst>
                              <p:par>
                                <p:cTn id="5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923480" y="1268280"/>
            <a:ext cx="514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廉颇为什么向蔺相如负荆请罪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2384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11280" y="328464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负荆请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可以看出廉颇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一个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635560" y="4437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勇于改过，以国利益为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8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E5B-C160-42B5-AF06-0D142918BF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923840" y="1125360"/>
            <a:ext cx="525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完璧归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渑池之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负荆请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之间有什么联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85220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00000" y="350028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三个故事各有情节，但又紧密联系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完璧归赵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 的发展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完璧归赵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的结果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负荆请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 的起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900000" y="1125360"/>
            <a:ext cx="7705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从这几个小故事中可以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出蔺相如是一个怎样的人？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颇呢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826920" y="1557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蔺相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对事件能深思熟虑，随机应变，对秦王不顾生死，敢于斗争，对廉颇能顾全大局，忍辱退让，一切以国家利益为重。因为他为维护赵国利益一再立下功劳，先后被封为上大夫，上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6920" y="1341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廉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能服从赵王的调遣带兵奔赴边界作好抵御秦兵的准备，使秦王不敢轻举妄动，虽然计较个人得失和蔺相如闹不团结，但知错就改，并负荆上蔺相如府上请罪，性格坦率。此后能和蔺相如一起同心协力保卫赵国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09320" y="1341360"/>
            <a:ext cx="426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复述“负荆请罪”这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故事给家长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04720" y="2133720"/>
            <a:ext cx="4462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璧               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怯               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缶               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卿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835280" y="328464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i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836720" y="2133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771640" y="206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和氏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219640" y="21337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uò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443640" y="2133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许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130560" y="3284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胆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82692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835280" y="443700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ǒ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435640" y="443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408720" y="44337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拒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5364000" y="3284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443640" y="3284640"/>
            <a:ext cx="18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鼓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095640" y="4365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击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92360" y="5445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ī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3095640" y="54421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上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611280" y="206064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　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司马迁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4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或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西汉史学家，文学家。字子长，夏阳（今陕西韩城西南）人。生于汉景帝中元五年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4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，一说生于汉武帝建元六年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，卒年不可考。元封三年（公元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0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年）司马迁继承其父司马谈之职，任太史令，掌管天文历法及皇家图籍，因而得尽读史官所藏图书。因替投降匈奴的李陵辩护，获罪下狱，受腐刑。出狱后任中书令，继续发愤著书，终于完成了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的撰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0" y="981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相关链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627280" y="134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司马迁与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史记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"/>
                            </p:stCondLst>
                            <p:childTnLst>
                              <p:par>
                                <p:cTn id="6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539640" y="130320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最初没有固定书名，或称“太史公书”，或称“太史公记”，也省称“太史公”。“史记”本来是古代史书的通称，从三国开始，“史记”由通称逐渐成为“太史公书”的专名。全书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0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篇，包括十二本纪、八书、十表、三十世家、七十列传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个部分，共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万字。记载了从黄帝到汉武帝太初年间长达三千年的政治、经济和文化的历史，比较全面而深刻地反映了我国古代的社会面貌，对后世史学研究有深远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既是历史的“实录”，同时具有相当高的文学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395280" y="1413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国历史上的一个时期（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75—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2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。当时，比较强的国家有七个，即秦、楚、齐、赵、燕、魏、韩，称为“战国七雄”。七雄并峙，战火频繁。秦国是最强的一个。秦国地处函谷关以西，其余六国在函谷关以东。赵国的东面是富强的齐国，西面是强大的秦国。赵国处在两大强国之间。“完璧归赵”的故事发生在秦国全力进攻楚国的时候。秦国不能集中更多兵力对付赵国，主要是用威胁的手段占赵国的便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708360" y="855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战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6381720"/>
            <a:ext cx="33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"/>
                            </p:stCondLst>
                            <p:childTnLst>
                              <p:par>
                                <p:cTn id="6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042920" y="184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官职，分别分为上、中、下三等，上大夫是最高一级的大夫。上卿是诸侯下面最高的官职。廉颇在赵惠文王十六年（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8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年）的时候，因伐齐有功，已经被提升为上卿。蔺相如也做上卿，但由于是文官，上朝集会时，位置在廉颇的右边。秦汉以前以右为尊，所以课文中说蔺相如的职位比廉颇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132000" y="10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大夫、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"/>
                            </p:stCondLst>
                            <p:childTnLst>
                              <p:par>
                                <p:cTn id="6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324000" y="144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和氏璧是一块宝玉的名称，有一段不平凡的来历。相传在春秋时期的楚国，有个叫卞和的人，在楚山中拾到一块玉璞（即未经过加工的美玉），把它奉献给了楚厉王。厉王就叫辨别玉的专家来鉴定，鉴定的结果说是石头。厉王大怒，认为卞和在欺骗戏弄自己，就以欺君之罪名，砍掉了卞和的左脚。不久，厉王死了，武王即位，卞和又把这块玉璞奉献给武王。武王也叫辨别玉的专家来鉴定，结果同样说是石头，武王又以欺君之罪砍掉卞和的右脚。武王死后，文王即位。卞和抱着玉璞到楚山下大哭，一直哭了三天三夜。眼泪哭干了，最后哭出了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276720" y="9050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和氏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"/>
                            </p:stCondLst>
                            <p:childTnLst>
                              <p:par>
                                <p:cTn id="6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1233360"/>
            <a:ext cx="799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文王听说后，就派人问他，说：“天下被砍掉脚的人很多，都没有这样痛哭，你为什么哭得这样悲伤呢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?”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卞和回答说：“我不是为我的脚被砍掉而悲伤、痛哭，我所悲伤的是有人竟把宝玉说成是石头，给忠贞的人扣上欺骗的罪名。”文王于是就派人对这块玉璞进行加工，果然是一块罕见的宝玉。于是就把这块宝玉命名为“和氏璧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由于这块宝玉的珍奇，加之来历的不平凡，因此，便成了世间所公认的至宝，价值连城。这也是秦王不惜以十五座城为诱饵来骗取“和氏璧”的原因所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3276720" y="2133720"/>
            <a:ext cx="1224000" cy="1224000"/>
            <a:chOff x="3276720" y="2133720"/>
            <a:chExt cx="1224000" cy="1224000"/>
          </a:xfrm>
        </p:grpSpPr>
        <p:sp>
          <p:nvSpPr>
            <p:cNvPr id="62" name="Rectangle 4"/>
            <p:cNvSpPr/>
            <p:nvPr/>
          </p:nvSpPr>
          <p:spPr>
            <a:xfrm>
              <a:off x="32767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H="1">
              <a:off x="32767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6"/>
            <p:cNvSpPr/>
            <p:nvPr/>
          </p:nvSpPr>
          <p:spPr>
            <a:xfrm>
              <a:off x="388908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7"/>
          <p:cNvGrpSpPr/>
          <p:nvPr/>
        </p:nvGrpSpPr>
        <p:grpSpPr>
          <a:xfrm>
            <a:off x="4500360" y="2133720"/>
            <a:ext cx="1224000" cy="1224000"/>
            <a:chOff x="4500360" y="2133720"/>
            <a:chExt cx="1224000" cy="1224000"/>
          </a:xfrm>
        </p:grpSpPr>
        <p:sp>
          <p:nvSpPr>
            <p:cNvPr id="66" name="Rectangle 8"/>
            <p:cNvSpPr/>
            <p:nvPr/>
          </p:nvSpPr>
          <p:spPr>
            <a:xfrm>
              <a:off x="4500720" y="213372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H="1">
              <a:off x="4500360" y="274572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5112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5724360" y="2133720"/>
            <a:ext cx="1224000" cy="1224000"/>
            <a:chOff x="5724360" y="2133720"/>
            <a:chExt cx="1224000" cy="1224000"/>
          </a:xfrm>
        </p:grpSpPr>
        <p:sp>
          <p:nvSpPr>
            <p:cNvPr id="70" name="Rectangle 12"/>
            <p:cNvSpPr/>
            <p:nvPr/>
          </p:nvSpPr>
          <p:spPr>
            <a:xfrm>
              <a:off x="572436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 flipH="1">
              <a:off x="572436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>
              <a:off x="6336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5"/>
          <p:cNvGrpSpPr/>
          <p:nvPr/>
        </p:nvGrpSpPr>
        <p:grpSpPr>
          <a:xfrm>
            <a:off x="2050920" y="2133720"/>
            <a:ext cx="1224000" cy="1224000"/>
            <a:chOff x="2050920" y="2133720"/>
            <a:chExt cx="1224000" cy="1224000"/>
          </a:xfrm>
        </p:grpSpPr>
        <p:sp>
          <p:nvSpPr>
            <p:cNvPr id="74" name="Rectangle 16"/>
            <p:cNvSpPr/>
            <p:nvPr/>
          </p:nvSpPr>
          <p:spPr>
            <a:xfrm>
              <a:off x="20509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 flipH="1">
              <a:off x="20509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66328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9"/>
          <p:cNvSpPr/>
          <p:nvPr/>
        </p:nvSpPr>
        <p:spPr>
          <a:xfrm>
            <a:off x="2050920" y="2168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赵璧召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1"/>
          <p:cNvGrpSpPr/>
          <p:nvPr/>
        </p:nvGrpSpPr>
        <p:grpSpPr>
          <a:xfrm>
            <a:off x="2700360" y="3860640"/>
            <a:ext cx="1224000" cy="1224000"/>
            <a:chOff x="2700360" y="3860640"/>
            <a:chExt cx="1224000" cy="1224000"/>
          </a:xfrm>
        </p:grpSpPr>
        <p:sp>
          <p:nvSpPr>
            <p:cNvPr id="79" name="Rectangle 42"/>
            <p:cNvSpPr/>
            <p:nvPr/>
          </p:nvSpPr>
          <p:spPr>
            <a:xfrm>
              <a:off x="2700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43"/>
            <p:cNvSpPr/>
            <p:nvPr/>
          </p:nvSpPr>
          <p:spPr>
            <a:xfrm flipH="1">
              <a:off x="2700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44"/>
            <p:cNvSpPr/>
            <p:nvPr/>
          </p:nvSpPr>
          <p:spPr>
            <a:xfrm>
              <a:off x="3312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5"/>
          <p:cNvGrpSpPr/>
          <p:nvPr/>
        </p:nvGrpSpPr>
        <p:grpSpPr>
          <a:xfrm>
            <a:off x="1474920" y="3860640"/>
            <a:ext cx="1224000" cy="1224000"/>
            <a:chOff x="1474920" y="3860640"/>
            <a:chExt cx="1224000" cy="1224000"/>
          </a:xfrm>
        </p:grpSpPr>
        <p:sp>
          <p:nvSpPr>
            <p:cNvPr id="83" name="Rectangle 46"/>
            <p:cNvSpPr/>
            <p:nvPr/>
          </p:nvSpPr>
          <p:spPr>
            <a:xfrm>
              <a:off x="147492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7"/>
            <p:cNvSpPr/>
            <p:nvPr/>
          </p:nvSpPr>
          <p:spPr>
            <a:xfrm flipH="1">
              <a:off x="147492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8"/>
            <p:cNvSpPr/>
            <p:nvPr/>
          </p:nvSpPr>
          <p:spPr>
            <a:xfrm>
              <a:off x="208728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9"/>
          <p:cNvGrpSpPr/>
          <p:nvPr/>
        </p:nvGrpSpPr>
        <p:grpSpPr>
          <a:xfrm>
            <a:off x="5148360" y="3860640"/>
            <a:ext cx="1224000" cy="1224000"/>
            <a:chOff x="5148360" y="3860640"/>
            <a:chExt cx="1224000" cy="1224000"/>
          </a:xfrm>
        </p:grpSpPr>
        <p:sp>
          <p:nvSpPr>
            <p:cNvPr id="87" name="Rectangle 50"/>
            <p:cNvSpPr/>
            <p:nvPr/>
          </p:nvSpPr>
          <p:spPr>
            <a:xfrm>
              <a:off x="5148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1"/>
            <p:cNvSpPr/>
            <p:nvPr/>
          </p:nvSpPr>
          <p:spPr>
            <a:xfrm flipH="1">
              <a:off x="5148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2"/>
            <p:cNvSpPr/>
            <p:nvPr/>
          </p:nvSpPr>
          <p:spPr>
            <a:xfrm>
              <a:off x="5760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53"/>
          <p:cNvGrpSpPr/>
          <p:nvPr/>
        </p:nvGrpSpPr>
        <p:grpSpPr>
          <a:xfrm>
            <a:off x="3924360" y="3860640"/>
            <a:ext cx="1224000" cy="1224000"/>
            <a:chOff x="3924360" y="3860640"/>
            <a:chExt cx="1224000" cy="1224000"/>
          </a:xfrm>
        </p:grpSpPr>
        <p:sp>
          <p:nvSpPr>
            <p:cNvPr id="91" name="Rectangle 54"/>
            <p:cNvSpPr/>
            <p:nvPr/>
          </p:nvSpPr>
          <p:spPr>
            <a:xfrm>
              <a:off x="3924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5"/>
            <p:cNvSpPr/>
            <p:nvPr/>
          </p:nvSpPr>
          <p:spPr>
            <a:xfrm flipH="1">
              <a:off x="3924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6"/>
            <p:cNvSpPr/>
            <p:nvPr/>
          </p:nvSpPr>
          <p:spPr>
            <a:xfrm>
              <a:off x="4536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57"/>
          <p:cNvGrpSpPr/>
          <p:nvPr/>
        </p:nvGrpSpPr>
        <p:grpSpPr>
          <a:xfrm>
            <a:off x="6372360" y="3860640"/>
            <a:ext cx="1224000" cy="1224000"/>
            <a:chOff x="6372360" y="3860640"/>
            <a:chExt cx="1224000" cy="1224000"/>
          </a:xfrm>
        </p:grpSpPr>
        <p:sp>
          <p:nvSpPr>
            <p:cNvPr id="95" name="Rectangle 58"/>
            <p:cNvSpPr/>
            <p:nvPr/>
          </p:nvSpPr>
          <p:spPr>
            <a:xfrm>
              <a:off x="6372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H="1">
              <a:off x="6372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>
              <a:off x="6984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61"/>
          <p:cNvSpPr/>
          <p:nvPr/>
        </p:nvSpPr>
        <p:spPr>
          <a:xfrm>
            <a:off x="1546200" y="3860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怯瑟拒诸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95280" y="1268280"/>
            <a:ext cx="26640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价之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绝口不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无不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战无不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心协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渑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340000" y="1197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形容物品特别珍贵，用多少钱也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268360" y="23446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因回避而不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268360" y="29941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攻城夺地，没有拿不下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195640" y="357336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形容强大无比。每战必胜。攻无不克、战无不胜这两个成语多指善于打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2195640" y="508464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协，合。团结一致，共同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476360" y="573408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地名，在今河南渑池县境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468360" y="1125360"/>
            <a:ext cx="3600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璧归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负荆请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332000" y="1197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璧，古代玉器的一种，平圆形，中间有孔。本课的和氏璧，指的是用楚国人卞和发现的一块玉制成的璧。“完璧归赵”指把和氏璧完好无损地送回赵国。这个成语现在常用来比喻把东西完好无损地归还原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116000" y="4292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负，背着。荆，荆条，用来打人的东西。本课指廉颇光着上身，背着荆条，到蔺相如家请罪。这个成语现用来表示向人认错赔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900000" y="2060640"/>
            <a:ext cx="7559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速读课文，讨论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书上画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指谁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②本文主要讲了一个什么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0"/>
          <p:cNvSpPr/>
          <p:nvPr/>
        </p:nvSpPr>
        <p:spPr>
          <a:xfrm>
            <a:off x="3348000" y="1549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292720" y="981000"/>
            <a:ext cx="385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意思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字可以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想出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797080" y="3716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同心协力，保卫赵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jiangxianghesc"/>
          <p:cNvPicPr/>
          <p:nvPr/>
        </p:nvPicPr>
        <p:blipFill>
          <a:blip r:embed="rId2"/>
          <a:stretch/>
        </p:blipFill>
        <p:spPr>
          <a:xfrm>
            <a:off x="179280" y="1052640"/>
            <a:ext cx="4824360" cy="5184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6732720" y="907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廉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659640" y="1995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蔺相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1125360"/>
            <a:ext cx="734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文主要讲了廉颇和蔺相如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不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故事。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故事发生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讲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94480" y="32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战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828720" y="43718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完璧归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419640" y="437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渑池之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236280" y="4363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负荆请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2" name="chimes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>幻灯片之家 http:/www.eeppt.com</cp:keywords>
  <dc:language>en-US</dc:language>
  <cp:lastModifiedBy/>
  <dcterms:modified xsi:type="dcterms:W3CDTF">2015-07-20T06:38:58Z</dcterms:modified>
  <cp:revision>109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