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004-B46B-493F-B2F2-B2FD6ECF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2C9-001E-4393-9A28-6FED13C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A9D-A5A6-40FE-A9FF-7B8B4FF4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DBE-4482-4B04-AD64-5B23D5B5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7E5-6AEE-4FA2-A3A8-3126514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D4E-9AFD-4A2C-86A8-8B68F01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842-CEF9-4203-850F-9F3A9966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542-E0FB-4149-9222-0D72D1F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9A4-F1B3-461F-903F-79AE6EE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3AD-93D8-4BD7-A128-AA2AA7B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043-9C3C-491E-87B8-F7A567C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825-DA11-4C52-8D1B-5BBA266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13D-643D-45D9-BD17-9C1A67C812E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Line 23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6480" y="12700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99"/>
                </a:solidFill>
                <a:latin typeface="楷体"/>
                <a:ea typeface="楷体"/>
              </a:rPr>
              <a:t>建筑类</a:t>
            </a:r>
            <a:r>
              <a:rPr b="0" lang="en-US" sz="4000" spc="-1" strike="noStrike">
                <a:solidFill>
                  <a:srgbClr val="666699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666699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1" lang="en-US" sz="14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C06-E396-4B3A-A2ED-A905EDC6A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9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