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635-EEE1-4771-BA22-D02D2AC1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94B8-CE1E-4FE5-AB69-F2A43C3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695-7424-4D93-BE52-83BE56EB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D27C-BD48-43B4-ADC1-983C69A7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0" y="13140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70C1-99E5-458A-AA19-9303408B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484-DD16-444D-BCAD-799C7319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F70-12C8-45C9-ABED-20F79328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CD30-AF5C-47E4-AA77-B743CD99A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0" y="131400"/>
            <a:ext cx="4114800" cy="30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883A-7F35-46EA-AAB0-60D206C8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5CD0-71F6-4A4D-B403-A6A6A4F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FAC7-36A2-47BB-A4A2-514F692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B0B3-70A2-4CD5-9D7D-23A63633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安全内容"/>
          <p:cNvPicPr/>
          <p:nvPr/>
        </p:nvPicPr>
        <p:blipFill>
          <a:blip r:embed="rId2"/>
          <a:stretch/>
        </p:blipFill>
        <p:spPr>
          <a:xfrm>
            <a:off x="0" y="0"/>
            <a:ext cx="9144000" cy="878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-18030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67FD-BF59-40F5-BA72-A4D755717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-1803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441360" y="29700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公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及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950000" y="131400"/>
            <a:ext cx="41148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678400" y="4113360"/>
            <a:ext cx="375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a015"/>
                </a:solidFill>
                <a:latin typeface="Arial"/>
              </a:rPr>
              <a:t>警钟</a:t>
            </a:r>
            <a:r>
              <a:rPr b="0" lang="zh-CN" sz="4000" spc="-1" strike="noStrike">
                <a:solidFill>
                  <a:srgbClr val="ffa015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a015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188c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7T08:49:4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