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EB0-D3F0-4076-9144-1CD82614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563-8AC1-48C4-9C66-B670F152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F8F-24D3-4AEB-AF3E-97E68D19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6FF-BB9B-4A79-8B6A-5913A0A9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ED6E-C83F-4011-B81C-0A864730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A0D4-4E51-44E0-AE32-EC6582A1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6CEC-48DF-41AD-A5DB-F1F8B7F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B584-34EA-40D7-B5D2-C2901026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C5CC-B5EF-4E67-895C-429D2C0F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AF94-52C5-4EB4-9C60-7F3B5F35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7334-0BCA-47E5-97F4-C4D54447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07B-B5D0-4C63-A504-7D11BB9B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246D-5523-4B04-AB51-2CF46C7B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223D-FDF7-4A0D-96BD-809A3D86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E627-97FC-4B6E-9CBD-0AA89C35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811B-7F4E-4A50-A849-D654AFFC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6908-B495-4149-AD3D-D9E14E9A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F54-4D19-43D1-BAC3-B9C15308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D9A8-0111-4EC7-A033-95F9C191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77F-0CAE-43CC-A098-0FD460E6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159-D79F-46CA-8DE5-6248FFCD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967-EE45-4A42-B74D-DE657E25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856-787C-4A33-A0D0-5E034FBB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A35-1C5D-48E5-BB53-C789BB3C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D0B8-0B21-4919-9FE7-F747D4A84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9797-FD61-478F-B881-89072A650F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541520" y="1700280"/>
            <a:ext cx="3306600" cy="3457440"/>
            <a:chOff x="1541520" y="1700280"/>
            <a:chExt cx="3306600" cy="3457440"/>
          </a:xfrm>
        </p:grpSpPr>
        <p:pic>
          <p:nvPicPr>
            <p:cNvPr id="83" name="" descr=""/>
            <p:cNvPicPr/>
            <p:nvPr/>
          </p:nvPicPr>
          <p:blipFill>
            <a:blip r:embed="rId1"/>
            <a:srcRect l="54337" t="0" r="0" b="0"/>
            <a:stretch/>
          </p:blipFill>
          <p:spPr>
            <a:xfrm flipH="1">
              <a:off x="1822680" y="1700280"/>
              <a:ext cx="302544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flipH="1">
              <a:off x="1541520" y="1700280"/>
              <a:ext cx="287280" cy="3457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282560" y="1708200"/>
            <a:ext cx="3324600" cy="3457440"/>
            <a:chOff x="4282560" y="1708200"/>
            <a:chExt cx="3324600" cy="3457440"/>
          </a:xfrm>
        </p:grpSpPr>
        <p:pic>
          <p:nvPicPr>
            <p:cNvPr id="86" name="" descr=""/>
            <p:cNvPicPr/>
            <p:nvPr/>
          </p:nvPicPr>
          <p:blipFill>
            <a:blip r:embed="rId2"/>
            <a:srcRect l="0" t="0" r="54337" b="0"/>
            <a:stretch/>
          </p:blipFill>
          <p:spPr>
            <a:xfrm flipH="1">
              <a:off x="4282560" y="1708200"/>
              <a:ext cx="3025800" cy="34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flipH="1">
              <a:off x="7319880" y="1708200"/>
              <a:ext cx="287280" cy="3457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249200" y="1700280"/>
            <a:ext cx="6626520" cy="3457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H="1">
            <a:off x="4564800" y="1700280"/>
            <a:ext cx="287640" cy="3457440"/>
          </a:xfrm>
          <a:prstGeom prst="rect">
            <a:avLst/>
          </a:prstGeom>
          <a:gradFill rotWithShape="0">
            <a:gsLst>
              <a:gs pos="0">
                <a:srgbClr val="bbe0e3">
                  <a:alpha val="70196"/>
                </a:srgbClr>
              </a:gs>
              <a:gs pos="50000">
                <a:srgbClr val="414d4e">
                  <a:alpha val="52156"/>
                </a:srgbClr>
              </a:gs>
              <a:gs pos="100000">
                <a:srgbClr val="bbe0e3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65760" y="1681200"/>
            <a:ext cx="3168720" cy="36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82200" y="1700280"/>
            <a:ext cx="287640" cy="3457440"/>
          </a:xfrm>
          <a:prstGeom prst="rect">
            <a:avLst/>
          </a:prstGeom>
          <a:gradFill rotWithShape="0">
            <a:gsLst>
              <a:gs pos="0">
                <a:srgbClr val="bbe0e3">
                  <a:alpha val="70196"/>
                </a:srgbClr>
              </a:gs>
              <a:gs pos="50000">
                <a:srgbClr val="414d4e">
                  <a:alpha val="52156"/>
                </a:srgbClr>
              </a:gs>
              <a:gs pos="100000">
                <a:srgbClr val="bbe0e3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98720" y="1557360"/>
            <a:ext cx="3168360" cy="36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157720"/>
            <a:ext cx="9144000" cy="1695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453360"/>
            <a:ext cx="401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1840" y="117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卷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53469E-006 L 0.36216 2.53469E-006 E">
                                      <p:cBhvr>
                                        <p:cTn id="9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2.53469E-006 L 0.6934 2.53469E-006 E">
                                      <p:cBhvr>
                                        <p:cTn id="14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2.53469E-006 L 0.36232 2.53469E-006 E">
                                      <p:cBhvr>
                                        <p:cTn id="16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66327E-006 L -0.36076 -0.00162 E">
                                      <p:cBhvr>
                                        <p:cTn id="18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2.53469E-006 L -0.69236 2.53469E-006 E">
                                      <p:cBhvr>
                                        <p:cTn id="23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92 2.53469E-006 L 0.00295 2.53469E-006 E">
                                      <p:cBhvr>
                                        <p:cTn id="25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0ACD-FEDA-4D22-A9DA-82FDFBA3E1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01:18:12Z</dcterms:created>
  <dc:creator>aaa</dc:creator>
  <dc:description/>
  <dc:language>en-US</dc:language>
  <cp:lastModifiedBy>aaa</cp:lastModifiedBy>
  <dcterms:modified xsi:type="dcterms:W3CDTF">2015-07-21T02:54:5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