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AAB-68FD-4F7F-96D0-CA91A2B5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99C-35D1-4EB8-8487-7033E80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F5B-0BA4-4D8C-A544-60F7D6BC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3E8-7815-4FC0-8A8E-FB837072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427B-7056-427A-BAF2-9109EE5B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4E97-F318-424B-8BE7-58A98F7F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A9A5-72AD-46C9-AE85-E83BBA21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739A-D994-4242-B9B6-1BBD3265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99F-8FFD-44B5-919E-C88E81A4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0FE7-FC63-4008-80EE-D41F52C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B08-3A32-4E04-9CD5-B0F5415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406-A765-4C76-9766-1C89E9E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E9D-7190-46E5-855E-96CB036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484-1E9E-4934-BE18-7E871D8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664B-D3D4-4157-B96C-93A32F3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3069-8655-43F6-BB77-B5351E3A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823B-CD5F-459E-940F-1C44481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1AD-D5C4-46F2-88FF-8264705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B0E-EA2D-4D4F-BA22-B0F639E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24E-94B6-40D6-8BF4-060913D4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238-0AE5-4FE8-9EC2-DD573E8C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471-038C-4513-83B3-90879C3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807-04D0-46D6-BF17-43FDEAC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443-7652-420F-AF47-09AF948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9560-EF9E-4874-BA65-1189ED2578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FBD-EE04-42BE-BC8E-82AA21B04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6B7-629C-4594-9B03-573D67ADF3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F5D-51D8-4A77-BFF3-AEA03862A4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bb11bd586d9ec0754889bd9da34075c" descr=""/>
          <p:cNvPicPr/>
          <p:nvPr/>
        </p:nvPicPr>
        <p:blipFill>
          <a:blip r:embed="rId1"/>
          <a:stretch/>
        </p:blipFill>
        <p:spPr>
          <a:xfrm>
            <a:off x="23760" y="558720"/>
            <a:ext cx="9096480" cy="554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10350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金字塔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6BE-26C0-4AEF-B64E-99B0BC71C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