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09A-27DA-4D7E-A5D9-49E2B9F0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D5E6-D565-463E-9F68-F135EE49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258-EFFE-4F9E-B017-8258A5CE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F664-8435-4C8F-B93F-DEC66AEF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759B-7F51-4162-9614-BB667448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17FC-682D-4B65-AFB6-ECCCED9F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1CBC-3B30-4B4F-BCA8-540E28F7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61E4-AF0E-4EAC-946C-3B80DD54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A8A0-5383-4476-B83C-5106DCDB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945A-7AA5-4086-A6C0-4BA1398E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A46A-FBB9-414C-BC22-39207F25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3412-DC9F-4A5E-B7E6-02ED2F1E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118E-0808-443B-9079-06EA7C01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0129-CE78-47EE-9CBD-9A5A1F0E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0C19-9891-4D68-B565-2F245023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B362-A726-4550-B3F5-DAE0CE01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5D8B-F292-4382-8BE4-EF1D3EA5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C594-8504-40BF-B8E9-24744289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0E4-667B-4183-96B9-8789033C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A25-781D-4D93-8928-FC3E8497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B8E-77C5-4566-9943-37294792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EC36-B459-4CA5-A170-187FA535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562-314F-47AF-83CF-36B1EBF1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762-F603-4F27-90B5-8214F1CA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9A30-00F5-41D0-8249-36987DE39E8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9F0B-F410-47BE-837F-55258C20B5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1A11-506C-4CAE-907A-E3C827B4F80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4C0B-6027-4DE6-A434-3720B469AB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840" y="-20520"/>
            <a:ext cx="9147240" cy="6870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20560" y="69840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恐怖</a:t>
            </a:r>
            <a:r>
              <a:rPr b="0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50C0-82A8-4298-BF3D-C073DC6B6B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