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93A-AAC1-4685-80A4-7FE0B273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644-B890-4F08-BF8C-72368EE7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A96-9109-4E5C-88B6-36AA0EA8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AAC-844B-4441-8DB3-6323352E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058-0C16-426F-BC9F-9E19ECD4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E5C-5D2E-4536-9029-AD4F57C7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841-D928-4902-B6F5-21DCFC92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416-7173-42AA-A2C9-F4439A85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AC1-AC3A-4B81-AF98-A279D07F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031-C64E-490A-8186-51220F49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695-EE7D-4FF2-87FF-CDEB5C0D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5D2-E078-47B4-9B01-F996033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DD7E-0CEF-487E-9AF9-709E42AA2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ng.wav" TargetMode="External"/><Relationship Id="rId2" Type="http://schemas.openxmlformats.org/officeDocument/2006/relationships/hyperlink" Target="file:///tmp/home/.config/libreoffice/4/user/gallery/Ring.wav" TargetMode="External"/><Relationship Id="rId3" Type="http://schemas.openxmlformats.org/officeDocument/2006/relationships/hyperlink" Target="file:///tmp/home/.config/libreoffice/4/user/gallery/Ring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任"/>
          <p:cNvPicPr/>
          <p:nvPr/>
        </p:nvPicPr>
        <p:blipFill>
          <a:blip r:embed="rId1"/>
          <a:stretch/>
        </p:blipFill>
        <p:spPr>
          <a:xfrm>
            <a:off x="609480" y="838080"/>
            <a:ext cx="7820280" cy="5321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012680" y="182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014240" y="3167640"/>
            <a:ext cx="109476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林嗣环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6489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ef6f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def6f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2590920"/>
            <a:ext cx="39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口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课件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14400" y="17971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课文中写听众的反应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2590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从侧面突出口技表演的效果，烘托出技艺的高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3854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以重复开头作为结尾的作用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90720" y="4572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结构上：首尾呼应 ，使文章浑然一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内容上：起烘托作用，反衬口技表演的繁杂、热闹，突出表演者的技艺的高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90720" y="76212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0" lang="zh-CN" sz="5400" spc="-1" strike="noStrike">
                <a:solidFill>
                  <a:srgbClr val="def6f1"/>
                </a:solidFill>
                <a:latin typeface="Times New Roman"/>
              </a:rPr>
              <a:t>探  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11680" y="1220760"/>
            <a:ext cx="14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细黑"/>
                <a:ea typeface="华文细黑"/>
              </a:rPr>
              <a:t>作业</a:t>
            </a:r>
            <a:r>
              <a:rPr b="1" lang="en-US" sz="6000" spc="-1" strike="noStrike">
                <a:solidFill>
                  <a:srgbClr val="ff0000"/>
                </a:solidFill>
                <a:latin typeface="华文细黑"/>
                <a:ea typeface="华文细黑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447920" y="27432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认真观看洛桑学艺片段</a:t>
            </a: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把洛桑摹拟的声音描摹下来</a:t>
            </a: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看谁写得好</a:t>
            </a: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:\张红梅\爸爸的花儿落了\20040114_downz_08.jpg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0"/>
            <a:ext cx="9144000" cy="2590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80880" y="12193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作者：林嗣环，字铁崖，清朝福建晋江人，顺治年间进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出处：节选自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虞初新志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·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秋声诗自序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虞初新志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是清代人张潮编选的笔记小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体裁：既可以作为场景描写的记叙文来读，也可以作为摹写口技特色的说明文来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38080" y="609480"/>
            <a:ext cx="4114800" cy="764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6f1"/>
                </a:solidFill>
                <a:latin typeface="华文细黑"/>
                <a:ea typeface="华文细黑"/>
              </a:rPr>
              <a:t>  </a:t>
            </a:r>
            <a:r>
              <a:rPr b="1" lang="zh-CN" sz="4400" spc="-1" strike="noStrike">
                <a:solidFill>
                  <a:srgbClr val="def6f1"/>
                </a:solidFill>
                <a:latin typeface="华文细黑"/>
                <a:ea typeface="华文细黑"/>
              </a:rPr>
              <a:t>文 学 常 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029200" y="797040"/>
            <a:ext cx="3657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      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口技，是杂技的一种。演员运用口腔发声技巧来模仿各种声音。它能同时发出各种声响，清代属</a:t>
            </a:r>
            <a:r>
              <a:rPr b="1" lang="zh-CN" sz="2800" spc="-1" strike="noStrike">
                <a:solidFill>
                  <a:srgbClr val="def6f1"/>
                </a:solidFill>
                <a:latin typeface="Times New Roman"/>
                <a:ea typeface="华文细黑"/>
              </a:rPr>
              <a:t>“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百戏</a:t>
            </a:r>
            <a:r>
              <a:rPr b="1" lang="zh-CN" sz="2800" spc="-1" strike="noStrike">
                <a:solidFill>
                  <a:srgbClr val="def6f1"/>
                </a:solidFill>
                <a:latin typeface="Times New Roman"/>
                <a:ea typeface="华文细黑"/>
              </a:rPr>
              <a:t>”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之一种，表演者多隐身在布幔或屏风的后边，俗称</a:t>
            </a:r>
            <a:r>
              <a:rPr b="1" lang="zh-CN" sz="2800" spc="-1" strike="noStrike">
                <a:solidFill>
                  <a:srgbClr val="def6f1"/>
                </a:solidFill>
                <a:latin typeface="Times New Roman"/>
                <a:ea typeface="华文细黑"/>
              </a:rPr>
              <a:t>“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隔壁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F:\zhangweidong\1234567\4单元\口技\kouji2.jpg"/>
          <p:cNvPicPr/>
          <p:nvPr/>
        </p:nvPicPr>
        <p:blipFill>
          <a:blip r:embed="rId1"/>
          <a:stretch/>
        </p:blipFill>
        <p:spPr>
          <a:xfrm>
            <a:off x="685800" y="838080"/>
            <a:ext cx="4191120" cy="533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838080" y="1295280"/>
            <a:ext cx="3048120" cy="764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def6f1"/>
                </a:solidFill>
                <a:latin typeface="Times New Roman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0720" y="31240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熟读，结合注释理解文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读文      </a:t>
            </a:r>
            <a:r>
              <a:rPr b="0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疏通        </a:t>
            </a:r>
            <a:r>
              <a:rPr b="0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复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2133720"/>
            <a:ext cx="8382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第一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段）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写表演前的准备及即将开始的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3276720"/>
            <a:ext cx="9144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段）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写表演者的精彩表演和 听众的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第三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段）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写表演结束时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1066680"/>
            <a:ext cx="1981080" cy="703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def6f1"/>
                </a:solidFill>
                <a:latin typeface="Times New Roman"/>
              </a:rPr>
              <a:t>结  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ziliao\18\热带7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52280" y="1523880"/>
            <a:ext cx="88394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正面描写和侧面描写相结合表现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正面描写：描绘表演者的高超技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侧面描写：描绘听众的神态、动作，表现听众的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结合的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使表演和效果有机的联系起来，突出口技表演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7200" y="1219320"/>
            <a:ext cx="2057400" cy="703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def6f1"/>
                </a:solidFill>
                <a:latin typeface="华文中宋"/>
                <a:ea typeface="华文中宋"/>
              </a:rPr>
              <a:t>写  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90720" y="2438280"/>
            <a:ext cx="7391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     </a:t>
            </a:r>
            <a:r>
              <a:rPr b="1" lang="zh-CN" sz="5400" spc="-1" strike="noStrike">
                <a:solidFill>
                  <a:srgbClr val="0000ff"/>
                </a:solidFill>
                <a:latin typeface="方正姚体"/>
                <a:ea typeface="方正姚体"/>
              </a:rPr>
              <a:t>通过描写一场精彩的口技表演，表现了京中善口技者的高超技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838080" y="1143000"/>
            <a:ext cx="2362320" cy="916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5400" spc="-1" strike="noStrike">
                <a:solidFill>
                  <a:srgbClr val="def6f1"/>
                </a:solidFill>
                <a:latin typeface="方正姚体"/>
                <a:ea typeface="方正姚体"/>
              </a:rPr>
              <a:t>主  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2"/>
          <p:cNvSpPr/>
          <p:nvPr/>
        </p:nvSpPr>
        <p:spPr>
          <a:xfrm>
            <a:off x="1828800" y="4495680"/>
            <a:ext cx="56386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>
            <a:hlinkClick r:id="rId1"/>
          </p:cNvPr>
          <p:cNvSpPr/>
          <p:nvPr/>
        </p:nvSpPr>
        <p:spPr>
          <a:xfrm>
            <a:off x="2700000" y="4495680"/>
            <a:ext cx="1643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>
            <a:hlinkClick r:id="rId2"/>
          </p:cNvPr>
          <p:cNvSpPr/>
          <p:nvPr/>
        </p:nvSpPr>
        <p:spPr>
          <a:xfrm>
            <a:off x="4879800" y="4335120"/>
            <a:ext cx="5461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>
            <a:hlinkClick r:id="rId3"/>
          </p:cNvPr>
          <p:cNvSpPr/>
          <p:nvPr/>
        </p:nvSpPr>
        <p:spPr>
          <a:xfrm>
            <a:off x="5869800" y="4335120"/>
            <a:ext cx="911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2514600" y="990720"/>
            <a:ext cx="0" cy="3962160"/>
          </a:xfrm>
          <a:prstGeom prst="line">
            <a:avLst/>
          </a:prstGeom>
          <a:ln w="5724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914400" y="312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伸颈侧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微笑默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0868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意少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239480" y="1447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变色出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股战欲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7315200" y="3657600"/>
            <a:ext cx="1828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口技表演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黑体"/>
              </a:rPr>
              <a:t>声音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828800" y="21096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侧面描写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宾客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的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2666880" y="3809880"/>
            <a:ext cx="12193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733920" y="2863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4800600" y="2895480"/>
            <a:ext cx="10666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029200" y="228600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7010280" y="1600200"/>
            <a:ext cx="1295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928120" y="1720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6346440" y="533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1f0a"/>
                </a:solidFill>
                <a:latin typeface="Times New Roman"/>
                <a:ea typeface="华文行楷"/>
              </a:rPr>
              <a:t>情节发展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380880" y="5486400"/>
            <a:ext cx="8382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ff3300"/>
                </a:solidFill>
                <a:latin typeface="幼圆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一桌、一椅、一扇、一抚尺而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             </a:t>
            </a: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简单的道具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  <a:ea typeface="幼圆"/>
              </a:rPr>
              <a:t>——</a:t>
            </a: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衬托表演者高超的技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                           </a:t>
            </a: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首尾照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V="1">
            <a:off x="3886200" y="2895480"/>
            <a:ext cx="914400" cy="914400"/>
          </a:xfrm>
          <a:prstGeom prst="line">
            <a:avLst/>
          </a:prstGeom>
          <a:ln w="76320">
            <a:solidFill>
              <a:srgbClr val="ea1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 flipV="1">
            <a:off x="5867280" y="1600200"/>
            <a:ext cx="1143000" cy="1295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2743200" y="31845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7315200" y="974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7109640" y="1600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首尾照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2590920" y="3809880"/>
            <a:ext cx="15238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铺垫衬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411480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渐入佳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50292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欲扬先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63244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推向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289-537B-4242-A743-55B115F351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09:24:07Z</dcterms:created>
  <dc:creator/>
  <dc:description/>
  <cp:keywords>幻灯片之家 http:/www.eeppt.com</cp:keywords>
  <dc:language>en-US</dc:language>
  <cp:lastModifiedBy/>
  <dcterms:modified xsi:type="dcterms:W3CDTF">2015-07-20T07:01:16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