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302-7695-46D8-B79A-D2E4D49E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8E5-ACF3-48B0-87D3-E72E300C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C014-4B63-496F-95CB-57485172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6BC-AEF4-415F-889B-1F9DE6DA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8959-68FE-4E45-831B-9B20BF5D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48D3-6BBD-451B-8354-BF20EC2E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4939-D3C9-4330-9236-67C566C8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4D61-5477-4EDF-9791-E4CEFD7B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6FF9-1249-4476-80F5-0767E2E0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3B5A-5ABF-488C-AE7B-45E9A2C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C5B8-0561-42B8-BCEF-EB49630E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039-0A11-4FC2-981B-5BFBE06D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B886-3159-4E86-8108-BB45317B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7712-EFFC-4F78-B8B8-5431CEB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5984-7072-4317-90AB-F499D8A7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CBDF-001E-43B4-9636-918F7290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188C-766F-4218-A8C7-42922124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80D-DC4D-4317-93C5-F9878EF5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16C-F6C6-4934-98EE-B87C0CE9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6A3-B9EF-48C0-96EB-C0B19D8C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8E1-C3B7-49A6-B4A7-47A1DE6C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287-B7E1-4F0A-9DB7-56E646F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07E-D648-4BE8-8B00-8AC38AB9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1CC-0A64-4596-B2BD-F8BD704A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1DA9-B271-4219-A198-EE42C702D7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0B65-106E-437B-8981-95642D834C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24A3-DB39-48DF-922A-223C1F6E43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142B-7212-4765-B998-21BC077095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3d1b0dcf5a0783fe8d6ed590684ac91f" descr=""/>
          <p:cNvPicPr/>
          <p:nvPr/>
        </p:nvPicPr>
        <p:blipFill>
          <a:blip r:embed="rId1"/>
          <a:stretch/>
        </p:blipFill>
        <p:spPr>
          <a:xfrm>
            <a:off x="69840" y="615960"/>
            <a:ext cx="9001080" cy="562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0320" y="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可口可乐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FAC2-7A73-4CB9-AE2A-4E597FE6E8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