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F61-7040-418A-9167-5153C468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841-2CA9-4172-AB06-6A01590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FE7-A05D-4A1E-92D3-40711D51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EF2-6892-4B5D-B85D-48E45D96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490-FFBE-4485-BEB5-6517D549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217-A233-4632-B169-835F42C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C3-11EE-4235-8F26-93CA5E4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687-0E01-43AB-9F69-7B7B7D8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E20-86E7-4255-BDE8-964B6642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4FF-C221-4DF8-9642-EB7B233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D18-85F0-4D47-8EA6-ADD26A6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689-2F36-44B2-A28B-9A6A057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B72-08F5-4521-9CE0-863F20E5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2,2,&#24187;&#28783;&#29255; 2" TargetMode="External"/><Relationship Id="rId3" Type="http://schemas.openxmlformats.org/officeDocument/2006/relationships/hyperlink" Target="257,4,&#24187;&#28783;&#29255; 4" TargetMode="External"/><Relationship Id="rId4" Type="http://schemas.openxmlformats.org/officeDocument/2006/relationships/hyperlink" Target="258,5,&#24187;&#28783;&#29255; 5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0,8,&#12288;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2,2,&#24187;&#28783;&#29255; 2" TargetMode="External"/><Relationship Id="rId3" Type="http://schemas.openxmlformats.org/officeDocument/2006/relationships/hyperlink" Target="257,4,&#24187;&#28783;&#29255; 4" TargetMode="External"/><Relationship Id="rId4" Type="http://schemas.openxmlformats.org/officeDocument/2006/relationships/hyperlink" Target="258,5,&#24187;&#28783;&#29255; 5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0,8,&#12288;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2,2,&#24187;&#28783;&#29255; 2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59,6,&#24187;&#28783;&#29255; 6" TargetMode="External"/><Relationship Id="rId5" Type="http://schemas.openxmlformats.org/officeDocument/2006/relationships/hyperlink" Target="260,8,&#12288;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5,10,&#24187;&#28783;&#29255; 10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10,&#24187;&#28783;&#29255; 10" TargetMode="External"/><Relationship Id="rId2" Type="http://schemas.openxmlformats.org/officeDocument/2006/relationships/hyperlink" Target="262,2,&#24187;&#28783;&#29255; 2" TargetMode="External"/><Relationship Id="rId3" Type="http://schemas.openxmlformats.org/officeDocument/2006/relationships/hyperlink" Target="257,4,&#24187;&#28783;&#29255; 4" TargetMode="External"/><Relationship Id="rId4" Type="http://schemas.openxmlformats.org/officeDocument/2006/relationships/hyperlink" Target="258,5,&#24187;&#28783;&#29255; 5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0,8,&#12288;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科利亚的木匣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33520" y="981000"/>
            <a:ext cx="807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3160" y="1701720"/>
            <a:ext cx="33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科利亚的木匣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09480" y="9907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知道是怎么回事啦！木匣是我四年前埋的，那时候我还小，步子也小。我现在九岁啦，步子比那时候大了一倍，所以应该走的不是十步，而是五步。你们看，我马上回找到我的木匣子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38080" y="9144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仍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2514600" y="1523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181480" y="838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依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819520" y="7621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 flipH="1">
            <a:off x="1447200" y="-58896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36576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36232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86400" y="3886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743200" y="3581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时间一天天过去，我们一天天长大，步子也在渐渐变大。周围的一切，不是都在起变化么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>
            <a:hlinkClick r:id="" action="ppaction://hlinkshowjump?jump=nextslide"/>
          </p:cNvPr>
          <p:cNvSpPr/>
          <p:nvPr/>
        </p:nvSpPr>
        <p:spPr>
          <a:xfrm>
            <a:off x="2514600" y="57913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9BB-82EE-4026-BF2A-96B8199E7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时间一天天过去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们一天天长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步子也在渐渐变大。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周围的一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不是都在起变化么？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>
            <a:hlinkClick r:id="" action="ppaction://hlinkshowjump?jump=previousslide"/>
          </p:cNvPr>
          <p:cNvSpPr/>
          <p:nvPr/>
        </p:nvSpPr>
        <p:spPr>
          <a:xfrm>
            <a:off x="2514600" y="57150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蔡伶伶\课文图片\第七册\科利亚的木匣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读读下列词语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并给字注音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04920" y="18288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科利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1828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挖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771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0880" y="52578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648320" y="3505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山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590920" y="3429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躲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0492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447920" y="1219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27672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57200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010280" y="1143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200400" y="27432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72428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1600200" y="4495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5">
            <a:hlinkClick r:id="" action="ppaction://hlinkshowjump?jump=nextslide"/>
          </p:cNvPr>
          <p:cNvSpPr/>
          <p:nvPr/>
        </p:nvSpPr>
        <p:spPr>
          <a:xfrm>
            <a:off x="2819520" y="5486400"/>
            <a:ext cx="838080" cy="30492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04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战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文中提到的“战争”是指苏联卫国战争，是苏联人民为反对德国法西斯及其盟国进行的正义战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>
            <a:off x="380880" y="1066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505320" y="23623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法西斯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无理侵略别国领土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28600" y="4191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木匣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木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133720" y="5562720"/>
            <a:ext cx="838080" cy="30456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30492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、读准字音，遇到不懂的字要查字典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二、想一想课文讲了一件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三、根据提示给课文分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埋木匣”“挖木匣”“得到启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914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一部分：（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埋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二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挖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三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得到启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80988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038480" y="24382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4—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038480" y="39625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5800" y="304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挖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38080" y="2514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00200" y="472428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的原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038480" y="13716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62520" y="3581280"/>
            <a:ext cx="60948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6093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4648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科利亚只会数到十，就向前走了十步，埋下了他的木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2057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他从家门口朝前走，数了十步，就用铲子挖起坑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038480" y="3581280"/>
            <a:ext cx="486000" cy="914400"/>
          </a:xfrm>
          <a:prstGeom prst="downArrow">
            <a:avLst>
              <a:gd name="adj1" fmla="val 50000"/>
              <a:gd name="adj2" fmla="val 47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在第一部分中找出与这一句对应的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419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3048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5867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1676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思考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3808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读第二部分，重新排列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>
            <a:hlinkClick r:id="" action="ppaction://hlinkshowjump?jump=nextslide"/>
          </p:cNvPr>
          <p:cNvSpPr/>
          <p:nvPr/>
        </p:nvSpPr>
        <p:spPr>
          <a:xfrm>
            <a:off x="0" y="533520"/>
            <a:ext cx="762120" cy="6858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838080" y="1295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4800600"/>
            <a:ext cx="8915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342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插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0" y="61657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0:16:21Z</dcterms:created>
  <dc:creator/>
  <dc:description/>
  <cp:keywords>幻灯片之家 http:/www.eeppt.com</cp:keywords>
  <dc:language>en-US</dc:language>
  <cp:lastModifiedBy/>
  <dcterms:modified xsi:type="dcterms:W3CDTF">2015-07-18T09:02:1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