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A96-54B4-4389-A089-DC576070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6F7-A9EB-442F-990D-98CBA2F9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9B9-8733-4964-8F63-D2BD74D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E5A-6FCF-4998-9FB3-024BD8B6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B0B-A155-40DF-84D6-82F5D6E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C2D-4E82-4786-8DE0-3B19FCF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3BB-FA5E-4A8C-99E1-3268BBF5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73F-E808-483D-93E0-8F1966C1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752-5E78-4903-9D46-AE65E650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200-AA64-48CF-916A-ACB893CD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861-69E2-432C-96A6-5E5A7489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B0F-86BA-4947-8489-FDBAAF85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3F06-A07F-4561-BE06-9F5955BF9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dww"/>
          <p:cNvPicPr/>
          <p:nvPr/>
        </p:nvPicPr>
        <p:blipFill>
          <a:blip r:embed="rId1"/>
          <a:stretch/>
        </p:blipFill>
        <p:spPr>
          <a:xfrm>
            <a:off x="3429000" y="3057480"/>
            <a:ext cx="5715000" cy="380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51880" y="609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小孩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3B3-0F5A-4FB8-B341-AB6A24115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bnbgf"/>
          <p:cNvPicPr/>
          <p:nvPr/>
        </p:nvPicPr>
        <p:blipFill>
          <a:blip r:embed="rId1"/>
          <a:stretch/>
        </p:blipFill>
        <p:spPr>
          <a:xfrm>
            <a:off x="3429000" y="1362240"/>
            <a:ext cx="5715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vbfdd"/>
          <p:cNvPicPr/>
          <p:nvPr/>
        </p:nvPicPr>
        <p:blipFill>
          <a:blip r:embed="rId1"/>
          <a:stretch/>
        </p:blipFill>
        <p:spPr>
          <a:xfrm>
            <a:off x="3581280" y="2075040"/>
            <a:ext cx="556272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cvdvbf"/>
          <p:cNvPicPr/>
          <p:nvPr/>
        </p:nvPicPr>
        <p:blipFill>
          <a:blip r:embed="rId1"/>
          <a:stretch/>
        </p:blipFill>
        <p:spPr>
          <a:xfrm>
            <a:off x="3429000" y="2790720"/>
            <a:ext cx="5715000" cy="406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92360" y="6237360"/>
            <a:ext cx="57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nmnmn"/>
          <p:cNvPicPr/>
          <p:nvPr/>
        </p:nvPicPr>
        <p:blipFill>
          <a:blip r:embed="rId1"/>
          <a:stretch/>
        </p:blipFill>
        <p:spPr>
          <a:xfrm>
            <a:off x="3429000" y="2895480"/>
            <a:ext cx="5715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fvfbn"/>
          <p:cNvPicPr/>
          <p:nvPr/>
        </p:nvPicPr>
        <p:blipFill>
          <a:blip r:embed="rId1"/>
          <a:stretch/>
        </p:blipFill>
        <p:spPr>
          <a:xfrm>
            <a:off x="3429000" y="2867040"/>
            <a:ext cx="5715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nbmhnmh"/>
          <p:cNvPicPr/>
          <p:nvPr/>
        </p:nvPicPr>
        <p:blipFill>
          <a:blip r:embed="rId1"/>
          <a:stretch/>
        </p:blipFill>
        <p:spPr>
          <a:xfrm>
            <a:off x="5094360" y="1938240"/>
            <a:ext cx="404964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 mn,jl"/>
          <p:cNvPicPr/>
          <p:nvPr/>
        </p:nvPicPr>
        <p:blipFill>
          <a:blip r:embed="rId1"/>
          <a:stretch/>
        </p:blipFill>
        <p:spPr>
          <a:xfrm>
            <a:off x="3429000" y="2371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m,jm,j,j"/>
          <p:cNvPicPr/>
          <p:nvPr/>
        </p:nvPicPr>
        <p:blipFill>
          <a:blip r:embed="rId1"/>
          <a:stretch/>
        </p:blipFill>
        <p:spPr>
          <a:xfrm>
            <a:off x="3429000" y="2171880"/>
            <a:ext cx="5715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yuyut"/>
          <p:cNvPicPr/>
          <p:nvPr/>
        </p:nvPicPr>
        <p:blipFill>
          <a:blip r:embed="rId1"/>
          <a:stretch/>
        </p:blipFill>
        <p:spPr>
          <a:xfrm>
            <a:off x="4379760" y="1752480"/>
            <a:ext cx="4764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00:02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