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2983-E53D-48FB-829F-34F27DDE3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C424-03ED-4B95-81BB-6F80F566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E118-FBF5-408A-A1F2-966D0DDB4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40DD-393E-4A98-999D-70D45497C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A81D-74AE-4C48-9083-4C9D870F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A376-CC3D-4DB5-9891-5ADE492B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86B7-7FD0-480F-92B9-6DDF6CAF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3993-CFBD-4346-B83D-D98387FB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8D9D-DAB5-4946-948B-0AF5809B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AAE9-F193-41C9-9F81-C499ACE1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3ABA-9BA6-43CC-9AEE-43A1CC42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03A9-53B7-4BAB-A7C4-08C632D5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8878-DDA7-40ED-AA61-6EBB67549386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5"/>
          <p:cNvSpPr/>
          <p:nvPr/>
        </p:nvSpPr>
        <p:spPr>
          <a:xfrm>
            <a:off x="1692360" y="981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6454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91440" y="1197000"/>
            <a:ext cx="495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跨越海峡的生命桥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课件模板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95280" y="1268280"/>
          <a:ext cx="8282160" cy="4581360"/>
        </p:xfrm>
        <a:graphic>
          <a:graphicData uri="http://schemas.openxmlformats.org/drawingml/2006/table">
            <a:tbl>
              <a:tblPr/>
              <a:tblGrid>
                <a:gridCol w="2251080"/>
                <a:gridCol w="603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6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时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50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分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捐髓者进无菌室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7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时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30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分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捐髓者全身麻醉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8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时抽骨髓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历时约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小时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分钟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9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时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30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分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骨髓交给负责护送的义工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时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0 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抵台北机场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时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0 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抵香港机场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9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时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分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抵上海机场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1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时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分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骨髓运到杭州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2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时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开始骨髓移植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Text Box 31"/>
          <p:cNvSpPr/>
          <p:nvPr/>
        </p:nvSpPr>
        <p:spPr>
          <a:xfrm>
            <a:off x="324000" y="476280"/>
            <a:ext cx="40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Arial"/>
              </a:rPr>
              <a:t>骨髓移植时间表</a:t>
            </a:r>
            <a:r>
              <a:rPr b="0" lang="zh-CN" sz="3200" spc="-1" strike="noStrike">
                <a:solidFill>
                  <a:srgbClr val="5b524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68" name="Picture 32" descr="pic_115001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683720" y="1295280"/>
            <a:ext cx="5325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一位青年躺在病床上，等候着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他来抽取骨髓。就在昨天，一场里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氏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7.3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级的大地震袭击了台湾地区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此刻，大地仍在余震中摇晃。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52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地震.wmv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4007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录象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2026440" y="1295280"/>
            <a:ext cx="5325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在这场灾难中，病床上的青年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没有受伤，他的家人是否平安无事，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目前还不清楚。但是，他知道，在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海峡的另一边，有一位青年正满怀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着希望，期待着他的骨髓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2062800" y="1905120"/>
            <a:ext cx="50878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5b5249"/>
                </a:solidFill>
                <a:latin typeface="宋体"/>
              </a:rPr>
              <a:t>针头向皮肤刺去，一阵突如其来的余震，使针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宋体"/>
              </a:rPr>
              <a:t>头从肌肤里脱落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……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。经过一次又一次的努力，利用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大地震动暂停的间隔，台湾青年的骨髓，终于从身躯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里涓涓流出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4424040" y="25909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宋体"/>
              </a:rPr>
              <a:t>那位青年也静静地躺在病床上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324000" y="533520"/>
            <a:ext cx="882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李博士就是台湾的骨髓移植专家李政道博士，被医学界誉为“血清之父”的李政道教授是当代国际著名的骨髓移植配型专家。李政道出生于台湾，他是那样令人尊敬，１９９３年１０月他主持创办了台湾慈济骨髓捐献中心，征集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分骨髓样本，成为全球最大的华人骨髓库，救助了众多的白血病患者，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00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的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日，他第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次携带着台湾同胞捐献的骨髓来到大陆。让我们记住这位可敬的老人！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6" name="Picture 3" descr="j16p3"/>
          <p:cNvPicPr/>
          <p:nvPr/>
        </p:nvPicPr>
        <p:blipFill>
          <a:blip r:embed="rId1"/>
          <a:stretch/>
        </p:blipFill>
        <p:spPr>
          <a:xfrm>
            <a:off x="4368960" y="3933720"/>
            <a:ext cx="4394160" cy="2924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179080" y="2133720"/>
            <a:ext cx="47664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5b5249"/>
                </a:solidFill>
                <a:latin typeface="宋体"/>
              </a:rPr>
              <a:t>在同一时刻，海峡彼岸的台湾花莲慈济医院，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宋体"/>
              </a:rPr>
              <a:t>骨髓移植专家李博士正步履匆匆地走进手术室。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2134080" y="1905120"/>
            <a:ext cx="5301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5b5249"/>
                </a:solidFill>
                <a:latin typeface="宋体"/>
              </a:rPr>
              <a:t>针头向皮肤刺去，一阵突如其来的余震，使针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宋体"/>
              </a:rPr>
              <a:t>头从肌肤里脱落，李博士不得不停止工作。此时此刻，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宋体"/>
              </a:rPr>
              <a:t>跑到空旷的地方才比较安全。但是，李博士仍沉着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宋体"/>
              </a:rPr>
              <a:t>站在病床旁，那位青年也静静地躺在病床上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380880" y="25909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宋体"/>
              </a:rPr>
              <a:t>         </a:t>
            </a:r>
            <a:r>
              <a:rPr b="0" lang="zh-CN" sz="2800" spc="-1" strike="noStrike">
                <a:solidFill>
                  <a:srgbClr val="5b5249"/>
                </a:solidFill>
                <a:latin typeface="宋体"/>
              </a:rPr>
              <a:t>骨髓的保存期只有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24</a:t>
            </a:r>
            <a:r>
              <a:rPr b="0" lang="zh-CN" sz="2800" spc="-1" strike="noStrike">
                <a:solidFill>
                  <a:srgbClr val="5b5249"/>
                </a:solidFill>
                <a:latin typeface="宋体"/>
              </a:rPr>
              <a:t>小时。李博士带着刚抽取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宋体"/>
              </a:rPr>
              <a:t>骨髓，经过十几个小时的奔波，赶到杭州，和当地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宋体"/>
              </a:rPr>
              <a:t>医护人员一起连夜为小钱做了骨髓移植手术。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762120" y="137160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5b5249"/>
                </a:solidFill>
                <a:latin typeface="Arial"/>
              </a:rPr>
              <a:t>第一棵树上结了</a:t>
            </a: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80</a:t>
            </a:r>
            <a:r>
              <a:rPr b="0" lang="zh-CN" sz="3200" spc="-1" strike="noStrike">
                <a:solidFill>
                  <a:srgbClr val="5b5249"/>
                </a:solidFill>
                <a:latin typeface="Arial"/>
              </a:rPr>
              <a:t>个苹果，第二棵树上结了</a:t>
            </a: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100</a:t>
            </a:r>
            <a:r>
              <a:rPr b="0" lang="zh-CN" sz="3200" spc="-1" strike="noStrike">
                <a:solidFill>
                  <a:srgbClr val="5b5249"/>
                </a:solidFill>
                <a:latin typeface="Arial"/>
              </a:rPr>
              <a:t>个苹果，第三棵树上结了</a:t>
            </a: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150</a:t>
            </a:r>
            <a:r>
              <a:rPr b="0" lang="zh-CN" sz="3200" spc="-1" strike="noStrike">
                <a:solidFill>
                  <a:srgbClr val="5b5249"/>
                </a:solidFill>
                <a:latin typeface="Arial"/>
              </a:rPr>
              <a:t>个苹果。现在你来到了苹果树下，要和你的对手比赛谁摘的苹果多，我们假设你们采摘的速度一样快，你先摘哪一个树上的苹果？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609480" y="14479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宋体"/>
              </a:rPr>
              <a:t>            </a:t>
            </a: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小钱得救了。两岸骨肉同胞用爱心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架起了一座跨越海峡的生命桥。也许，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小钱和这位台湾青年永远不会见面，这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并不重要，因为两岸同胞的心是连在一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起的。那血脉亲情，如同生命的火种，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必将一代一代传下去。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82" name="200512413415382705.mp3" descr=""/>
          <p:cNvPicPr/>
          <p:nvPr/>
        </p:nvPicPr>
        <p:blipFill>
          <a:blip r:embed="rId1"/>
          <a:stretch/>
        </p:blipFill>
        <p:spPr>
          <a:xfrm>
            <a:off x="80010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b5249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E7CC-1703-407E-B2B2-E952A0BCEE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663480" y="2930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87" name="Picture 3" descr="chinampa11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50920" y="0"/>
            <a:ext cx="8532720" cy="6742080"/>
          </a:xfrm>
          <a:prstGeom prst="rect">
            <a:avLst/>
          </a:prstGeom>
          <a:ln w="0">
            <a:noFill/>
          </a:ln>
        </p:spPr>
      </p:pic>
      <p:sp>
        <p:nvSpPr>
          <p:cNvPr id="88" name="Line 4"/>
          <p:cNvSpPr/>
          <p:nvPr/>
        </p:nvSpPr>
        <p:spPr>
          <a:xfrm flipH="1">
            <a:off x="6803640" y="5589720"/>
            <a:ext cx="792360" cy="21564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Line 5"/>
          <p:cNvSpPr/>
          <p:nvPr/>
        </p:nvSpPr>
        <p:spPr>
          <a:xfrm flipV="1">
            <a:off x="6732720" y="4005000"/>
            <a:ext cx="1152360" cy="158436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Line 6"/>
          <p:cNvSpPr/>
          <p:nvPr/>
        </p:nvSpPr>
        <p:spPr>
          <a:xfrm flipH="1">
            <a:off x="7380000" y="4005360"/>
            <a:ext cx="431640" cy="2872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28720" y="4581360"/>
            <a:ext cx="611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533520" y="1447920"/>
          <a:ext cx="8281800" cy="4622760"/>
        </p:xfrm>
        <a:graphic>
          <a:graphicData uri="http://schemas.openxmlformats.org/drawingml/2006/table">
            <a:tbl>
              <a:tblPr/>
              <a:tblGrid>
                <a:gridCol w="2250720"/>
                <a:gridCol w="6031080"/>
              </a:tblGrid>
              <a:tr h="55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6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时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50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分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捐髓者进无菌室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93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7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时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30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分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捐髓者全身麻醉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8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时抽骨髓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(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历时约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小时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分钟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9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时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30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分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骨髓交给负责护送的义工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时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0 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抵台北机场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时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0 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分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抵香港机场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9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时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40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分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抵上海机场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1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时</a:t>
                      </a: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分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骨髓运到杭州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2</a:t>
                      </a: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时 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开始骨髓移植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31"/>
          <p:cNvSpPr/>
          <p:nvPr/>
        </p:nvSpPr>
        <p:spPr>
          <a:xfrm>
            <a:off x="228600" y="685800"/>
            <a:ext cx="40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Arial"/>
              </a:rPr>
              <a:t>骨髓移植时间表</a:t>
            </a:r>
            <a:r>
              <a:rPr b="0" lang="zh-CN" sz="3200" spc="-1" strike="noStrike">
                <a:solidFill>
                  <a:srgbClr val="5b524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b0ae6a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609480" y="1981080"/>
            <a:ext cx="78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5b5249"/>
                </a:solidFill>
                <a:latin typeface="Arial"/>
              </a:rPr>
              <a:t>还是这样三棵苹果树，你又来到了苹果树下，你的对手也是一个孩子，已经几天没有吃饭了，很饿很饿。你和他比赛谁摘的苹果多，你先摘哪一个树上的苹果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057400" y="2666880"/>
            <a:ext cx="770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b5249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给予是快乐的！”</a:t>
            </a:r>
            <a:r>
              <a:rPr b="0" lang="zh-CN" sz="3200" spc="-1" strike="noStrike">
                <a:solidFill>
                  <a:srgbClr val="5b524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497320" y="1981080"/>
            <a:ext cx="49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Times New Roman"/>
              </a:rPr>
              <a:t>jǐ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520360" y="227664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楷体_GB2312"/>
              </a:rPr>
              <a:t>跨越海峡的生命桥</a:t>
            </a:r>
            <a:endParaRPr b="0" lang="en-US" sz="7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663480" y="2930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57" name="Picture 3" descr="chinampa11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50920" y="0"/>
            <a:ext cx="8532720" cy="6742080"/>
          </a:xfrm>
          <a:prstGeom prst="rect">
            <a:avLst/>
          </a:prstGeom>
          <a:ln w="0">
            <a:noFill/>
          </a:ln>
        </p:spPr>
      </p:pic>
      <p:sp>
        <p:nvSpPr>
          <p:cNvPr id="58" name="Line 7"/>
          <p:cNvSpPr/>
          <p:nvPr/>
        </p:nvSpPr>
        <p:spPr>
          <a:xfrm>
            <a:off x="7467480" y="4419720"/>
            <a:ext cx="152640" cy="53316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838080" y="990720"/>
            <a:ext cx="777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Arial"/>
              </a:rPr>
              <a:t>凋零     含苞     骨髓    绽放</a:t>
            </a:r>
            <a:r>
              <a:rPr b="1" lang="zh-CN" sz="3600" spc="-1" strike="noStrike">
                <a:solidFill>
                  <a:srgbClr val="5b5249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80880" y="26668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宋体"/>
              </a:rPr>
              <a:t>           </a:t>
            </a: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这个刚满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18</a:t>
            </a: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岁的年轻人，患了严重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的白血病，生命就像即将</a:t>
            </a:r>
            <a:r>
              <a:rPr b="0" lang="zh-CN" sz="3600" spc="-1" strike="noStrike">
                <a:solidFill>
                  <a:srgbClr val="ff5050"/>
                </a:solidFill>
                <a:latin typeface="宋体"/>
              </a:rPr>
              <a:t>凋零</a:t>
            </a: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的</a:t>
            </a:r>
            <a:r>
              <a:rPr b="0" lang="zh-CN" sz="3600" spc="-1" strike="noStrike">
                <a:solidFill>
                  <a:srgbClr val="ff5050"/>
                </a:solidFill>
                <a:latin typeface="宋体"/>
              </a:rPr>
              <a:t>含苞</a:t>
            </a: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的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花朵，唯有</a:t>
            </a:r>
            <a:r>
              <a:rPr b="0" lang="zh-CN" sz="3600" spc="-1" strike="noStrike">
                <a:solidFill>
                  <a:srgbClr val="ff5050"/>
                </a:solidFill>
                <a:latin typeface="宋体"/>
              </a:rPr>
              <a:t>骨髓</a:t>
            </a: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移植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才能使这朵生命之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花</a:t>
            </a:r>
            <a:r>
              <a:rPr b="0" lang="zh-CN" sz="3600" spc="-1" strike="noStrike">
                <a:solidFill>
                  <a:srgbClr val="ff5050"/>
                </a:solidFill>
                <a:latin typeface="宋体"/>
              </a:rPr>
              <a:t>绽放</a:t>
            </a:r>
            <a:r>
              <a:rPr b="0" lang="zh-CN" sz="3600" spc="-1" strike="noStrike">
                <a:solidFill>
                  <a:srgbClr val="5b5249"/>
                </a:solidFill>
                <a:latin typeface="宋体"/>
              </a:rPr>
              <a:t>。</a:t>
            </a:r>
            <a:r>
              <a:rPr b="0" lang="zh-CN" sz="11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838080" y="838080"/>
            <a:ext cx="777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Arial"/>
              </a:rPr>
              <a:t>谈何容易</a:t>
            </a:r>
            <a:r>
              <a:rPr b="1" lang="zh-CN" sz="3600" spc="-1" strike="noStrike">
                <a:solidFill>
                  <a:srgbClr val="5b5249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28600" y="29718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宋体"/>
              </a:rPr>
              <a:t>然而要找到适合的骨髓，又</a:t>
            </a:r>
            <a:r>
              <a:rPr b="0" lang="zh-CN" sz="4000" spc="-1" strike="noStrike">
                <a:solidFill>
                  <a:srgbClr val="ff5050"/>
                </a:solidFill>
                <a:latin typeface="宋体"/>
              </a:rPr>
              <a:t>谈何容易</a:t>
            </a:r>
            <a:r>
              <a:rPr b="0" lang="zh-CN" sz="4000" spc="-1" strike="noStrike">
                <a:solidFill>
                  <a:srgbClr val="5b5249"/>
                </a:solidFill>
                <a:latin typeface="宋体"/>
              </a:rPr>
              <a:t>。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366920" y="114300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b5249"/>
                </a:solidFill>
                <a:latin typeface="Arial"/>
              </a:rPr>
              <a:t>辗转</a:t>
            </a:r>
            <a:r>
              <a:rPr b="1" lang="zh-CN" sz="3600" spc="-1" strike="noStrike">
                <a:solidFill>
                  <a:srgbClr val="5b5249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380880" y="281952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         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如果没有亲缘关系，大约在十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万人里才有可能找到一个有适合骨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髓的人。小钱是幸运的，几经</a:t>
            </a:r>
            <a:r>
              <a:rPr b="0" lang="zh-CN" sz="4000" spc="-1" strike="noStrike">
                <a:solidFill>
                  <a:srgbClr val="ff5050"/>
                </a:solidFill>
                <a:latin typeface="Times New Roman"/>
              </a:rPr>
              <a:t>辗转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，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终于在台湾找到这样的人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14:25:39Z</dcterms:created>
  <dc:creator/>
  <dc:description/>
  <cp:keywords>幻灯片之家 http:/www.eeppt.com</cp:keywords>
  <dc:language>en-US</dc:language>
  <cp:lastModifiedBy/>
  <dcterms:modified xsi:type="dcterms:W3CDTF">2015-07-18T13:49:21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