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4.png" ContentType="image/png"/>
  <Override PartName="/ppt/media/image24.gif" ContentType="image/gif"/>
  <Override PartName="/ppt/media/image8.jpeg" ContentType="image/jpeg"/>
  <Override PartName="/ppt/media/image6.jpeg" ContentType="image/jpeg"/>
  <Override PartName="/ppt/media/image25.gif" ContentType="image/gif"/>
  <Override PartName="/ppt/media/image29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16.jpeg" ContentType="image/jpeg"/>
  <Override PartName="/ppt/media/image13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gif" ContentType="image/gif"/>
  <Override PartName="/ppt/media/image15.gif" ContentType="image/gif"/>
  <Override PartName="/ppt/media/image27.gif" ContentType="image/gif"/>
  <Override PartName="/ppt/media/image28.jpeg" ContentType="image/jpeg"/>
  <Override PartName="/ppt/media/image17.gif" ContentType="image/gif"/>
  <Override PartName="/ppt/media/image18.gif" ContentType="image/gif"/>
  <Override PartName="/ppt/media/image20.gif" ContentType="image/gif"/>
  <Override PartName="/ppt/media/image19.jpeg" ContentType="image/jpe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D74-C02A-4A34-BFBE-F9292A03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FA9-B056-47B0-8EC7-1DFC739F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6D9-170A-454E-B580-1D45DED4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78F-6D49-4D07-8C09-BF353C10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73A-E76C-4452-ADF8-7B97345C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4E4-AA62-428B-9BC4-7A82483A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1E1-F565-4A47-AB25-19B1F59B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192-77F1-4A93-96E6-492A9DF1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BFA-9BA3-481C-BDF3-239AFFCC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896-23E1-45D6-B74B-57CF637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93E-3E44-4A54-B85E-FD9030F8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19C-EACF-41BE-A7FB-3D2BCA6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B589-E5DE-41F3-87FC-55E835A1AE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3059280" y="4921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G:\于\于爱霞\第五册课件\孔子拜师\rwjg-fzm-kzsx_s.jpg"/>
          <p:cNvPicPr/>
          <p:nvPr/>
        </p:nvPicPr>
        <p:blipFill>
          <a:blip r:embed="rId2"/>
          <a:stretch/>
        </p:blipFill>
        <p:spPr>
          <a:xfrm>
            <a:off x="2814480" y="228600"/>
            <a:ext cx="4191120" cy="599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87240" y="1828800"/>
            <a:ext cx="1646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0960" y="1773360"/>
            <a:ext cx="25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孔子拜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296240" y="2286000"/>
            <a:ext cx="94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学习是没有止境的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678816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6262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9686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48830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797440" y="34052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E:\素材\课件动画素材\符号类\按钮类\W_062.gif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026"/>
          <p:cNvSpPr/>
          <p:nvPr/>
        </p:nvSpPr>
        <p:spPr>
          <a:xfrm>
            <a:off x="380880" y="2362320"/>
            <a:ext cx="838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从此，孔子每天不离老师左右，随时请教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027"/>
          <p:cNvSpPr/>
          <p:nvPr/>
        </p:nvSpPr>
        <p:spPr>
          <a:xfrm>
            <a:off x="5105520" y="44197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028"/>
          <p:cNvSpPr/>
          <p:nvPr/>
        </p:nvSpPr>
        <p:spPr>
          <a:xfrm>
            <a:off x="5334120" y="3352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029"/>
          <p:cNvSpPr/>
          <p:nvPr/>
        </p:nvSpPr>
        <p:spPr>
          <a:xfrm>
            <a:off x="6172200" y="3352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030"/>
          <p:cNvSpPr/>
          <p:nvPr/>
        </p:nvSpPr>
        <p:spPr>
          <a:xfrm>
            <a:off x="5867280" y="4419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041" descr="E:\素材\课件动画素材\符号类\按钮类\W_062.gif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676520" y="1447920"/>
            <a:ext cx="488628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谈老子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123" name="Picture 3" descr="G:\于\于爱霞\其它\图片\伙伴.bmp"/>
          <p:cNvPicPr/>
          <p:nvPr/>
        </p:nvPicPr>
        <p:blipFill>
          <a:blip r:embed="rId2"/>
          <a:stretch/>
        </p:blipFill>
        <p:spPr>
          <a:xfrm>
            <a:off x="139680" y="4581360"/>
            <a:ext cx="3594240" cy="2200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E:\素材\课件动画素材\符号类\数字类\SU_076.gif"/>
          <p:cNvPicPr/>
          <p:nvPr/>
        </p:nvPicPr>
        <p:blipFill>
          <a:blip r:embed="rId3"/>
          <a:stretch/>
        </p:blipFill>
        <p:spPr>
          <a:xfrm>
            <a:off x="7659720" y="1752480"/>
            <a:ext cx="493560" cy="5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E:\素材\课件动画素材\符号类\数字类\SU_077.gif"/>
          <p:cNvPicPr/>
          <p:nvPr/>
        </p:nvPicPr>
        <p:blipFill>
          <a:blip r:embed="rId4"/>
          <a:stretch/>
        </p:blipFill>
        <p:spPr>
          <a:xfrm>
            <a:off x="7624800" y="3429000"/>
            <a:ext cx="520560" cy="53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80880" y="1419120"/>
            <a:ext cx="862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就是仲尼啊，听说你要来，我就在这儿迎候。研究学问你不比我差，为什么还要拜我为师呢？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562720" y="30481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248520" y="30481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4952880" y="3886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1911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35053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8195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13372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5" descr="E:\素材\课件动画素材\符号类\按钮类\W_001.GIF"/>
          <p:cNvPicPr/>
          <p:nvPr/>
        </p:nvPicPr>
        <p:blipFill>
          <a:blip r:embed="rId2"/>
          <a:stretch/>
        </p:blipFill>
        <p:spPr>
          <a:xfrm>
            <a:off x="8229600" y="6205680"/>
            <a:ext cx="838080" cy="576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80880" y="2209680"/>
            <a:ext cx="841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老子也把自己的学问毫无保留地传授给了他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600200" y="4114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38080" y="4114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8077320" y="32004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362320" y="41148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W_001"/>
          <p:cNvPicPr/>
          <p:nvPr/>
        </p:nvPicPr>
        <p:blipFill>
          <a:blip r:embed="rId1"/>
          <a:stretch/>
        </p:blipFill>
        <p:spPr>
          <a:xfrm>
            <a:off x="8305920" y="6205680"/>
            <a:ext cx="838080" cy="576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468360" y="54936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第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—www.1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533520" y="181296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温故而知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三人行，必有我师焉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学而时习之，不亦说乎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知之为知之，不知为不知，是知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27" descr="E:\素材\课件动画素材\符号类\其它类\QT_022.gif"/>
          <p:cNvPicPr/>
          <p:nvPr/>
        </p:nvPicPr>
        <p:blipFill>
          <a:blip r:embed="rId2"/>
          <a:stretch/>
        </p:blipFill>
        <p:spPr>
          <a:xfrm>
            <a:off x="304920" y="41752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30" descr="E:\素材\课件动画素材\符号类\其它类\QT_021.gif"/>
          <p:cNvPicPr/>
          <p:nvPr/>
        </p:nvPicPr>
        <p:blipFill>
          <a:blip r:embed="rId3"/>
          <a:stretch/>
        </p:blipFill>
        <p:spPr>
          <a:xfrm>
            <a:off x="304920" y="318456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31" descr="E:\素材\课件动画素材\符号类\其它类\QT_021.gif"/>
          <p:cNvPicPr/>
          <p:nvPr/>
        </p:nvPicPr>
        <p:blipFill>
          <a:blip r:embed="rId4"/>
          <a:stretch/>
        </p:blipFill>
        <p:spPr>
          <a:xfrm>
            <a:off x="304920" y="507060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32" descr="E:\素材\课件动画素材\符号类\其它类\QT_022.gif"/>
          <p:cNvPicPr/>
          <p:nvPr/>
        </p:nvPicPr>
        <p:blipFill>
          <a:blip r:embed="rId5"/>
          <a:stretch/>
        </p:blipFill>
        <p:spPr>
          <a:xfrm>
            <a:off x="304920" y="232740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149" name="WordArt 1033"/>
          <p:cNvSpPr txBox="1"/>
          <p:nvPr/>
        </p:nvSpPr>
        <p:spPr>
          <a:xfrm>
            <a:off x="1019160" y="209520"/>
            <a:ext cx="34005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孔子名言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0" name="Picture 1034" descr="E:\素材\课件动画素材\文化类\文化类\WW_030.gif"/>
          <p:cNvPicPr/>
          <p:nvPr/>
        </p:nvPicPr>
        <p:blipFill>
          <a:blip r:embed="rId6"/>
          <a:stretch/>
        </p:blipFill>
        <p:spPr>
          <a:xfrm>
            <a:off x="7864560" y="5581800"/>
            <a:ext cx="1279440" cy="119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35" descr="E:\素材\课件动画素材\人文\小孩\RX_007.gif"/>
          <p:cNvPicPr/>
          <p:nvPr/>
        </p:nvPicPr>
        <p:blipFill>
          <a:blip r:embed="rId7"/>
          <a:stretch/>
        </p:blipFill>
        <p:spPr>
          <a:xfrm>
            <a:off x="8305920" y="76320"/>
            <a:ext cx="744480" cy="149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1026"/>
          <p:cNvSpPr txBox="1"/>
          <p:nvPr/>
        </p:nvSpPr>
        <p:spPr>
          <a:xfrm>
            <a:off x="457200" y="0"/>
            <a:ext cx="4800600" cy="20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课后作业：</a:t>
            </a:r>
            <a:endParaRPr b="1" lang="en-US" sz="9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3" name="Text Box 1027"/>
          <p:cNvSpPr/>
          <p:nvPr/>
        </p:nvSpPr>
        <p:spPr>
          <a:xfrm>
            <a:off x="228600" y="21337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根据这节课的学习和课外收集的资料，谈谈自己对孔子或老子的印象。下节课，召开“我心中的孔子”、“我心中的老子”读书汇报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28" descr="E:\素材\课件动画素材\文化类\文化类\WW_028.gif"/>
          <p:cNvPicPr/>
          <p:nvPr/>
        </p:nvPicPr>
        <p:blipFill>
          <a:blip r:embed="rId2"/>
          <a:stretch/>
        </p:blipFill>
        <p:spPr>
          <a:xfrm>
            <a:off x="7772400" y="5745240"/>
            <a:ext cx="1295280" cy="1036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583-7506-421E-A5B7-FA364189C856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28600" y="149076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孔子，名丘，字仲尼，生活在两千多年前的春秋时代。他是我国伟大的思想家和教育家。据说他有三千弟子，其中七十二人名气很大。他的弟子把他的言行记录下来，编成《论语》，这本书对后世产生了深远的影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1373040" y="0"/>
            <a:ext cx="4646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f0a05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你知道吗？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f0a05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60" name="Picture 5" descr="E:\素材\课件动画素材\文化类\文化类\WW_019.gif"/>
          <p:cNvPicPr/>
          <p:nvPr/>
        </p:nvPicPr>
        <p:blipFill>
          <a:blip r:embed="rId1"/>
          <a:stretch/>
        </p:blipFill>
        <p:spPr>
          <a:xfrm>
            <a:off x="0" y="228600"/>
            <a:ext cx="1494000" cy="88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76320" y="3808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受到后人广泛的尊敬。人们修建孔庙纪念他。每到孔子的诞辰，孔子的故乡山东曲阜都要举办孔子文化节，进行隆重的祭孔活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的学说在世界上有很大的影响。有的国家和地区把孔子的生日作为教师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E:\素材\课件动画素材\文化类\文化类\WW_018.gif"/>
          <p:cNvPicPr/>
          <p:nvPr/>
        </p:nvPicPr>
        <p:blipFill>
          <a:blip r:embed="rId1"/>
          <a:stretch/>
        </p:blipFill>
        <p:spPr>
          <a:xfrm>
            <a:off x="7696080" y="5659560"/>
            <a:ext cx="1371600" cy="1198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1600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66ccff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65040" y="2362320"/>
            <a:ext cx="877896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日夜兼程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风尘仆仆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风餐露宿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毫无保留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传授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佩服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纳闷 </a:t>
            </a:r>
            <a:r>
              <a:rPr b="1" lang="zh-CN" sz="6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孔丘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ordArt 3" descr=""/>
          <p:cNvPicPr/>
          <p:nvPr/>
        </p:nvPicPr>
        <p:blipFill>
          <a:blip r:embed="rId1"/>
          <a:stretch/>
        </p:blipFill>
        <p:spPr>
          <a:xfrm>
            <a:off x="2048040" y="79200"/>
            <a:ext cx="3944880" cy="2054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E:\素材\课件动画素材\人文\小孩\RX_014.gif"/>
          <p:cNvPicPr/>
          <p:nvPr/>
        </p:nvPicPr>
        <p:blipFill>
          <a:blip r:embed="rId2"/>
          <a:stretch/>
        </p:blipFill>
        <p:spPr>
          <a:xfrm>
            <a:off x="380880" y="380880"/>
            <a:ext cx="943200" cy="1889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105520" y="5638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752480" y="5638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3048120" y="5638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5486400" y="4572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8229600" y="3429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7315200" y="3429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266688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5943600" y="5638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8001000" y="5562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029"/>
          <p:cNvSpPr/>
          <p:nvPr/>
        </p:nvSpPr>
        <p:spPr>
          <a:xfrm>
            <a:off x="0" y="3276720"/>
            <a:ext cx="9144000" cy="2361960"/>
          </a:xfrm>
          <a:prstGeom prst="wedgeEllipseCallout">
            <a:avLst>
              <a:gd name="adj1" fmla="val -40416"/>
              <a:gd name="adj2" fmla="val 64583"/>
            </a:avLst>
          </a:prstGeom>
          <a:solidFill>
            <a:srgbClr val="ffe1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6"/>
          <p:cNvSpPr/>
          <p:nvPr/>
        </p:nvSpPr>
        <p:spPr>
          <a:xfrm>
            <a:off x="152280" y="1082520"/>
            <a:ext cx="897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们佩服孔子和老子的学问，也敬重他们的品行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27"/>
          <p:cNvSpPr/>
          <p:nvPr/>
        </p:nvSpPr>
        <p:spPr>
          <a:xfrm>
            <a:off x="457200" y="374976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人们敬重孔子和老子的什么品行？我们快到课文里找一找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8" descr="E:\素材\课件动画素材\人文\天使\RT_020.gif"/>
          <p:cNvPicPr/>
          <p:nvPr/>
        </p:nvPicPr>
        <p:blipFill>
          <a:blip r:embed="rId2"/>
          <a:stretch/>
        </p:blipFill>
        <p:spPr>
          <a:xfrm>
            <a:off x="731520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0" descr="E:\素材\课件动画素材\人文\小孩\RX_014.gif"/>
          <p:cNvPicPr/>
          <p:nvPr/>
        </p:nvPicPr>
        <p:blipFill>
          <a:blip r:embed="rId3"/>
          <a:stretch/>
        </p:blipFill>
        <p:spPr>
          <a:xfrm>
            <a:off x="76320" y="5334120"/>
            <a:ext cx="76032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981080" y="1066680"/>
            <a:ext cx="4724640" cy="24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谈孔子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65" name="Picture 9" descr="G:\于\于爱霞\其它\图片\伙伴.bmp"/>
          <p:cNvPicPr/>
          <p:nvPr/>
        </p:nvPicPr>
        <p:blipFill>
          <a:blip r:embed="rId2"/>
          <a:stretch/>
        </p:blipFill>
        <p:spPr>
          <a:xfrm>
            <a:off x="5397480" y="4581360"/>
            <a:ext cx="3594240" cy="220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E:\素材\课件动画素材\符号类\数字类\SU_231.gif"/>
          <p:cNvPicPr/>
          <p:nvPr/>
        </p:nvPicPr>
        <p:blipFill>
          <a:blip r:embed="rId3"/>
          <a:stretch/>
        </p:blipFill>
        <p:spPr>
          <a:xfrm>
            <a:off x="6667560" y="36194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E:\素材\课件动画素材\符号类\数字类\SU_230.gif"/>
          <p:cNvPicPr/>
          <p:nvPr/>
        </p:nvPicPr>
        <p:blipFill>
          <a:blip r:embed="rId4"/>
          <a:stretch/>
        </p:blipFill>
        <p:spPr>
          <a:xfrm>
            <a:off x="5867280" y="36194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E:\素材\课件动画素材\符号类\数字类\SU_229.gif"/>
          <p:cNvPicPr/>
          <p:nvPr/>
        </p:nvPicPr>
        <p:blipFill>
          <a:blip r:embed="rId5"/>
          <a:stretch/>
        </p:blipFill>
        <p:spPr>
          <a:xfrm>
            <a:off x="4991040" y="36194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E:\素材\课件动画素材\符号类\数字类\SU_128.gif"/>
          <p:cNvPicPr/>
          <p:nvPr/>
        </p:nvPicPr>
        <p:blipFill>
          <a:blip r:embed="rId6"/>
          <a:stretch/>
        </p:blipFill>
        <p:spPr>
          <a:xfrm>
            <a:off x="4076640" y="3657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E:\素材\课件动画素材\符号类\数字类\SU_127.gif"/>
          <p:cNvPicPr/>
          <p:nvPr/>
        </p:nvPicPr>
        <p:blipFill>
          <a:blip r:embed="rId7"/>
          <a:stretch/>
        </p:blipFill>
        <p:spPr>
          <a:xfrm>
            <a:off x="3200400" y="3657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E:\素材\课件动画素材\符号类\数字类\SU_126.gif"/>
          <p:cNvPicPr/>
          <p:nvPr/>
        </p:nvPicPr>
        <p:blipFill>
          <a:blip r:embed="rId8"/>
          <a:stretch/>
        </p:blipFill>
        <p:spPr>
          <a:xfrm>
            <a:off x="2209680" y="3657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16765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他总觉得自己的知识还不够渊博，三十岁的时候，他离开家乡曲阜，去洛阳拜大思想家老子为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2096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6094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447920" y="53341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29718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36576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220968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772400" y="256212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8458200" y="25146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68580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1447920" y="3505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3" descr="E:\素材\课件动画素材\符号类\按钮类\W_062.gif"/>
          <p:cNvPicPr/>
          <p:nvPr/>
        </p:nvPicPr>
        <p:blipFill>
          <a:blip r:embed="rId2"/>
          <a:stretch/>
        </p:blipFill>
        <p:spPr>
          <a:xfrm>
            <a:off x="8458200" y="634356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44792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曲阜和洛阳相距上千里，孔子风餐露宿，日夜兼程，几个月后，终于走到了洛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678168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94360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1337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83059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54380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289548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365760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44197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181480" y="41911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4419720" y="41911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3" descr="E:\素材\课件动画素材\符号类\按钮类\W_062.gif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57200" y="990720"/>
            <a:ext cx="83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孔子想：这位老人大概就是我要拜访的老师吧！于是上前行礼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问道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“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老人家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您就是老聃先生吧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?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962520" y="367344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724280" y="36734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3200400" y="36734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2438280" y="367344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5" descr="E:\素材\课件动画素材\符号类\按钮类\W_062.gif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E:\素材\课件动画素材\符号类\按钮类\W_001.GIF"/>
          <p:cNvPicPr/>
          <p:nvPr/>
        </p:nvPicPr>
        <p:blipFill>
          <a:blip r:embed="rId3"/>
          <a:stretch/>
        </p:blipFill>
        <p:spPr>
          <a:xfrm>
            <a:off x="0" y="6281640"/>
            <a:ext cx="838080" cy="5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7524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孔子连忙说：“学生孔丘，特地来拜见老师，请收下我这个学生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685800" y="35812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447920" y="35812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E:\素材\课件动画素材\符号类\按钮类\W_062.gif"/>
          <p:cNvPicPr/>
          <p:nvPr/>
        </p:nvPicPr>
        <p:blipFill>
          <a:blip r:embed="rId2"/>
          <a:stretch/>
        </p:blipFill>
        <p:spPr>
          <a:xfrm>
            <a:off x="8458200" y="6334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:\素材\课件动画素材\符号类\按钮类\W_001.GIF"/>
          <p:cNvPicPr/>
          <p:nvPr/>
        </p:nvPicPr>
        <p:blipFill>
          <a:blip r:embed="rId3"/>
          <a:stretch/>
        </p:blipFill>
        <p:spPr>
          <a:xfrm>
            <a:off x="0" y="6281640"/>
            <a:ext cx="838080" cy="5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12:33:23Z</dcterms:created>
  <dc:creator/>
  <dc:description/>
  <cp:keywords>幻灯片之家 http:/www.eeppt.com</cp:keywords>
  <dc:language>en-US</dc:language>
  <cp:lastModifiedBy/>
  <dcterms:modified xsi:type="dcterms:W3CDTF">2015-07-17T15:13:38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