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3.png" ContentType="image/png"/>
  <Override PartName="/ppt/media/image10.gif" ContentType="image/gif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8.png" ContentType="image/png"/>
  <Override PartName="/ppt/media/image14.png" ContentType="image/png"/>
  <Override PartName="/ppt/media/image11.gif" ContentType="image/gif"/>
  <Override PartName="/ppt/media/image30.jpeg" ContentType="image/jpeg"/>
  <Override PartName="/ppt/media/image36.jpeg" ContentType="image/jpeg"/>
  <Override PartName="/ppt/media/image9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F14-ABE7-427D-A42F-DA913C0D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D07-344A-4D55-8733-EB17A0FC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2556-356B-451A-AE2D-874EB769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126F-2CBA-4B50-BD78-1401149E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93A1A-A2E5-4573-A68D-060EAC5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9CA54-DF91-4DAA-8000-AFEDD98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C947-D763-43FC-8424-ED5D2CA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D4A0-82DC-4D8A-A65A-E6361DB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A81CC-3207-4C05-94B0-46D76A28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9B69-9CBA-4A02-AB1D-2D4FA3BC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EC6E-7E9F-4017-A143-F93F1AE4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2094-E643-4618-AC2F-A96E14CD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E1C-C8AB-4A92-BD7D-3811A4FF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8040C-9A11-4380-AB64-492AAB3A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0547-DE6B-47CA-BE04-1EF929F4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54944-F615-4BFD-B3D4-4C289F31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408C1-8EAA-496E-8CB0-42F429C6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1C6DD-5D7D-4BB8-A381-060A7983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F1AF-7759-4ABE-AC69-96E6C868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6AE53-0238-4C1E-816C-081B96C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14CE-27E3-4910-B8E6-15077ACF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923B-D61B-4F10-9750-3B4D486F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A0B23-53D2-458A-ABF2-54AFEE4C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9ED-6128-442E-9FBE-040969C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8EEE1-F8AD-452D-8707-50D0085B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4AD7-2513-455B-A1FE-70791CB8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519DF-3CD2-4424-A7EF-8C12875A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80C3-E850-4722-A10B-1E1F8899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2AE60-DD57-4703-BD77-1023D343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9793-3268-47D8-94DB-84A7EA3F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FF01-F246-425F-97FE-ED60873A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D01E-4646-409F-B634-B7D51E5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27072-E7ED-4469-B270-0AA9B853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CBCFF-144C-4ED1-BEEC-817E0572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ECA62-E452-4973-9BEF-BFC3A768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EEFD0-FD0D-4B98-9C4F-0E292E48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E1E3-A86C-4D29-BF41-14CC8F44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208E4-F8B7-4934-9A36-612A19F6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24B56-DF99-4E33-BB09-2A81E732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0702-E130-4EF5-99B1-5CA7986F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C2559-CB9A-4E26-A47A-B9A321CD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A0FC5-50A1-42E3-BA88-1052E90E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9050E-D72C-4A7C-9E90-FB508086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E0346-B64D-4345-8177-C43A8359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61365-99FF-4083-8DB0-69F7A7DA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7F9A9-B30F-420A-82FD-5ED42B29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64CDF-894E-4F57-8256-6EBFDE98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3074E-4B73-4456-B643-464B589F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4917D-A8CE-4570-98E8-5AD6E3E4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1EC40-3DC9-4229-8221-F2602282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57CAE-855E-4B97-B28E-EA21E00F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068A9-6B34-4146-BEE4-2F5D791C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39C87-FEC4-40F7-AB96-0156655E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44AFB-C0FF-4F75-BEF0-FD773AF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7C160-77C7-4820-9281-41A3D9A7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2E36B-04B1-4319-9D4B-39CB9B8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020BA-E58B-452E-93CB-31B4B00B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B7431-0567-400F-BA14-A81DE8C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954E-5E83-4B39-9894-1F671B7D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79267-B362-4030-B216-356C4AAF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4A6FE-0818-4E84-81B9-53774B82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CAB88-6FB2-41E8-B68F-86EA65B0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FAA6D-AC7F-4975-9551-41DF996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96416-4659-4363-B48E-640F7E9C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9E95E-3E82-4D6F-882E-37B86A68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5222B-9F4D-4F2F-B2F4-F469F50E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52F14-C3B9-4891-B84B-79657784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EC767-7850-4586-A477-2830303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63295-A79C-43E5-ADFC-EE445FD8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B6A22-38E9-433F-9F5E-86EA2B26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8A190-889A-403C-BB65-7E6416FB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9CFD8-A74D-482E-A539-64B0745B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CDBBE-8D59-4666-BB7C-613BD4F3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D7E88-E0F8-4D8E-B3F1-1E9190BB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58D20-98CD-47E1-8401-DC574AA2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05DAD-4FB8-46D5-83C4-F32B78F3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26A0F-D5A8-4DF5-81B5-530AF18C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98CA1-9B4D-487B-AFE7-0983EDC4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3D4B1-D97A-4EBF-A07C-8ABA2CE2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8636C-7053-4452-B052-880186BF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82F05-41CC-4912-B97F-A53B5A1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96E0E-0CFB-4680-9A4F-C2507E3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6C948-A66A-4EBA-98D6-1FF11D07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8233B-C504-4F1F-96CB-CE2411C3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3D1CE-D75B-4A97-B766-F27A3AC1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966-30E5-4FBE-BD44-B6FA3227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6B7-909A-46E8-A6AC-74EA1B98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060-CE3A-49D6-AFC7-C33A72E1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593-325D-4526-B0B5-6C64AD46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0B8-4FB2-4430-A9CC-ABA10BBD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BD58-591D-41E2-B98A-84F645B1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18B8-ACC9-435A-A31E-99A78F09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E43E-3DB0-4C3F-9EF9-D57A2A7E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7631-DB7D-4F27-980F-532F520E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F737-C9A1-4E61-A1D4-35AF4CDC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15C0-199D-4F4B-8B96-7C55E58E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60DF-5EC0-4857-AB18-E52A9D0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9427-B44D-4AAB-88B9-C4236022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A53F-CC43-49AC-9DE5-C74E762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0F0-9C32-40A7-B269-644C0FC1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0DEB-BDE7-4362-8FA3-03E9A128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E332-AFEF-4BAB-8944-169D4D34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2A9E-9B4E-45E1-A7AF-764E2A2F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A82-A2DD-4695-A158-34B6E7B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BF9A-0A34-4D54-BC5E-C34D8475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0A94-93FD-47F6-9713-21477BA5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4717-2A7A-47FA-BAB4-9F3AB6E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96573-64CF-4CFD-8AA2-FBA36AA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B90E-3484-49B1-AC26-C1B2539F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8EC-F10B-4AF8-9735-1F8E51D1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1BCE-671F-4BB0-8F7E-686000FB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38946-D195-4F1C-8C30-282F6F1A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24C9-C81B-43A5-BD7C-E460E396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99BB-9164-4F71-B0A8-D5BB434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6CB3-A7DB-41CC-91F3-7C88AE29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F758-EA26-4AC4-AF35-D96ABBDC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0BC1-DCF7-449A-80F4-2908B1C7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49D1A-B917-4EE5-AB75-9408BDCC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2192-FCBB-4A81-9D41-37D09704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112A-7F0F-4CE2-A61F-D71ED368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hyperlink" Target="http://www.51ppt.com.cn/" TargetMode="External"/><Relationship Id="rId4" Type="http://schemas.openxmlformats.org/officeDocument/2006/relationships/hyperlink" Target="http://www.51ppt.com.cn/" TargetMode="External"/><Relationship Id="rId5" Type="http://schemas.openxmlformats.org/officeDocument/2006/relationships/hyperlink" Target="http://www.51ppt.com.cn/" TargetMode="External"/><Relationship Id="rId6" Type="http://schemas.openxmlformats.org/officeDocument/2006/relationships/hyperlink" Target="http://www.51ppt.com.cn/" TargetMode="External"/><Relationship Id="rId7" Type="http://schemas.openxmlformats.org/officeDocument/2006/relationships/hyperlink" Target="http://www.51ppt.com.cn/" TargetMode="External"/><Relationship Id="rId8" Type="http://schemas.openxmlformats.org/officeDocument/2006/relationships/hyperlink" Target="http://www.51ppt.com.cn/" TargetMode="External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hyperlink" Target="http://www.51ppt.com.cn/" TargetMode="External"/><Relationship Id="rId4" Type="http://schemas.openxmlformats.org/officeDocument/2006/relationships/hyperlink" Target="http://www.51ppt.com.cn/" TargetMode="External"/><Relationship Id="rId5" Type="http://schemas.openxmlformats.org/officeDocument/2006/relationships/hyperlink" Target="http://www.51ppt.com.cn/" TargetMode="External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B40-FC01-4EA2-8618-75284701576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矩形 6" descr=""/>
          <p:cNvPicPr/>
          <p:nvPr/>
        </p:nvPicPr>
        <p:blipFill>
          <a:blip r:embed="rId3"/>
          <a:stretch/>
        </p:blipFill>
        <p:spPr>
          <a:xfrm>
            <a:off x="5950080" y="5589720"/>
            <a:ext cx="2163600" cy="5554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02E8-72B2-445D-98F1-092DB4E75E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23A6-047C-4CE5-A6B8-431BCFE3EF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矩形 6" descr=""/>
          <p:cNvPicPr/>
          <p:nvPr/>
        </p:nvPicPr>
        <p:blipFill>
          <a:blip r:embed="rId3"/>
          <a:stretch/>
        </p:blipFill>
        <p:spPr>
          <a:xfrm>
            <a:off x="5950080" y="5589720"/>
            <a:ext cx="216360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277920"/>
            <a:ext cx="9144000" cy="1136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0D61-62F4-4D0D-B2F8-19A9B7F17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8" descr="green_grass"/>
          <p:cNvPicPr/>
          <p:nvPr/>
        </p:nvPicPr>
        <p:blipFill>
          <a:blip r:embed="rId3"/>
          <a:srcRect l="0" t="0" r="0" b="12967"/>
          <a:stretch/>
        </p:blipFill>
        <p:spPr>
          <a:xfrm>
            <a:off x="0" y="5548320"/>
            <a:ext cx="9144000" cy="13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dt" idx="22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D9F2-9D2D-421F-A2B8-BD1167A5D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277920"/>
            <a:ext cx="9144000" cy="196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8" descr="green_grass"/>
          <p:cNvPicPr/>
          <p:nvPr/>
        </p:nvPicPr>
        <p:blipFill>
          <a:blip r:embed="rId3"/>
          <a:srcRect l="0" t="0" r="0" b="12967"/>
          <a:stretch/>
        </p:blipFill>
        <p:spPr>
          <a:xfrm>
            <a:off x="0" y="5548320"/>
            <a:ext cx="9144000" cy="130968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2D66-A76A-44EF-B81E-760E17596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Num" idx="28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000F-8A74-4BE7-A4F1-2D17250FC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ectangle 5"/>
          <p:cNvGrpSpPr/>
          <p:nvPr/>
        </p:nvGrpSpPr>
        <p:grpSpPr>
          <a:xfrm>
            <a:off x="4910040" y="6137280"/>
            <a:ext cx="4129200" cy="31680"/>
            <a:chOff x="4910040" y="6137280"/>
            <a:chExt cx="4129200" cy="31680"/>
          </a:xfrm>
        </p:grpSpPr>
        <p:pic>
          <p:nvPicPr>
            <p:cNvPr id="90" name="Rectangle 5" descr=""/>
            <p:cNvPicPr/>
            <p:nvPr/>
          </p:nvPicPr>
          <p:blipFill>
            <a:blip r:embed="rId3"/>
            <a:stretch/>
          </p:blipFill>
          <p:spPr>
            <a:xfrm>
              <a:off x="4910040" y="6137280"/>
              <a:ext cx="41292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6"/>
            <p:cNvSpPr/>
            <p:nvPr/>
          </p:nvSpPr>
          <p:spPr>
            <a:xfrm>
              <a:off x="4915800" y="6142680"/>
              <a:ext cx="41162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-19440" bIns="-19440" anchor="ctr">
              <a:no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Text Box 8"/>
          <p:cNvSpPr/>
          <p:nvPr/>
        </p:nvSpPr>
        <p:spPr>
          <a:xfrm>
            <a:off x="6135840" y="6229440"/>
            <a:ext cx="278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Rectangle 5"/>
          <p:cNvGrpSpPr/>
          <p:nvPr/>
        </p:nvGrpSpPr>
        <p:grpSpPr>
          <a:xfrm>
            <a:off x="4910040" y="6137280"/>
            <a:ext cx="4129200" cy="31680"/>
            <a:chOff x="4910040" y="6137280"/>
            <a:chExt cx="4129200" cy="31680"/>
          </a:xfrm>
        </p:grpSpPr>
        <p:pic>
          <p:nvPicPr>
            <p:cNvPr id="202" name="Rectangle 5" descr=""/>
            <p:cNvPicPr/>
            <p:nvPr/>
          </p:nvPicPr>
          <p:blipFill>
            <a:blip r:embed="rId3"/>
            <a:stretch/>
          </p:blipFill>
          <p:spPr>
            <a:xfrm>
              <a:off x="4910040" y="6137280"/>
              <a:ext cx="41292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4"/>
            <p:cNvSpPr/>
            <p:nvPr/>
          </p:nvSpPr>
          <p:spPr>
            <a:xfrm>
              <a:off x="4915800" y="6142680"/>
              <a:ext cx="41162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-19440" bIns="-19440" anchor="ctr">
              <a:no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 Box 8"/>
          <p:cNvSpPr/>
          <p:nvPr/>
        </p:nvSpPr>
        <p:spPr>
          <a:xfrm>
            <a:off x="6135840" y="6229440"/>
            <a:ext cx="278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矩形 5" descr=""/>
          <p:cNvPicPr/>
          <p:nvPr/>
        </p:nvPicPr>
        <p:blipFill>
          <a:blip r:embed="rId4"/>
          <a:stretch/>
        </p:blipFill>
        <p:spPr>
          <a:xfrm>
            <a:off x="6303960" y="5419800"/>
            <a:ext cx="2852640" cy="71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7CE22CD3-E25B-4B32-9235-0AECDF4E968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Rectangle 5"/>
          <p:cNvGrpSpPr/>
          <p:nvPr/>
        </p:nvGrpSpPr>
        <p:grpSpPr>
          <a:xfrm>
            <a:off x="4910040" y="6137280"/>
            <a:ext cx="4129200" cy="31680"/>
            <a:chOff x="4910040" y="6137280"/>
            <a:chExt cx="4129200" cy="31680"/>
          </a:xfrm>
        </p:grpSpPr>
        <p:pic>
          <p:nvPicPr>
            <p:cNvPr id="286" name="Rectangle 5" descr=""/>
            <p:cNvPicPr/>
            <p:nvPr/>
          </p:nvPicPr>
          <p:blipFill>
            <a:blip r:embed="rId3"/>
            <a:stretch/>
          </p:blipFill>
          <p:spPr>
            <a:xfrm>
              <a:off x="4910040" y="6137280"/>
              <a:ext cx="41292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4"/>
            <p:cNvSpPr/>
            <p:nvPr/>
          </p:nvSpPr>
          <p:spPr>
            <a:xfrm>
              <a:off x="4915800" y="6142680"/>
              <a:ext cx="41162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-19440" bIns="-19440" anchor="ctr">
              <a:no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8"/>
          <p:cNvSpPr/>
          <p:nvPr/>
        </p:nvSpPr>
        <p:spPr>
          <a:xfrm>
            <a:off x="6135840" y="6229440"/>
            <a:ext cx="278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矩形 5" descr=""/>
          <p:cNvPicPr/>
          <p:nvPr/>
        </p:nvPicPr>
        <p:blipFill>
          <a:blip r:embed="rId4"/>
          <a:stretch/>
        </p:blipFill>
        <p:spPr>
          <a:xfrm>
            <a:off x="6102360" y="5626080"/>
            <a:ext cx="2852640" cy="7192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6"/>
          <p:cNvSpPr/>
          <p:nvPr/>
        </p:nvSpPr>
        <p:spPr>
          <a:xfrm flipV="1" rot="10800000">
            <a:off x="5790960" y="5713920"/>
            <a:ext cx="289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无忧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5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7"/>
          <p:cNvSpPr/>
          <p:nvPr/>
        </p:nvSpPr>
        <p:spPr>
          <a:xfrm flipV="1" rot="10800000">
            <a:off x="5790960" y="5713920"/>
            <a:ext cx="289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6"/>
              </a:rPr>
              <a:t>无忧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8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8D7E-398C-436A-94D9-F49B60D319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F273-B22A-4562-83EF-383E81011D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6"/>
          <p:cNvSpPr/>
          <p:nvPr/>
        </p:nvSpPr>
        <p:spPr>
          <a:xfrm flipV="1" rot="10800000">
            <a:off x="5790960" y="5713920"/>
            <a:ext cx="289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无忧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5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1299292250&amp;tn=baiduimagedetail&amp;word=&#32972;&#26223;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41160402&amp;tn=baiduimagedetail&amp;word=&#32972;&#26223;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4716360" y="393372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郭沫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WordArt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84360" y="1000080"/>
            <a:ext cx="5754600" cy="258444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cc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cc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7" descr="g3"/>
          <p:cNvPicPr/>
          <p:nvPr/>
        </p:nvPicPr>
        <p:blipFill>
          <a:blip r:embed="rId2"/>
          <a:stretch/>
        </p:blipFill>
        <p:spPr>
          <a:xfrm>
            <a:off x="5181480" y="396252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g2"/>
          <p:cNvPicPr/>
          <p:nvPr/>
        </p:nvPicPr>
        <p:blipFill>
          <a:blip r:embed="rId3"/>
          <a:stretch/>
        </p:blipFill>
        <p:spPr>
          <a:xfrm>
            <a:off x="533520" y="3962520"/>
            <a:ext cx="3962160" cy="28954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g1"/>
          <p:cNvPicPr/>
          <p:nvPr/>
        </p:nvPicPr>
        <p:blipFill>
          <a:blip r:embed="rId4"/>
          <a:stretch/>
        </p:blipFill>
        <p:spPr>
          <a:xfrm>
            <a:off x="4267080" y="0"/>
            <a:ext cx="4191120" cy="36576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4" descr="m3"/>
          <p:cNvPicPr/>
          <p:nvPr/>
        </p:nvPicPr>
        <p:blipFill>
          <a:blip r:embed="rId5"/>
          <a:stretch/>
        </p:blipFill>
        <p:spPr>
          <a:xfrm>
            <a:off x="0" y="0"/>
            <a:ext cx="3276720" cy="396252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9"/>
          <p:cNvSpPr/>
          <p:nvPr/>
        </p:nvSpPr>
        <p:spPr>
          <a:xfrm>
            <a:off x="232560" y="380880"/>
            <a:ext cx="789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屈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1026" descr="郭沫若"/>
          <p:cNvPicPr/>
          <p:nvPr/>
        </p:nvPicPr>
        <p:blipFill>
          <a:blip r:embed="rId1"/>
          <a:stretch/>
        </p:blipFill>
        <p:spPr>
          <a:xfrm>
            <a:off x="0" y="1371600"/>
            <a:ext cx="3676680" cy="548640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1027"/>
          <p:cNvSpPr/>
          <p:nvPr/>
        </p:nvSpPr>
        <p:spPr>
          <a:xfrm>
            <a:off x="922320" y="212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郭沫若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29"/>
          <p:cNvSpPr/>
          <p:nvPr/>
        </p:nvSpPr>
        <p:spPr>
          <a:xfrm>
            <a:off x="3886200" y="533520"/>
            <a:ext cx="495288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隶书"/>
              </a:rPr>
              <a:t>郭沫若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89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978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: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作家、诗人、历史学家、剧作家、考古学家、古文字学家、社会活动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隶书"/>
              </a:rPr>
              <a:t>代表作：诗集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女神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历史剧 ：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屈原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棠棣之花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虎符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高渐离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南冠草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zhaopian-2-01"/>
          <p:cNvPicPr/>
          <p:nvPr/>
        </p:nvPicPr>
        <p:blipFill>
          <a:blip r:embed="rId1"/>
          <a:stretch/>
        </p:blipFill>
        <p:spPr>
          <a:xfrm>
            <a:off x="3809880" y="304920"/>
            <a:ext cx="2594160" cy="24382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" descr="人物照片"/>
          <p:cNvPicPr/>
          <p:nvPr/>
        </p:nvPicPr>
        <p:blipFill>
          <a:blip r:embed="rId2"/>
          <a:stretch/>
        </p:blipFill>
        <p:spPr>
          <a:xfrm>
            <a:off x="1447920" y="304920"/>
            <a:ext cx="2133360" cy="24382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4" descr="mmdd551d2000112223"/>
          <p:cNvPicPr/>
          <p:nvPr/>
        </p:nvPicPr>
        <p:blipFill>
          <a:blip r:embed="rId3"/>
          <a:stretch/>
        </p:blipFill>
        <p:spPr>
          <a:xfrm>
            <a:off x="6477120" y="228600"/>
            <a:ext cx="2438280" cy="38862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5"/>
          <p:cNvGrpSpPr/>
          <p:nvPr/>
        </p:nvGrpSpPr>
        <p:grpSpPr>
          <a:xfrm>
            <a:off x="6400800" y="4572000"/>
            <a:ext cx="2514600" cy="989280"/>
            <a:chOff x="6400800" y="4572000"/>
            <a:chExt cx="2514600" cy="989280"/>
          </a:xfrm>
        </p:grpSpPr>
        <p:grpSp>
          <p:nvGrpSpPr>
            <p:cNvPr id="756" name="Group 6"/>
            <p:cNvGrpSpPr/>
            <p:nvPr/>
          </p:nvGrpSpPr>
          <p:grpSpPr>
            <a:xfrm>
              <a:off x="6400800" y="4572000"/>
              <a:ext cx="2514600" cy="987840"/>
              <a:chOff x="6400800" y="4572000"/>
              <a:chExt cx="2514600" cy="987840"/>
            </a:xfrm>
          </p:grpSpPr>
          <p:sp>
            <p:nvSpPr>
              <p:cNvPr id="757" name="Rectangle 7"/>
              <p:cNvSpPr/>
              <p:nvPr/>
            </p:nvSpPr>
            <p:spPr>
              <a:xfrm>
                <a:off x="6400800" y="4572000"/>
                <a:ext cx="2514600" cy="98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ff33"/>
                    </a:solidFill>
                    <a:latin typeface="Times New Roman"/>
                    <a:ea typeface="_x000b__x000c_"/>
                  </a:rPr>
                  <a:t>在日本九州大学医学部学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8"/>
              <p:cNvSpPr/>
              <p:nvPr/>
            </p:nvSpPr>
            <p:spPr>
              <a:xfrm>
                <a:off x="6400800" y="4572000"/>
                <a:ext cx="2514600" cy="9878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Rectangle 9"/>
            <p:cNvSpPr/>
            <p:nvPr/>
          </p:nvSpPr>
          <p:spPr>
            <a:xfrm>
              <a:off x="6400800" y="4572000"/>
              <a:ext cx="2514600" cy="989280"/>
            </a:xfrm>
            <a:prstGeom prst="rect">
              <a:avLst/>
            </a:prstGeom>
            <a:noFill/>
            <a:ln cap="sq"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0" name="Picture 10" descr="mmdd551d2000112227"/>
          <p:cNvPicPr/>
          <p:nvPr/>
        </p:nvPicPr>
        <p:blipFill>
          <a:blip r:embed="rId4"/>
          <a:stretch/>
        </p:blipFill>
        <p:spPr>
          <a:xfrm>
            <a:off x="1295280" y="2819520"/>
            <a:ext cx="48006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61" name="Group 11"/>
          <p:cNvGrpSpPr/>
          <p:nvPr/>
        </p:nvGrpSpPr>
        <p:grpSpPr>
          <a:xfrm>
            <a:off x="990720" y="5715000"/>
            <a:ext cx="5410080" cy="1141560"/>
            <a:chOff x="990720" y="5715000"/>
            <a:chExt cx="5410080" cy="1141560"/>
          </a:xfrm>
        </p:grpSpPr>
        <p:grpSp>
          <p:nvGrpSpPr>
            <p:cNvPr id="762" name="Group 12"/>
            <p:cNvGrpSpPr/>
            <p:nvPr/>
          </p:nvGrpSpPr>
          <p:grpSpPr>
            <a:xfrm>
              <a:off x="990720" y="5715000"/>
              <a:ext cx="5410080" cy="1140120"/>
              <a:chOff x="990720" y="5715000"/>
              <a:chExt cx="5410080" cy="1140120"/>
            </a:xfrm>
          </p:grpSpPr>
          <p:sp>
            <p:nvSpPr>
              <p:cNvPr id="763" name="Rectangle 13"/>
              <p:cNvSpPr/>
              <p:nvPr/>
            </p:nvSpPr>
            <p:spPr>
              <a:xfrm>
                <a:off x="990720" y="5715000"/>
                <a:ext cx="541008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14"/>
              <p:cNvSpPr/>
              <p:nvPr/>
            </p:nvSpPr>
            <p:spPr>
              <a:xfrm>
                <a:off x="990720" y="5715000"/>
                <a:ext cx="5410080" cy="114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Rectangle 15"/>
            <p:cNvSpPr/>
            <p:nvPr/>
          </p:nvSpPr>
          <p:spPr>
            <a:xfrm>
              <a:off x="990720" y="5715000"/>
              <a:ext cx="5410080" cy="1141560"/>
            </a:xfrm>
            <a:prstGeom prst="rect">
              <a:avLst/>
            </a:prstGeom>
            <a:noFill/>
            <a:ln cap="sq"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33"/>
                  </a:solidFill>
                  <a:latin typeface="Times New Roman"/>
                  <a:ea typeface="_x000b__x000c_"/>
                </a:rPr>
                <a:t>1940</a:t>
              </a:r>
              <a:r>
                <a:rPr b="1" lang="zh-CN" sz="2800" spc="-1" strike="noStrike">
                  <a:solidFill>
                    <a:srgbClr val="66ff33"/>
                  </a:solidFill>
                  <a:latin typeface="Times New Roman"/>
                  <a:ea typeface="_x000b__x000c_"/>
                </a:rPr>
                <a:t>年与友人沈从文、</a:t>
              </a:r>
              <a:r>
                <a:rPr b="1" lang="zh-CN" sz="2800" spc="-1" strike="noStrike">
                  <a:solidFill>
                    <a:srgbClr val="66ff33"/>
                  </a:solidFill>
                  <a:latin typeface="Times New Roman"/>
                </a:rPr>
                <a:t>萧</a:t>
              </a:r>
              <a:r>
                <a:rPr b="1" lang="zh-CN" sz="2800" spc="-1" strike="noStrike">
                  <a:solidFill>
                    <a:srgbClr val="66ff33"/>
                  </a:solidFill>
                  <a:latin typeface="Times New Roman"/>
                  <a:ea typeface="_x000b__x000c_"/>
                </a:rPr>
                <a:t>珊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Times New Roman"/>
                  <a:ea typeface="_x000b__x000c_"/>
                </a:rPr>
                <a:t>张兆和、王树藏等在昆明西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Text Box 16"/>
          <p:cNvSpPr/>
          <p:nvPr/>
        </p:nvSpPr>
        <p:spPr>
          <a:xfrm>
            <a:off x="304920" y="304920"/>
            <a:ext cx="761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郭沫若相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5" descr="xin_7bdd7d6b8be54592a39df833d3e13554_2627_111601"/>
          <p:cNvPicPr/>
          <p:nvPr/>
        </p:nvPicPr>
        <p:blipFill>
          <a:blip r:embed="rId1"/>
          <a:stretch/>
        </p:blipFill>
        <p:spPr>
          <a:xfrm>
            <a:off x="304920" y="685800"/>
            <a:ext cx="3490920" cy="53341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l_91d"/>
          <p:cNvPicPr/>
          <p:nvPr/>
        </p:nvPicPr>
        <p:blipFill>
          <a:blip r:embed="rId2"/>
          <a:stretch/>
        </p:blipFill>
        <p:spPr>
          <a:xfrm>
            <a:off x="3886200" y="1066680"/>
            <a:ext cx="4952880" cy="46069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1027"/>
          <p:cNvSpPr/>
          <p:nvPr/>
        </p:nvSpPr>
        <p:spPr>
          <a:xfrm>
            <a:off x="2765160" y="3808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写作背景及意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28"/>
          <p:cNvSpPr/>
          <p:nvPr/>
        </p:nvSpPr>
        <p:spPr>
          <a:xfrm>
            <a:off x="304920" y="1143000"/>
            <a:ext cx="815328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屈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4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正是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抗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战争的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相持阶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半壁河山沦于敌手，国民党政府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消极抗日、积极反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悍然发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皖南事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郭沫若面对这样的政治现实义愤填膺，创作了历史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屈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以批判国民党反动派的黑暗统治，展示了现实世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光明与黑暗，正义与邪恶，爱国与卖国的尖锐斗争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起到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借古讽今，古为今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050"/>
          <p:cNvSpPr/>
          <p:nvPr/>
        </p:nvSpPr>
        <p:spPr>
          <a:xfrm>
            <a:off x="517680" y="1163520"/>
            <a:ext cx="809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屈原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在当年国民党统治的中心──重庆上演，产生过巨大的影响。尤其是“雷电颂”一幕中的独白，激起过许多爱国者的共鸣。每次演出都被观众爆发出的雷鸣般的掌声所淹没。这个剧最终被国民党当局禁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2051" descr="102"/>
          <p:cNvPicPr/>
          <p:nvPr/>
        </p:nvPicPr>
        <p:blipFill>
          <a:blip r:embed="rId1"/>
          <a:stretch/>
        </p:blipFill>
        <p:spPr>
          <a:xfrm>
            <a:off x="7956720" y="5734080"/>
            <a:ext cx="780840" cy="79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0" y="0"/>
            <a:ext cx="914400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睥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ì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n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ì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波澜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l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发泄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xi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鞺鞺鞳鞈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tāng t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污秽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hu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ì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稽首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qǐ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迸射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g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罪孽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i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脚镣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li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o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咆哮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o xi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o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眩目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xu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伫立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z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ù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木梗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gěng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驰骋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chěng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虐待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ü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雷霆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g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徘徊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 hu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忏悔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</a:rPr>
              <a:t>n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郢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ǐ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</a:rPr>
              <a:t>ng 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5"/>
          <p:cNvSpPr/>
          <p:nvPr/>
        </p:nvSpPr>
        <p:spPr>
          <a:xfrm>
            <a:off x="250920" y="365040"/>
            <a:ext cx="8893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睥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眼睛斜着看，形容高傲的样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虐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用残暴狠毒的手段待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播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摆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鞭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鞭打。比喻抨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雷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雷暴；霹雳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比喻威力或怒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228600" y="228600"/>
            <a:ext cx="8686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踌躇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犹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祈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一种宗教仪式，信仰宗教的人向神默告自己的愿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忏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向神表示悔过，请求宽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罪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迷信的人认为应受到报应的罪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驰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；奔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</a:rPr>
              <a:t>徘徊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在一个地方来回地走。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比喻犹疑不决。 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比喻事物在某个范围内浮动、起伏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</a:rPr>
              <a:t>咆哮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：形容水流的奔腾轰鸣，也形容人的暴怒喊叫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</a:rPr>
              <a:t>污秽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：不干净的东西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</a:rPr>
              <a:t>拖泥带水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：比喻说话、写文章不简洁或做事不干脆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4" descr="102"/>
          <p:cNvPicPr/>
          <p:nvPr/>
        </p:nvPicPr>
        <p:blipFill>
          <a:blip r:embed="rId1"/>
          <a:stretch/>
        </p:blipFill>
        <p:spPr>
          <a:xfrm>
            <a:off x="7667640" y="5734080"/>
            <a:ext cx="781200" cy="79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4"/>
          <p:cNvSpPr/>
          <p:nvPr/>
        </p:nvSpPr>
        <p:spPr>
          <a:xfrm>
            <a:off x="2268360" y="1628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屈原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2195640" y="6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话剧的基本知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2195640" y="263700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写作背景及作者介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2195640" y="3573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生字词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2195640" y="450864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感悟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2268360" y="5445000"/>
            <a:ext cx="25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精读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11" descr="circum"/>
          <p:cNvPicPr/>
          <p:nvPr/>
        </p:nvPicPr>
        <p:blipFill>
          <a:blip r:embed="rId2"/>
          <a:stretch/>
        </p:blipFill>
        <p:spPr>
          <a:xfrm>
            <a:off x="1547640" y="836640"/>
            <a:ext cx="594000" cy="4190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2" descr="circum"/>
          <p:cNvPicPr/>
          <p:nvPr/>
        </p:nvPicPr>
        <p:blipFill>
          <a:blip r:embed="rId3"/>
          <a:stretch/>
        </p:blipFill>
        <p:spPr>
          <a:xfrm>
            <a:off x="1547640" y="1773360"/>
            <a:ext cx="594000" cy="4190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3" descr="circum"/>
          <p:cNvPicPr/>
          <p:nvPr/>
        </p:nvPicPr>
        <p:blipFill>
          <a:blip r:embed="rId4"/>
          <a:stretch/>
        </p:blipFill>
        <p:spPr>
          <a:xfrm>
            <a:off x="1547640" y="2852640"/>
            <a:ext cx="594000" cy="4190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4" descr="circum"/>
          <p:cNvPicPr/>
          <p:nvPr/>
        </p:nvPicPr>
        <p:blipFill>
          <a:blip r:embed="rId5"/>
          <a:stretch/>
        </p:blipFill>
        <p:spPr>
          <a:xfrm>
            <a:off x="1547640" y="3716280"/>
            <a:ext cx="594000" cy="419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5" descr="circum"/>
          <p:cNvPicPr/>
          <p:nvPr/>
        </p:nvPicPr>
        <p:blipFill>
          <a:blip r:embed="rId6"/>
          <a:stretch/>
        </p:blipFill>
        <p:spPr>
          <a:xfrm>
            <a:off x="1547640" y="4581360"/>
            <a:ext cx="594000" cy="419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6" descr="circum"/>
          <p:cNvPicPr/>
          <p:nvPr/>
        </p:nvPicPr>
        <p:blipFill>
          <a:blip r:embed="rId7"/>
          <a:stretch/>
        </p:blipFill>
        <p:spPr>
          <a:xfrm>
            <a:off x="1547640" y="5516640"/>
            <a:ext cx="594000" cy="419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1033" descr="屈原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31"/>
          <p:cNvSpPr/>
          <p:nvPr/>
        </p:nvSpPr>
        <p:spPr>
          <a:xfrm>
            <a:off x="1692360" y="620640"/>
            <a:ext cx="64800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全剧分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橘颂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受诬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招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被囚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雷电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课文节选自第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五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幕的第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场，是全剧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高潮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034"/>
          <p:cNvSpPr/>
          <p:nvPr/>
        </p:nvSpPr>
        <p:spPr>
          <a:xfrm>
            <a:off x="6405480" y="129240"/>
            <a:ext cx="11858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剧情简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1028"/>
          <p:cNvSpPr/>
          <p:nvPr/>
        </p:nvSpPr>
        <p:spPr>
          <a:xfrm>
            <a:off x="533520" y="160020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午夜已经过去，黎明尚未来临时。靳尚前来布置和催促郑詹尹立即执行南后毒死屈原、纵火焚尸的密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地点在东皇太一庙正殿，神像林立，阴森可怖，给人以令人窒息的气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自然景象是雷电交加，狂风大作，无边的黑夜在颤动，在撕裂，在爆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029"/>
          <p:cNvSpPr/>
          <p:nvPr/>
        </p:nvSpPr>
        <p:spPr>
          <a:xfrm>
            <a:off x="457200" y="304920"/>
            <a:ext cx="632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亲近作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1045"/>
          <p:cNvSpPr/>
          <p:nvPr/>
        </p:nvSpPr>
        <p:spPr>
          <a:xfrm>
            <a:off x="971640" y="69228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1046" descr="屈原3"/>
          <p:cNvPicPr/>
          <p:nvPr/>
        </p:nvPicPr>
        <p:blipFill>
          <a:blip r:embed="rId2"/>
          <a:stretch/>
        </p:blipFill>
        <p:spPr>
          <a:xfrm>
            <a:off x="900000" y="1844640"/>
            <a:ext cx="5651640" cy="4241880"/>
          </a:xfrm>
          <a:prstGeom prst="rect">
            <a:avLst/>
          </a:prstGeom>
          <a:ln w="0">
            <a:noFill/>
          </a:ln>
        </p:spPr>
      </p:pic>
      <p:pic>
        <p:nvPicPr>
          <p:cNvPr id="786" name="雷电颂.mp3" descr=""/>
          <p:cNvPicPr/>
          <p:nvPr/>
        </p:nvPicPr>
        <p:blipFill>
          <a:blip r:embed="rId3"/>
          <a:stretch/>
        </p:blipFill>
        <p:spPr>
          <a:xfrm>
            <a:off x="7812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5798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900" spc="-1" strike="noStrike">
                <a:solidFill>
                  <a:srgbClr val="002760"/>
                </a:solidFill>
                <a:latin typeface="Arial"/>
              </a:rPr>
              <a:t>使用规范说明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3"/>
          <p:cNvSpPr/>
          <p:nvPr/>
        </p:nvSpPr>
        <p:spPr>
          <a:xfrm>
            <a:off x="304920" y="404640"/>
            <a:ext cx="88390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朗读全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注意不同句子，不同语段要用不同语气、语调、语速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问题探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与以往的课文相比，此文在形式上有什么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结合课文背景，根据你的理解，谈谈课文的主要内容和思想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4067280" y="41497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是屈原的内心独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5" descr="102"/>
          <p:cNvPicPr/>
          <p:nvPr/>
        </p:nvPicPr>
        <p:blipFill>
          <a:blip r:embed="rId1"/>
          <a:stretch/>
        </p:blipFill>
        <p:spPr>
          <a:xfrm>
            <a:off x="8362800" y="6066000"/>
            <a:ext cx="781200" cy="79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研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762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原的内心独白表达了哪两个方面的思想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现在课文的结构层次方面是怎样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304920" y="36212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一层次 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-8)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诗人呼唤与歌颂风雷电这些伟大的自然力，表达对黑暗的愤激和对光明的礼赞与向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539640" y="198108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课文表达了屈原歌颂风雷电、怒斥神祗的两方面的思想内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289080" y="5602320"/>
            <a:ext cx="87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二层次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(9-13)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借指斥神鬼偶像来抨击昏庸腐朽的当权者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02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研读赏析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027"/>
          <p:cNvSpPr/>
          <p:nvPr/>
        </p:nvSpPr>
        <p:spPr>
          <a:xfrm>
            <a:off x="609480" y="9810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屈原的独白写了哪些景象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029"/>
          <p:cNvSpPr/>
          <p:nvPr/>
        </p:nvSpPr>
        <p:spPr>
          <a:xfrm>
            <a:off x="539640" y="22924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风雷电，洞庭湖、东海、长江，有形的长剑、无形的长剑，没有阴谋，没有污秽、没有自私自利的没有人的小岛，“土偶木梗”的群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4"/>
          <p:cNvSpPr/>
          <p:nvPr/>
        </p:nvSpPr>
        <p:spPr>
          <a:xfrm>
            <a:off x="1187280" y="1197000"/>
            <a:ext cx="682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在写这些景象时，运用了什么手法？仔细分析一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1476360" y="3860640"/>
            <a:ext cx="49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象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1026" descr="屈原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1027"/>
          <p:cNvSpPr/>
          <p:nvPr/>
        </p:nvSpPr>
        <p:spPr>
          <a:xfrm>
            <a:off x="395280" y="765000"/>
            <a:ext cx="3024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雷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洞庭湖、东海、长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形的长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土偶木梗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阴谋、没有污秽、没有自私自利的没有人的小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1028"/>
          <p:cNvSpPr/>
          <p:nvPr/>
        </p:nvSpPr>
        <p:spPr>
          <a:xfrm>
            <a:off x="4140360" y="5493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世间追求正义、光明的变革力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029"/>
          <p:cNvSpPr/>
          <p:nvPr/>
        </p:nvSpPr>
        <p:spPr>
          <a:xfrm>
            <a:off x="4932720" y="155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民群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1030"/>
          <p:cNvSpPr/>
          <p:nvPr/>
        </p:nvSpPr>
        <p:spPr>
          <a:xfrm>
            <a:off x="4500720" y="22766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坚定的信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031"/>
          <p:cNvSpPr/>
          <p:nvPr/>
        </p:nvSpPr>
        <p:spPr>
          <a:xfrm>
            <a:off x="4500720" y="41497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社会现实极端憎恶而企求寄托灵魂的一方净土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032"/>
          <p:cNvSpPr/>
          <p:nvPr/>
        </p:nvSpPr>
        <p:spPr>
          <a:xfrm>
            <a:off x="3132000" y="105264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033"/>
          <p:cNvSpPr/>
          <p:nvPr/>
        </p:nvSpPr>
        <p:spPr>
          <a:xfrm>
            <a:off x="3419640" y="184464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035"/>
          <p:cNvSpPr/>
          <p:nvPr/>
        </p:nvSpPr>
        <p:spPr>
          <a:xfrm>
            <a:off x="3203640" y="3213000"/>
            <a:ext cx="1152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036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委婉曲折含蓄  化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抽象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具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形象可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037"/>
          <p:cNvSpPr/>
          <p:nvPr/>
        </p:nvSpPr>
        <p:spPr>
          <a:xfrm>
            <a:off x="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象征手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038"/>
          <p:cNvSpPr/>
          <p:nvPr/>
        </p:nvSpPr>
        <p:spPr>
          <a:xfrm>
            <a:off x="4500720" y="2997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无德无能，欺民惑众的官僚统治集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040"/>
          <p:cNvSpPr/>
          <p:nvPr/>
        </p:nvSpPr>
        <p:spPr>
          <a:xfrm>
            <a:off x="0" y="5300640"/>
            <a:ext cx="17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作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1041"/>
          <p:cNvSpPr/>
          <p:nvPr/>
        </p:nvSpPr>
        <p:spPr>
          <a:xfrm>
            <a:off x="3132000" y="2565360"/>
            <a:ext cx="111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042"/>
          <p:cNvSpPr/>
          <p:nvPr/>
        </p:nvSpPr>
        <p:spPr>
          <a:xfrm flipV="1">
            <a:off x="3276720" y="4652640"/>
            <a:ext cx="1092240" cy="4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3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971640" y="22860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抒情主人公通过呼唤风、雷、电表达了一种怎样的思想感情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684360" y="24922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对风雷电的呼唤与歌颂，表现了诗人对黑暗世界的强烈愤懑和摧毁黑暗的热望，也表明了诗人对光明未来的热烈追求。</a:t>
            </a: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话剧释义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话剧艺术，一般是指以对话和动作作为主要表现手段的戏剧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在欧洲各国，话剧被通称为戏剧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WordArt 2"/>
          <p:cNvSpPr txBox="1"/>
          <p:nvPr/>
        </p:nvSpPr>
        <p:spPr>
          <a:xfrm>
            <a:off x="971640" y="1916280"/>
            <a:ext cx="698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评点屈原的形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1e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990720" y="3886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爱国爱民，忠贞不屈，有着浩然正气和英勇无畏的斗争精神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4223880" y="2590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你认为屈原是一个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Picture 4" descr="z3"/>
          <p:cNvPicPr/>
          <p:nvPr/>
        </p:nvPicPr>
        <p:blipFill>
          <a:blip r:embed="rId1"/>
          <a:stretch/>
        </p:blipFill>
        <p:spPr>
          <a:xfrm>
            <a:off x="0" y="0"/>
            <a:ext cx="9144000" cy="2473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4"/>
          <p:cNvSpPr/>
          <p:nvPr/>
        </p:nvSpPr>
        <p:spPr>
          <a:xfrm>
            <a:off x="179280" y="404640"/>
            <a:ext cx="8474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屈原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正义和光明的化身。痛恨黑暗，向往光明，蔑视鬼神，鞭挞一切污秽，誓与丑恶奸佞们战斗到底。对风雷电的呼唤和歌颂，表现了他横扫一切邪恶的顽强战斗精神。虽桎梏加身，但不屈不挠，浩然正气凛然不可侵犯，充分表现了忠于祖国，热爱人民的高尚情操和崇高理想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屈原是正义和光明的化身，是战斗不屈的战士的形象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6" descr="s1"/>
          <p:cNvPicPr/>
          <p:nvPr/>
        </p:nvPicPr>
        <p:blipFill>
          <a:blip r:embed="rId2"/>
          <a:stretch/>
        </p:blipFill>
        <p:spPr>
          <a:xfrm>
            <a:off x="3352680" y="0"/>
            <a:ext cx="5232600" cy="68580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3"/>
          <p:cNvSpPr/>
          <p:nvPr/>
        </p:nvSpPr>
        <p:spPr>
          <a:xfrm>
            <a:off x="755640" y="1773360"/>
            <a:ext cx="5435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</a:rPr>
              <a:t>《</a:t>
            </a:r>
            <a:r>
              <a:rPr b="1" lang="zh-CN" sz="3700" spc="-1" strike="noStrike">
                <a:solidFill>
                  <a:srgbClr val="009900"/>
                </a:solidFill>
                <a:latin typeface="Times New Roman"/>
              </a:rPr>
              <a:t>雷电颂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</a:rPr>
              <a:t>》</a:t>
            </a:r>
            <a:r>
              <a:rPr b="1" lang="zh-CN" sz="3700" spc="-1" strike="noStrike">
                <a:solidFill>
                  <a:srgbClr val="009900"/>
                </a:solidFill>
                <a:latin typeface="Times New Roman"/>
              </a:rPr>
              <a:t>既然是屈原的内心独白，请找出最感兴趣的句子和段落，朗读给大家听，并说说这里写出了屈原怎样的内心情感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457200" y="5335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品昧语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4"/>
          <p:cNvSpPr/>
          <p:nvPr/>
        </p:nvSpPr>
        <p:spPr>
          <a:xfrm>
            <a:off x="1258920" y="981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风！你咆哮吧！咆哮吧！尽力地咆哮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1332000" y="299736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几句是对风的呼喊，流露出屈原对风的急切的渴盼，风是改变黑暗的变革力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4"/>
          <p:cNvSpPr/>
          <p:nvPr/>
        </p:nvSpPr>
        <p:spPr>
          <a:xfrm>
            <a:off x="971640" y="47628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）火！你在天边，你在眼前，你在我的四面，我知道你就是宇宙的生命，你就是我的生命，你就是我呀！我这熊熊地燃烧着的生命，我这快要使我全身炸裂的怒火，难道就不能迸射出光明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1258920" y="400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几句是屈原对光明的狂热的呼喊，表达了诗人对光明未来的热烈向往与追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4"/>
          <p:cNvSpPr/>
          <p:nvPr/>
        </p:nvSpPr>
        <p:spPr>
          <a:xfrm>
            <a:off x="611280" y="333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）把你这东皇太一烧毁了吧！把你这云中君烧毁了吧！你们这些土偶木梗，你们高坐在神位上有什么德能？你们只是产生黑暗的父亲和母亲。啊，你，你完全是一片假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755640" y="37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几句深刻地指出了产生社会黑暗的根源。表现了作者鞭挞一切污秽、横扫一切邪恶的顽强战斗精神，表现了他与黑暗势力决斗到底的浩然正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3" descr="屈原"/>
          <p:cNvPicPr/>
          <p:nvPr/>
        </p:nvPicPr>
        <p:blipFill>
          <a:blip r:embed="rId2"/>
          <a:stretch/>
        </p:blipFill>
        <p:spPr>
          <a:xfrm>
            <a:off x="5981760" y="990720"/>
            <a:ext cx="3162240" cy="586728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4"/>
          <p:cNvSpPr/>
          <p:nvPr/>
        </p:nvSpPr>
        <p:spPr>
          <a:xfrm>
            <a:off x="22860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雷电颂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独白激情澎湃，气象雄浑，作者是如何做到这一点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764280" y="1371600"/>
            <a:ext cx="2465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拟人兼呼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②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排比和反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③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用短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6"/>
          <p:cNvSpPr/>
          <p:nvPr/>
        </p:nvSpPr>
        <p:spPr>
          <a:xfrm>
            <a:off x="940320" y="2057400"/>
            <a:ext cx="389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爱憎表达最直接有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7"/>
          <p:cNvSpPr/>
          <p:nvPr/>
        </p:nvSpPr>
        <p:spPr>
          <a:xfrm>
            <a:off x="0" y="3657600"/>
            <a:ext cx="763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句式整齐，感情表达更强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8"/>
          <p:cNvSpPr/>
          <p:nvPr/>
        </p:nvSpPr>
        <p:spPr>
          <a:xfrm>
            <a:off x="0" y="53341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语气急促，情感激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WordArt 2"/>
          <p:cNvSpPr txBox="1"/>
          <p:nvPr/>
        </p:nvSpPr>
        <p:spPr>
          <a:xfrm>
            <a:off x="0" y="228600"/>
            <a:ext cx="2340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重温经典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2057400" y="2286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哈姆莱特独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5292720" y="98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英） 莎士比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304920" y="13413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存还是毁灭，这是一个值得考虑的问题；默然忍受命运的暴虐的毒箭，或是挺身反抗人世的无涯的苦难，通过斗争把它们扫清，这两种行为，哪一种更高贵？死了，睡着了什么都完了；要是在这一种睡眠当中，我们心头的创痛，以及其他无数血肉之躯所不能避免的打击，都可以从此消失，那正是我们求之不得的结局。死了，睡着了，睡着了也许还会做梦，阻碍就在这儿；因为当我们摆脱了这一具腐朽的皮囊以后，在那死的睡眠里，究竟将要做些什么梦，那不能不使我们踌躇顾虑。人们甘心久困于患难之中，也就是为了这个缘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2"/>
          <p:cNvSpPr/>
          <p:nvPr/>
        </p:nvSpPr>
        <p:spPr>
          <a:xfrm>
            <a:off x="685800" y="28195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与以前学过的郭沫若诗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天上的街市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静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相比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雷电颂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抒情方式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WordArt 3"/>
          <p:cNvSpPr txBox="1"/>
          <p:nvPr/>
        </p:nvSpPr>
        <p:spPr>
          <a:xfrm>
            <a:off x="826920" y="765000"/>
            <a:ext cx="583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对比引申，把握抒情方式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457200" y="1828800"/>
            <a:ext cx="79246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300" spc="-1" strike="noStrike">
                <a:solidFill>
                  <a:srgbClr val="0000ff"/>
                </a:solidFill>
                <a:latin typeface="Times New Roman"/>
              </a:rPr>
              <a:t>戏剧是由演员扮演角色，在舞台上当众表演故事情节的一种艺术。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戏剧的文学部分，通称剧本，是文学的一大类别，与诗歌、散文、小说并列。</a:t>
            </a:r>
            <a:br>
              <a:rPr sz="3300"/>
            </a:b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       戏剧的基本要素是</a:t>
            </a:r>
            <a:r>
              <a:rPr b="1" lang="zh-CN" sz="3300" spc="-1" strike="noStrike">
                <a:solidFill>
                  <a:srgbClr val="cc0000"/>
                </a:solidFill>
                <a:latin typeface="Times New Roman"/>
              </a:rPr>
              <a:t>矛盾冲突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，通过具体的舞台形象再现社会的生活斗争，激发观众强烈的情感反应，达到熏陶教育的目的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WordArt 3"/>
          <p:cNvSpPr txBox="1"/>
          <p:nvPr/>
        </p:nvSpPr>
        <p:spPr>
          <a:xfrm>
            <a:off x="2438280" y="533520"/>
            <a:ext cx="3888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戏剧知识推介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u=2628527076,1618357183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4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分析比较：郭沫若的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&lt;&lt;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天上的街市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&gt;&gt;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&lt;&lt;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静夜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&gt;&gt;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与本文的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250920" y="1844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上的街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是借景抒情，通过意象，隐隐流露出淡淡的忧伤，清幽、典雅、含蓄，节奏徐缓，音调和谐，想象贴切新颖，有着古典诗词的意境和韵味，如一首小夜曲，流过人们的心田，给人美的享受。“雷电颂”是“侮辱增加到最深度，彻底蹂躏诗人自尊的灵魂，，喷薄而出的诗。”它不仅是刻画屈原典型性格的最重要的一笔．是屈原斗争精神最突出的体现，而且它使全剧主题思想鲜明地突现出来。这篇散文诗，想像瑰丽奇特，把屈原和风雷电融为一体，达到物我同化的境地，显示了追求光明，毁灭一切黑暗的力量，使屈原的形象成为光明与正义的化身，塑造了千古不朽的爱国者的形象。所以感情鄙喷薄而出，不可阻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3" descr="u=52912102,1896979028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5562720"/>
            <a:ext cx="1492200" cy="111600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4"/>
          <p:cNvSpPr/>
          <p:nvPr/>
        </p:nvSpPr>
        <p:spPr>
          <a:xfrm>
            <a:off x="380880" y="1219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是一篇悲壮、慷慨、激昂的抒情独白。屈原召唤着风暴雷电等雄伟的自然力量，他与风暴雷电已完全融为一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让我们用自己最激越的感情，朗读课文，走进屈原丰富的内心世界，感受这雷与电的洗礼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WordArt 6"/>
          <p:cNvSpPr txBox="1"/>
          <p:nvPr/>
        </p:nvSpPr>
        <p:spPr>
          <a:xfrm>
            <a:off x="457200" y="457200"/>
            <a:ext cx="14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结束语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Bar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304920" y="304920"/>
            <a:ext cx="83818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布置作业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、练习三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、背诵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1-6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、拓展阅读历史剧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《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屈原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》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，全貌性感受作品的思想内容，写出内容，写出自己的心得体会。</a:t>
            </a: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1066680" y="12193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雷电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舞台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685800" y="2362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为舞台上屈原的动作、形象外貌作了必要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交代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，为读者理解下文的震天撼地的呼喊作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铺垫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4" descr="102"/>
          <p:cNvPicPr/>
          <p:nvPr/>
        </p:nvPicPr>
        <p:blipFill>
          <a:blip r:embed="rId2"/>
          <a:stretch/>
        </p:blipFill>
        <p:spPr>
          <a:xfrm>
            <a:off x="7667640" y="5734080"/>
            <a:ext cx="78120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矩形 5"/>
          <p:cNvSpPr/>
          <p:nvPr/>
        </p:nvSpPr>
        <p:spPr>
          <a:xfrm>
            <a:off x="1908000" y="950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3" descr="030124quyuan1"/>
          <p:cNvPicPr/>
          <p:nvPr/>
        </p:nvPicPr>
        <p:blipFill>
          <a:blip r:embed="rId1"/>
          <a:stretch/>
        </p:blipFill>
        <p:spPr>
          <a:xfrm>
            <a:off x="990720" y="304920"/>
            <a:ext cx="4647960" cy="556236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4"/>
          <p:cNvSpPr/>
          <p:nvPr/>
        </p:nvSpPr>
        <p:spPr>
          <a:xfrm>
            <a:off x="4136400" y="5943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，便是屈原，我国第一位伟大的爱国诗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WordArt 6"/>
          <p:cNvSpPr txBox="1"/>
          <p:nvPr/>
        </p:nvSpPr>
        <p:spPr>
          <a:xfrm rot="5400000">
            <a:off x="5371560" y="2095560"/>
            <a:ext cx="358164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屈原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屈原1"/>
          <p:cNvPicPr/>
          <p:nvPr/>
        </p:nvPicPr>
        <p:blipFill>
          <a:blip r:embed="rId2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380880" y="1295280"/>
            <a:ext cx="8305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屈原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名平，字原，又自云名正则，字灵均。我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位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伟大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爱国主义诗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战国时楚国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。他用楚辞的形式写了我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首政治抒情诗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离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因看透了秦国吞并六国的野心，力劝楚怀王齐抗秦，后来遭奸人陷害，罢官放逐，但心仍系国。楚国被攻后，自投汨罗江而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屈原3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3"/>
          <p:cNvSpPr/>
          <p:nvPr/>
        </p:nvSpPr>
        <p:spPr>
          <a:xfrm>
            <a:off x="2354760" y="5181480"/>
            <a:ext cx="42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99"/>
                </a:solidFill>
                <a:latin typeface="Arial"/>
                <a:ea typeface="华文隶书"/>
              </a:rPr>
              <a:t>屈 原 的 故 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09:07:13Z</dcterms:created>
  <dc:creator/>
  <dc:description/>
  <cp:keywords>幻灯片之家 http:/www.eeppt.com</cp:keywords>
  <dc:language>en-US</dc:language>
  <cp:lastModifiedBy/>
  <dcterms:modified xsi:type="dcterms:W3CDTF">2015-07-20T06:06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