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type.wav" ContentType="audio/x-wav"/>
  <Override PartName="/ppt/media/image6.png" ContentType="image/png"/>
  <Override PartName="/ppt/media/image7.jpeg" ContentType="image/jpeg"/>
  <Override PartName="/ppt/media/chimes.wav" ContentType="audio/x-wav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A64-FAD6-4776-8999-590D4B73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BBA-2EAF-4DBA-BE83-3FE77A99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499D-EB4F-48A8-B0D6-BF9BACBE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B423-77A6-4217-A0B3-FF46789E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7B27-30BB-43DF-87A4-079485F9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766C-9795-4F50-9717-5B92AF41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3078-0832-4989-BE22-81D7AE1A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D7C1-9CF5-4530-A750-8721F457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C194-951F-419C-8AC1-FC9D8D55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FA5D-A996-4E28-AE6A-BE024590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CBE4-1C26-4BA5-88FD-EB51381E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CD0-67FB-420D-AB16-D7747E7A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A483-928A-4335-BF2F-5CE2642B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82B4-8D29-4FB8-AE73-985144F6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B369-9219-423B-A246-A5FB79BA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1119-8BE8-4C57-8F88-2C8109B8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B3C4-D985-4A9F-9794-21E94CC6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957C-E3E6-4B45-B9C6-F2824B2E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968F-02BE-49DA-8B8D-B783AD00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332-8164-48EF-93B1-C5E8D4D0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889-6963-4D0A-A6A9-CA568F47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6D3-B8B2-4FC2-BE75-4B60D1A7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028-637C-497A-B1D6-5DDF8BC8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9924-9024-4797-8AEB-C5C5FFF9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8D7F-8467-477D-B37B-07427AC7F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133A-7DF5-440A-885B-AFA9FBD87F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.xml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0kwct09"/>
          <p:cNvPicPr/>
          <p:nvPr/>
        </p:nvPicPr>
        <p:blipFill>
          <a:blip r:embed="rId1"/>
          <a:stretch/>
        </p:blipFill>
        <p:spPr>
          <a:xfrm>
            <a:off x="0" y="0"/>
            <a:ext cx="6012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6" descr=""/>
          <p:cNvPicPr/>
          <p:nvPr/>
        </p:nvPicPr>
        <p:blipFill>
          <a:blip r:embed="rId2"/>
          <a:stretch/>
        </p:blipFill>
        <p:spPr>
          <a:xfrm>
            <a:off x="6870600" y="-6480"/>
            <a:ext cx="1382760" cy="6870960"/>
          </a:xfrm>
          <a:prstGeom prst="rect">
            <a:avLst/>
          </a:prstGeom>
          <a:ln w="0">
            <a:noFill/>
          </a:ln>
        </p:spPr>
      </p:pic>
      <p:sp>
        <p:nvSpPr>
          <p:cNvPr id="84" name="矩形 4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116000" y="105264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难道要违背人类的真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476360" y="227664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不要违背人类的真理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403280" y="342900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不能违背人类的真理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403280" y="450864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不可以违背人类的真理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691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亚里士多德曾经说过：“两个铁球，一个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磅重，一个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磅重，同时从高处落下来，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磅重的一定先着地，速度是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磅重的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倍。”这句话使伽利略产生了疑问。他想：如果这句话是正确的，那么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把这两个铁球拴在一起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，落得慢的就会拖住落得快的，落下的速度应当比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磅重的铁球慢；但是，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如果把拴在一起的两个铁球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看作一个整体，就有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磅重，落下的速度应当比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磅重的铁球快。这样从一个事实中却可以得出两个相反的结论，这怎么解释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1197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332000" y="314172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两个铁球，一个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磅重，一个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磅重。同时从高处落下来，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磅重的一定先着地，速度是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磅重的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95280" y="177336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华文行楷"/>
              </a:rPr>
              <a:t>亚里士多德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50920" y="189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5080" y="41040"/>
            <a:ext cx="59022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619280" y="5878440"/>
            <a:ext cx="561672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690560" y="6021360"/>
            <a:ext cx="5616720" cy="1443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 flipH="1">
            <a:off x="2304360" y="2349360"/>
            <a:ext cx="73080" cy="367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 rot="5400000">
            <a:off x="3799080" y="207000"/>
            <a:ext cx="36720" cy="432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2916360" y="1628640"/>
            <a:ext cx="718920" cy="71928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4465800" y="1917720"/>
            <a:ext cx="431640" cy="43164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68208E-006 L 2.77778E-007 0.51607 E">
                                      <p:cBhvr>
                                        <p:cTn id="34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52601E-006 L 1.38889E-006 0.51908 E">
                                      <p:cBhvr>
                                        <p:cTn id="3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5080" y="41040"/>
            <a:ext cx="59022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39640" y="1177920"/>
            <a:ext cx="7920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</a:t>
            </a:r>
            <a:r>
              <a:rPr b="1" lang="zh-CN" sz="3600" spc="-1" strike="noStrike">
                <a:solidFill>
                  <a:srgbClr val="ff33cc"/>
                </a:solidFill>
                <a:latin typeface="华文细黑"/>
                <a:ea typeface="华文细黑"/>
              </a:rPr>
              <a:t>如果亚里士多德的话是正确的，就可能产生两种结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476360" y="2687760"/>
            <a:ext cx="72756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把两个铁球拴在一起，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落得慢的就会拖住落得快的，落下的速度就会比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磅重的铁球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477800" y="4559400"/>
            <a:ext cx="7275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把拴在一起的两个铁球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看作一个整体，就有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磅重，落下的速度就会比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磅重的铁球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140360" y="3645000"/>
            <a:ext cx="792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 action="ppaction://hlinksldjump"/>
              </a:rPr>
              <a:t>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067280" y="5516640"/>
            <a:ext cx="936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9"/>
          <p:cNvGrpSpPr/>
          <p:nvPr/>
        </p:nvGrpSpPr>
        <p:grpSpPr>
          <a:xfrm>
            <a:off x="684360" y="2852640"/>
            <a:ext cx="718920" cy="1038240"/>
            <a:chOff x="684360" y="2852640"/>
            <a:chExt cx="718920" cy="1038240"/>
          </a:xfrm>
        </p:grpSpPr>
        <p:sp>
          <p:nvSpPr>
            <p:cNvPr id="137" name="Line 10"/>
            <p:cNvSpPr/>
            <p:nvPr/>
          </p:nvSpPr>
          <p:spPr>
            <a:xfrm>
              <a:off x="1044360" y="302580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1"/>
            <p:cNvSpPr/>
            <p:nvPr/>
          </p:nvSpPr>
          <p:spPr>
            <a:xfrm>
              <a:off x="684360" y="3171600"/>
              <a:ext cx="718920" cy="7192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2"/>
            <p:cNvSpPr/>
            <p:nvPr/>
          </p:nvSpPr>
          <p:spPr>
            <a:xfrm>
              <a:off x="928440" y="2852640"/>
              <a:ext cx="215640" cy="216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3"/>
          <p:cNvGrpSpPr/>
          <p:nvPr/>
        </p:nvGrpSpPr>
        <p:grpSpPr>
          <a:xfrm>
            <a:off x="684360" y="4653000"/>
            <a:ext cx="718920" cy="1038240"/>
            <a:chOff x="684360" y="4653000"/>
            <a:chExt cx="718920" cy="1038240"/>
          </a:xfrm>
        </p:grpSpPr>
        <p:sp>
          <p:nvSpPr>
            <p:cNvPr id="141" name="Line 14"/>
            <p:cNvSpPr/>
            <p:nvPr/>
          </p:nvSpPr>
          <p:spPr>
            <a:xfrm>
              <a:off x="1044360" y="482616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5"/>
            <p:cNvSpPr/>
            <p:nvPr/>
          </p:nvSpPr>
          <p:spPr>
            <a:xfrm>
              <a:off x="684360" y="4971960"/>
              <a:ext cx="718920" cy="719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6"/>
            <p:cNvSpPr/>
            <p:nvPr/>
          </p:nvSpPr>
          <p:spPr>
            <a:xfrm>
              <a:off x="928440" y="4653000"/>
              <a:ext cx="21564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7"/>
          <p:cNvSpPr/>
          <p:nvPr/>
        </p:nvSpPr>
        <p:spPr>
          <a:xfrm>
            <a:off x="4140360" y="4221000"/>
            <a:ext cx="72072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4067280" y="6093000"/>
            <a:ext cx="72072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2">
            <a:hlinkClick r:id="rId3" action="ppaction://hlinksldjump"/>
          </p:cNvPr>
          <p:cNvSpPr/>
          <p:nvPr/>
        </p:nvSpPr>
        <p:spPr>
          <a:xfrm>
            <a:off x="7740720" y="6165720"/>
            <a:ext cx="863640" cy="692280"/>
          </a:xfrm>
          <a:prstGeom prst="rightArrow">
            <a:avLst>
              <a:gd name="adj1" fmla="val 50000"/>
              <a:gd name="adj2" fmla="val 311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5080" y="41040"/>
            <a:ext cx="59022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619280" y="5878440"/>
            <a:ext cx="561672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690560" y="6021360"/>
            <a:ext cx="5616720" cy="1443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2304360" y="2349360"/>
            <a:ext cx="73080" cy="367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 rot="5400000">
            <a:off x="3799080" y="207000"/>
            <a:ext cx="36720" cy="432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"/>
          <p:cNvSpPr/>
          <p:nvPr/>
        </p:nvSpPr>
        <p:spPr>
          <a:xfrm>
            <a:off x="2881440" y="1630440"/>
            <a:ext cx="718920" cy="71892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9"/>
          <p:cNvGrpSpPr/>
          <p:nvPr/>
        </p:nvGrpSpPr>
        <p:grpSpPr>
          <a:xfrm>
            <a:off x="4788000" y="1311120"/>
            <a:ext cx="718920" cy="1038240"/>
            <a:chOff x="4788000" y="1311120"/>
            <a:chExt cx="718920" cy="1038240"/>
          </a:xfrm>
        </p:grpSpPr>
        <p:sp>
          <p:nvSpPr>
            <p:cNvPr id="155" name="Line 10"/>
            <p:cNvSpPr/>
            <p:nvPr/>
          </p:nvSpPr>
          <p:spPr>
            <a:xfrm>
              <a:off x="5148000" y="148428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1"/>
            <p:cNvSpPr/>
            <p:nvPr/>
          </p:nvSpPr>
          <p:spPr>
            <a:xfrm>
              <a:off x="4788000" y="1630080"/>
              <a:ext cx="718920" cy="7192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2"/>
            <p:cNvSpPr/>
            <p:nvPr/>
          </p:nvSpPr>
          <p:spPr>
            <a:xfrm>
              <a:off x="5032080" y="1311120"/>
              <a:ext cx="215640" cy="2160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17"/>
          <p:cNvSpPr/>
          <p:nvPr/>
        </p:nvSpPr>
        <p:spPr>
          <a:xfrm>
            <a:off x="5580000" y="378936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1+10</a:t>
            </a: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慢于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832 L 3.61111E-006 0.52208 E">
                                      <p:cBhvr>
                                        <p:cTn id="56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4624E-007 L 2.77778E-006 0.52647 E">
                                      <p:cBhvr>
                                        <p:cTn id="58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5080" y="41040"/>
            <a:ext cx="59022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619280" y="5878440"/>
            <a:ext cx="561672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690560" y="6021360"/>
            <a:ext cx="5616720" cy="1443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 flipH="1">
            <a:off x="2304360" y="2349360"/>
            <a:ext cx="73080" cy="367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 rot="5400000">
            <a:off x="3799080" y="207000"/>
            <a:ext cx="36720" cy="432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8"/>
          <p:cNvSpPr/>
          <p:nvPr/>
        </p:nvSpPr>
        <p:spPr>
          <a:xfrm>
            <a:off x="2881440" y="1630440"/>
            <a:ext cx="718920" cy="71892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9"/>
          <p:cNvGrpSpPr/>
          <p:nvPr/>
        </p:nvGrpSpPr>
        <p:grpSpPr>
          <a:xfrm>
            <a:off x="4788000" y="1311120"/>
            <a:ext cx="718920" cy="1038240"/>
            <a:chOff x="4788000" y="1311120"/>
            <a:chExt cx="718920" cy="1038240"/>
          </a:xfrm>
        </p:grpSpPr>
        <p:sp>
          <p:nvSpPr>
            <p:cNvPr id="167" name="Line 10"/>
            <p:cNvSpPr/>
            <p:nvPr/>
          </p:nvSpPr>
          <p:spPr>
            <a:xfrm>
              <a:off x="5148000" y="148428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1"/>
            <p:cNvSpPr/>
            <p:nvPr/>
          </p:nvSpPr>
          <p:spPr>
            <a:xfrm>
              <a:off x="4788000" y="1630080"/>
              <a:ext cx="718920" cy="719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2"/>
            <p:cNvSpPr/>
            <p:nvPr/>
          </p:nvSpPr>
          <p:spPr>
            <a:xfrm>
              <a:off x="5032080" y="1311120"/>
              <a:ext cx="215640" cy="21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7"/>
          <p:cNvSpPr/>
          <p:nvPr/>
        </p:nvSpPr>
        <p:spPr>
          <a:xfrm>
            <a:off x="5796000" y="3500280"/>
            <a:ext cx="33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cc"/>
                </a:solidFill>
                <a:latin typeface="黑体"/>
                <a:ea typeface="黑体"/>
              </a:rPr>
              <a:t>1+10</a:t>
            </a:r>
            <a:r>
              <a:rPr b="1" lang="zh-CN" sz="4800" spc="-1" strike="noStrike">
                <a:solidFill>
                  <a:srgbClr val="ff33cc"/>
                </a:solidFill>
                <a:latin typeface="黑体"/>
                <a:ea typeface="黑体"/>
              </a:rPr>
              <a:t>快于</a:t>
            </a:r>
            <a:r>
              <a:rPr b="1" lang="en-US" sz="4800" spc="-1" strike="noStrike">
                <a:solidFill>
                  <a:srgbClr val="ff33cc"/>
                </a:solidFill>
                <a:latin typeface="黑体"/>
                <a:ea typeface="黑体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832 L 3.61111E-006 0.52208 E">
                                      <p:cBhvr>
                                        <p:cTn id="7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416 L 2.77778E-006 0.52023 E">
                                      <p:cBhvr>
                                        <p:cTn id="72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1547640" y="220500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从</a:t>
            </a:r>
            <a:r>
              <a:rPr b="1" lang="zh-CN" sz="5400" spc="-1" strike="noStrike">
                <a:solidFill>
                  <a:srgbClr val="ff33cc"/>
                </a:solidFill>
                <a:latin typeface="Arial"/>
              </a:rPr>
              <a:t>一个事实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中却可以得出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两个相反的结论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，这怎么解释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325440" y="41400"/>
            <a:ext cx="59022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>
            <a:hlinkClick r:id="rId1" action="ppaction://hlinksldjump"/>
          </p:cNvPr>
          <p:cNvSpPr/>
          <p:nvPr/>
        </p:nvSpPr>
        <p:spPr>
          <a:xfrm>
            <a:off x="7956720" y="6308640"/>
            <a:ext cx="792000" cy="549360"/>
          </a:xfrm>
          <a:prstGeom prst="leftArrow">
            <a:avLst>
              <a:gd name="adj1" fmla="val 50000"/>
              <a:gd name="adj2" fmla="val 360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5080" y="41040"/>
            <a:ext cx="59022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79320" y="1773360"/>
            <a:ext cx="7925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伽利略带着这个疑问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反复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做了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许多次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试验，结果都证明亚里士多德的这句话的确说错了。两个不同重量的铁球同时从高处落下，总是同时着地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铁球往下落的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与铁球的轻重没有关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>
            <a:hlinkClick r:id="rId1" action="ppaction://hlinksldjump"/>
          </p:cNvPr>
          <p:cNvSpPr/>
          <p:nvPr/>
        </p:nvSpPr>
        <p:spPr>
          <a:xfrm>
            <a:off x="7885080" y="6237360"/>
            <a:ext cx="934920" cy="620640"/>
          </a:xfrm>
          <a:prstGeom prst="leftArrow">
            <a:avLst>
              <a:gd name="adj1" fmla="val 50000"/>
              <a:gd name="adj2" fmla="val 37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6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铁球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重的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443280" y="1773000"/>
            <a:ext cx="8650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铁球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同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着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413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327480" y="220968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2556000" y="1989000"/>
            <a:ext cx="30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产生疑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843280" y="306864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反复试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2843280" y="436572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公开试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616200" y="5451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2843280" y="5661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试验成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5"/>
          <p:cNvSpPr/>
          <p:nvPr/>
        </p:nvSpPr>
        <p:spPr>
          <a:xfrm>
            <a:off x="2195640" y="4149720"/>
            <a:ext cx="4392360" cy="144360"/>
          </a:xfrm>
          <a:prstGeom prst="rightArrow">
            <a:avLst>
              <a:gd name="adj1" fmla="val 50000"/>
              <a:gd name="adj2" fmla="val 76066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7"/>
          <p:cNvSpPr/>
          <p:nvPr/>
        </p:nvSpPr>
        <p:spPr>
          <a:xfrm>
            <a:off x="1116000" y="801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859280" y="1628640"/>
            <a:ext cx="410544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564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日生于意大利比萨，死于 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642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日。 是伟大的意大利物理学家和天文学家，科学革命的先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064200" y="404640"/>
            <a:ext cx="189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伽利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图片3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9144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有的说：“这个青年真是胆大妄为，竟想找亚里士多德的错处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有的说：“等会儿他就固执不了啦，事实是无情的，会让他丢尽了脸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读出人们对伽利略的轻视与嘲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5080" y="41040"/>
            <a:ext cx="59022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rcRect l="0" t="6490" r="10661" b="1192"/>
          <a:stretch/>
        </p:blipFill>
        <p:spPr>
          <a:xfrm>
            <a:off x="611280" y="0"/>
            <a:ext cx="8713800" cy="6524640"/>
          </a:xfrm>
          <a:prstGeom prst="rect">
            <a:avLst/>
          </a:prstGeom>
          <a:ln w="0">
            <a:noFill/>
          </a:ln>
        </p:spPr>
      </p:pic>
      <p:sp>
        <p:nvSpPr>
          <p:cNvPr id="197" name="Oval 8"/>
          <p:cNvSpPr/>
          <p:nvPr/>
        </p:nvSpPr>
        <p:spPr>
          <a:xfrm>
            <a:off x="3000240" y="577800"/>
            <a:ext cx="173160" cy="176400"/>
          </a:xfrm>
          <a:prstGeom prst="ellipse">
            <a:avLst/>
          </a:prstGeom>
          <a:gradFill rotWithShape="0">
            <a:gsLst>
              <a:gs pos="0">
                <a:srgbClr val="ccffff">
                  <a:alpha val="72156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3203640" y="189000"/>
            <a:ext cx="720720" cy="57600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2050920" y="0"/>
            <a:ext cx="2089440" cy="1052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2268360" y="0"/>
            <a:ext cx="2519640" cy="1052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2">
            <a:hlinkClick r:id="rId2" action="ppaction://hlinksldjump"/>
          </p:cNvPr>
          <p:cNvSpPr/>
          <p:nvPr/>
        </p:nvSpPr>
        <p:spPr>
          <a:xfrm>
            <a:off x="8101080" y="6381720"/>
            <a:ext cx="792000" cy="476280"/>
          </a:xfrm>
          <a:prstGeom prst="leftArrow">
            <a:avLst>
              <a:gd name="adj1" fmla="val 50000"/>
              <a:gd name="adj2" fmla="val 415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30" dur="10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5.55112E-017 1.38728E-006 L 5.55112E-017 0.72763 E">
                                      <p:cBhvr>
                                        <p:cTn id="134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62428E-006 L 1.66667E-006 0.73411 E">
                                      <p:cBhvr>
                                        <p:cTn id="136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62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联系生活，谈感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这时大家才明白，原来像亚里士多德这样的大哲学家，说的话也不是全都对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对伽利略的态度也发生了变化，会说些什么，做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不约而同的惊叹：“啊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…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会拍手叫好！把帽子抛向空中，相互拥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会说：“我们错怪了这个数学教授，这个年轻人真勇敢，能向亚里士多德提出疑问真了不起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整体感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66ff"/>
                </a:solidFill>
                <a:latin typeface="Arial"/>
              </a:rPr>
              <a:t>伽利略是一个（　　      ）的科学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32400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课文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伽利略做这个实验的意义是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伽利略做这个实验的意义不仅仅在于证明亚里士多德是错的，更重要的是使人们树立起正确的科学观，那就是不迷信权威，执着地追求真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50920" y="2349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想象一下，当伽利略试验结束从比萨斜塔上走下来时，人们围住他，会怎样说，怎样做。以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伽利略走下斜塔后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为题说一段话，注意对人物语言、动作的描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50920" y="692280"/>
            <a:ext cx="64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华文行楷"/>
              </a:rPr>
              <a:t>让想象插上翅膀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图片1"/>
          <p:cNvPicPr/>
          <p:nvPr/>
        </p:nvPicPr>
        <p:blipFill>
          <a:blip r:embed="rId1"/>
          <a:stretch/>
        </p:blipFill>
        <p:spPr>
          <a:xfrm>
            <a:off x="-108000" y="-603360"/>
            <a:ext cx="9612360" cy="79218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2195640" y="981000"/>
            <a:ext cx="2592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9"/>
          <p:cNvSpPr txBox="1"/>
          <p:nvPr/>
        </p:nvSpPr>
        <p:spPr>
          <a:xfrm>
            <a:off x="3276720" y="2133720"/>
            <a:ext cx="1871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106640" y="6334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图片2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8685360" y="333360"/>
            <a:ext cx="45864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8361360" y="1052640"/>
            <a:ext cx="4586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4911840" y="1922400"/>
            <a:ext cx="362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flipV="1" rot="10764000">
            <a:off x="4815720" y="1618560"/>
            <a:ext cx="43117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两千多年前希腊的哲学家，同时也是科学家。在生物学、生理学、医学等方面都有杰出的贡献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5148360" y="33336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亚里士多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971640" y="3213000"/>
            <a:ext cx="69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以自己喜欢的方式读课文</a:t>
            </a:r>
            <a:r>
              <a:rPr b="1" lang="en-US" sz="48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读准字音，读通句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0" y="1628640"/>
            <a:ext cx="41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华文行楷"/>
                <a:ea typeface="华文行楷"/>
              </a:rPr>
              <a:t>自读目标</a:t>
            </a:r>
            <a:r>
              <a:rPr b="1" lang="en-US" sz="6000" spc="-1" strike="noStrike">
                <a:solidFill>
                  <a:srgbClr val="ff33cc"/>
                </a:solidFill>
                <a:latin typeface="华文行楷"/>
                <a:ea typeface="华文行楷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981000"/>
            <a:ext cx="9144000" cy="14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95280" y="115920"/>
            <a:ext cx="47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两个铁球同时着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250920" y="47628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华文行楷"/>
              </a:rPr>
              <a:t>我会读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258920" y="2060640"/>
            <a:ext cx="7705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辩论</a:t>
            </a: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　信奉　违背　拖住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解释　宣布　固执　十磅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比萨城  伽利略  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胆大妄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07552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区别形近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31640" y="2421000"/>
            <a:ext cx="74278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辨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点一撇仔细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辩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中间有言来争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辫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找到丝线扎小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24000" y="476280"/>
            <a:ext cx="35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再读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900000" y="1628640"/>
            <a:ext cx="777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再读全文，课文讲的是谁的故  事？他是什么时期的哪国人？他做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2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画出使你深受启发的句子，反复读一读，并在文中写出自己的感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60120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楷体_GB2312"/>
              </a:rPr>
              <a:t>研读背景，感知人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915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伽利略在学校念书的时候，同学们称他为“辩论家”。他提出的问题很不寻常，常常使老师很难解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可见伽利略是一个（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善于思考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）科学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539640" y="170028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那时候，研究科学的人都信奉亚里士多德，把这位两千多年前的希腊哲学家的话当作不容更改的真理。谁要是怀疑亚里士多德，人们就会责备他：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你是什么意思？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黑体"/>
              </a:rPr>
              <a:t>难道要违背人类的真理吗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24000" y="47628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华文行楷"/>
              </a:rPr>
              <a:t>研读背景，感知人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7:54:49Z</dcterms:created>
  <dc:creator/>
  <dc:description/>
  <cp:keywords>幻灯片之家 http:/www.eeppt.com</cp:keywords>
  <dc:language>en-US</dc:language>
  <cp:lastModifiedBy/>
  <dcterms:modified xsi:type="dcterms:W3CDTF">2015-07-20T06:34:1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