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1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8.jpeg" ContentType="image/jpeg"/>
  <Override PartName="/ppt/media/image5.png" ContentType="image/png"/>
  <Override PartName="/ppt/media/camera.wav" ContentType="audio/x-wav"/>
  <Override PartName="/ppt/media/image12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832-C8DD-4541-967C-65502FB8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0C7-57C6-41E2-A593-2A8A9A17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319-8D9F-4B36-9829-F64CC659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5A5-B299-4B27-8FA7-C456F6AD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698C-0668-43D3-A719-EFDA64E6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E45C-8410-4A72-B939-71F0165C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ABC1-94A6-41F3-8EC7-330426D2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3327-E87E-4F34-B84E-A2AC9EB5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7FAE-F6E0-4137-8D78-E294C9F6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3933-9028-4B48-8BEC-E0EC64B3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9385-B647-4CC6-8EBF-33F05113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447-8012-4F9A-A548-CBDDA0A4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0EEC-18E7-445D-8088-8435A16B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5E55-25F7-4173-A7ED-409D0BAA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143D-F38B-43A1-B61A-BB2038B9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4CD3-DB08-4DE5-9919-27C6EAF5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4612-DBFF-4CE7-AAC9-1B198CF6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922-1C04-4698-9FDC-0122CC81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793C-8A45-44E2-B854-D1E9DEBA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490-FBBF-4275-8F34-E36645CF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B0A-356E-4C70-8D80-69F85B7F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883-684D-42C9-ACB6-168DA068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5B1-2E69-4B92-A547-969A3D0F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797-331F-46A1-AEB3-3B92710E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9503-713D-4C86-A131-C72A7B9C9E8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5D40-3D38-40E2-A774-C53F1BDC888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265,11,&#24187;&#28783;&#29255; 11" TargetMode="External"/><Relationship Id="rId6" Type="http://schemas.openxmlformats.org/officeDocument/2006/relationships/hyperlink" Target="257,2,&#24187;&#28783;&#29255; 2" TargetMode="External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64,10,&#24187;&#28783;&#29255; 10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256,1,&#24187;&#28783;&#29255; 1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camera.wav"/><Relationship Id="rId2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61,6,&#24187;&#28783;&#29255; 6" TargetMode="External"/><Relationship Id="rId2" Type="http://schemas.openxmlformats.org/officeDocument/2006/relationships/hyperlink" Target="262,7,&#24187;&#28783;&#29255; 7" TargetMode="External"/><Relationship Id="rId3" Type="http://schemas.openxmlformats.org/officeDocument/2006/relationships/hyperlink" Target="263,8,&#24187;&#28783;&#29255; 8" TargetMode="External"/><Relationship Id="rId4" Type="http://schemas.openxmlformats.org/officeDocument/2006/relationships/hyperlink" Target="261,7,&#24187;&#28783;&#29255; 7" TargetMode="External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hyperlink" Target="260,6,&#24187;&#28783;&#29255; 6" TargetMode="External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260,6,&#24187;&#28783;&#29255; 6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2670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20-1"/>
          <p:cNvPicPr/>
          <p:nvPr/>
        </p:nvPicPr>
        <p:blipFill>
          <a:blip r:embed="rId4"/>
          <a:stretch/>
        </p:blipFill>
        <p:spPr>
          <a:xfrm>
            <a:off x="900000" y="189000"/>
            <a:ext cx="45500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685800" y="13716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876920" y="-27000"/>
            <a:ext cx="38685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251760" y="3352680"/>
            <a:ext cx="850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许地山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872040" y="4648320"/>
            <a:ext cx="733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华文行楷"/>
                <a:hlinkClick r:id="rId5"/>
              </a:rPr>
              <a:t>简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0" y="6324480"/>
            <a:ext cx="167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华文行楷"/>
                <a:hlinkClick r:id="rId6"/>
              </a:rPr>
              <a:t>下一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623736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3200" y="184464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《落花生》精品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7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20-1"/>
          <p:cNvPicPr/>
          <p:nvPr/>
        </p:nvPicPr>
        <p:blipFill>
          <a:blip r:embed="rId1"/>
          <a:stretch/>
        </p:blipFill>
        <p:spPr>
          <a:xfrm>
            <a:off x="2666880" y="0"/>
            <a:ext cx="3765600" cy="56768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3954600" y="5638680"/>
            <a:ext cx="106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对，这是我对你们的希望。”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8077320" y="624852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华文行楷"/>
                <a:hlinkClick r:id="rId2"/>
              </a:rPr>
              <a:t>含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8720" y="5086440"/>
            <a:ext cx="611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4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qq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304920" y="0"/>
            <a:ext cx="88390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含义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人要做有用的人，不要做只讲体面而对别人没有好处的人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09480" y="3657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80880" y="3276720"/>
            <a:ext cx="84582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作业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联系本课内容，想想要怎样做一个有用的人，把想到的写下来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camera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14280" y="1752480"/>
            <a:ext cx="86011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374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【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许地山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】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1893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—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194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）现 代作家、学者。 名赞堃，字地山，笔名落华生。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192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年发表第一篇小说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命命鸟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，接着又发表了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具有朴实淳厚风格的散文名篇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落花生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。作品结集出版的有短篇小说集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缀网劳蛛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危巢坠简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，散文集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空山灵雨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，小说、剧本集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解放者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杂感集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，论著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印度文学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道教史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（上），以及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许地山选集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许地山文集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等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9907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作者简介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7620120" y="6278400"/>
            <a:ext cx="1523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60360" y="638172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b0ae6a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5"/>
          <p:cNvSpPr/>
          <p:nvPr/>
        </p:nvSpPr>
        <p:spPr>
          <a:xfrm>
            <a:off x="6516720" y="112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Picture 6" descr="20-1"/>
          <p:cNvPicPr/>
          <p:nvPr/>
        </p:nvPicPr>
        <p:blipFill>
          <a:blip r:embed="rId1"/>
          <a:stretch/>
        </p:blipFill>
        <p:spPr>
          <a:xfrm>
            <a:off x="5486400" y="0"/>
            <a:ext cx="2548080" cy="3124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0" y="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落花生名字的由来：</a:t>
            </a:r>
            <a:r>
              <a:rPr b="0" lang="zh-CN" sz="2800" spc="-1" strike="noStrike">
                <a:solidFill>
                  <a:srgbClr val="2c02c6"/>
                </a:solidFill>
                <a:latin typeface="Times New Roman"/>
                <a:ea typeface="华文新魏"/>
              </a:rPr>
              <a:t>陆地上的植物，几乎都在地上开花，地面上结果，唯独花生是在地上开花地面下结果，所以人们叫它落花生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2158920"/>
            <a:ext cx="8534160" cy="30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学习目标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2c02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体会父亲所说的话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华文新魏"/>
              </a:rPr>
              <a:t>，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从中学会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Arial"/>
                <a:ea typeface="华文新魏"/>
              </a:rPr>
              <a:t>要做对别人有用的人，不要做只讲体面而对别人没有好处的人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2c02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背诵自己喜欢的段落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2c02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理解课文内容，学习花生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Arial"/>
                <a:ea typeface="华文新魏"/>
              </a:rPr>
              <a:t>不求虚名，默默奉献</a:t>
            </a:r>
            <a:r>
              <a:rPr b="0" lang="zh-CN" sz="3600" spc="-1" strike="noStrike">
                <a:solidFill>
                  <a:srgbClr val="2c02c6"/>
                </a:solidFill>
                <a:latin typeface="Arial"/>
                <a:ea typeface="华文新魏"/>
              </a:rPr>
              <a:t>的品格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camera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8815-368D-44A2-BECA-C11719D86BB7}" type="slidenum">
              <a:t>3</a:t>
            </a:fld>
          </a:p>
        </p:txBody>
      </p:sp>
    </p:spTree>
  </p:cSld>
  <p:transition spd="med">
    <p:split dir="out" orient="vert"/>
    <p:sndAc>
      <p:stSnd>
        <p:snd r:embed="rId27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0" y="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快速阅读课文，回答下列问题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一、给下列红色的注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辟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          ）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榨</a:t>
            </a: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              ）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660033"/>
                </a:solidFill>
                <a:latin typeface="Times New Roman"/>
              </a:rPr>
              <a:t>爱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慕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            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宋体"/>
              </a:rPr>
              <a:t>二、看看课文围绕落花生讲了一些什么事情，然后完成这个填空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宋体"/>
              </a:rPr>
              <a:t>（按课文顺序填空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种花生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—</a:t>
            </a:r>
            <a:r>
              <a:rPr b="0" lang="en-US" sz="2800" spc="-1" strike="noStrike">
                <a:solidFill>
                  <a:srgbClr val="5b5249"/>
                </a:solidFill>
                <a:latin typeface="宋体"/>
              </a:rPr>
              <a:t>〉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（        ）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—</a:t>
            </a:r>
            <a:r>
              <a:rPr b="0" lang="en-US" sz="2800" spc="-1" strike="noStrike">
                <a:solidFill>
                  <a:srgbClr val="5b5249"/>
                </a:solidFill>
                <a:latin typeface="宋体"/>
              </a:rPr>
              <a:t>〉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（        ）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—</a:t>
            </a:r>
            <a:r>
              <a:rPr b="0" lang="en-US" sz="2800" spc="-1" strike="noStrike">
                <a:solidFill>
                  <a:srgbClr val="5b5249"/>
                </a:solidFill>
                <a:latin typeface="宋体"/>
              </a:rPr>
              <a:t>〉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（        ）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447920" y="1295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ì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419720" y="1295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zhà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447920" y="19051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m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438280" y="4876920"/>
            <a:ext cx="152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收花生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181480" y="4876920"/>
            <a:ext cx="1371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吃花生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09480" y="5486400"/>
            <a:ext cx="152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议花生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914400" y="1371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分小组细读全文，讨论思考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266688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我们兄弟姐妹是怎样评论花生的？父亲又是怎样说的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父亲拿什么来与花生进行对比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、父亲通过花生告诉了我们什么道理呢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4816440" cy="60958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3"/>
          <p:cNvSpPr/>
          <p:nvPr/>
        </p:nvSpPr>
        <p:spPr>
          <a:xfrm>
            <a:off x="990720" y="1676520"/>
            <a:ext cx="2209680" cy="1447560"/>
          </a:xfrm>
          <a:prstGeom prst="wedgeEllipseCallout">
            <a:avLst>
              <a:gd name="adj1" fmla="val 114800"/>
              <a:gd name="adj2" fmla="val 75768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味美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7086600" y="4114800"/>
            <a:ext cx="2057400" cy="1143000"/>
          </a:xfrm>
          <a:prstGeom prst="wedgeEllipseCallout">
            <a:avLst>
              <a:gd name="adj1" fmla="val -75925"/>
              <a:gd name="adj2" fmla="val -2527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可以榨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57200" y="4191120"/>
            <a:ext cx="3200400" cy="1981080"/>
          </a:xfrm>
          <a:prstGeom prst="wedgeEllipseCallout">
            <a:avLst>
              <a:gd name="adj1" fmla="val 48861"/>
              <a:gd name="adj2" fmla="val -27962"/>
            </a:avLst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花生的价钱便宜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都可以买来吃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都喜欢吃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这就是它的好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5867280" y="304920"/>
            <a:ext cx="3276720" cy="1523880"/>
          </a:xfrm>
          <a:prstGeom prst="wedgeEllipseCallout">
            <a:avLst>
              <a:gd name="adj1" fmla="val -35175"/>
              <a:gd name="adj2" fmla="val 78023"/>
            </a:avLst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 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谁能把花生的好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幼圆"/>
              </a:rPr>
              <a:t>说出来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camera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133720" y="0"/>
            <a:ext cx="6705360" cy="29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花生的好处很多，有一样最可贵，它的果实埋在地里，不像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宋体"/>
                <a:hlinkClick r:id="rId1"/>
              </a:rPr>
              <a:t>桃子、石榴、苹果</a:t>
            </a: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那样，把</a:t>
            </a:r>
            <a:r>
              <a:rPr b="0" lang="zh-CN" sz="4000" spc="-1" strike="noStrike">
                <a:solidFill>
                  <a:srgbClr val="00ff00"/>
                </a:solidFill>
                <a:latin typeface="宋体"/>
              </a:rPr>
              <a:t>鲜红嫩绿</a:t>
            </a: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的果实高高地挂在枝头上，使人一见就生爱慕之心。你们看它</a:t>
            </a:r>
            <a:r>
              <a:rPr b="0" lang="zh-CN" sz="4000" spc="-1" strike="noStrike">
                <a:solidFill>
                  <a:srgbClr val="00ff00"/>
                </a:solidFill>
                <a:latin typeface="宋体"/>
              </a:rPr>
              <a:t>矮矮地</a:t>
            </a: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长在地上，等到成熟了，也不能立刻分辨出来它有没不果实，必须挖出来才知道</a:t>
            </a:r>
            <a:r>
              <a:rPr b="0" lang="zh-CN" sz="4000" spc="-1" strike="noStrike">
                <a:solidFill>
                  <a:srgbClr val="5b524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43080" y="380880"/>
            <a:ext cx="549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-78480" y="304920"/>
            <a:ext cx="148176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第一次   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华文新魏"/>
                <a:ea typeface="华文新魏"/>
                <a:hlinkClick r:id="rId2"/>
              </a:rPr>
              <a:t>第二次        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华文新魏"/>
                <a:ea typeface="华文新魏"/>
                <a:hlinkClick r:id="rId3"/>
              </a:rPr>
              <a:t>第三次</a:t>
            </a:r>
            <a:r>
              <a:rPr b="0" lang="zh-CN" sz="4000" spc="-1" strike="noStrike">
                <a:solidFill>
                  <a:srgbClr val="663300"/>
                </a:solidFill>
                <a:latin typeface="Times New Roman"/>
              </a:rPr>
              <a:t>父亲的话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7772400" y="6278400"/>
            <a:ext cx="1371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华文行楷"/>
                <a:hlinkClick r:id="rId4"/>
              </a:rPr>
              <a:t>对比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48360" y="595008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5" name="camera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1295280" y="1752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3" descr="6e108e98-4748-4dec-9f47-d9a4a1611885"/>
          <p:cNvPicPr/>
          <p:nvPr/>
        </p:nvPicPr>
        <p:blipFill>
          <a:blip r:embed="rId1"/>
          <a:stretch/>
        </p:blipFill>
        <p:spPr>
          <a:xfrm>
            <a:off x="76320" y="7632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4419720" y="533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Picture 5" descr="hongjiangjunapple04"/>
          <p:cNvPicPr/>
          <p:nvPr/>
        </p:nvPicPr>
        <p:blipFill>
          <a:blip r:embed="rId2"/>
          <a:stretch/>
        </p:blipFill>
        <p:spPr>
          <a:xfrm>
            <a:off x="4724280" y="7632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304920" y="4343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Picture 7" descr="sl"/>
          <p:cNvPicPr/>
          <p:nvPr/>
        </p:nvPicPr>
        <p:blipFill>
          <a:blip r:embed="rId3"/>
          <a:stretch/>
        </p:blipFill>
        <p:spPr>
          <a:xfrm>
            <a:off x="76320" y="3348000"/>
            <a:ext cx="4572000" cy="3510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5791320" y="4191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Picture 9" descr="YW00054"/>
          <p:cNvPicPr/>
          <p:nvPr/>
        </p:nvPicPr>
        <p:blipFill>
          <a:blip r:embed="rId4"/>
          <a:stretch/>
        </p:blipFill>
        <p:spPr>
          <a:xfrm>
            <a:off x="5943600" y="3276720"/>
            <a:ext cx="3200400" cy="3581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"/>
          <p:cNvSpPr/>
          <p:nvPr/>
        </p:nvSpPr>
        <p:spPr>
          <a:xfrm>
            <a:off x="8001000" y="6400800"/>
            <a:ext cx="1447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华文行楷"/>
                <a:hlinkClick r:id="rId5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6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5b5249"/>
                </a:solidFill>
                <a:latin typeface="Arial"/>
              </a:rPr>
              <a:t>所以你们要像花生，它虽然不好看，可是很有用，不是外表好看而没有实用的东西。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3" descr="huasheng1"/>
          <p:cNvPicPr/>
          <p:nvPr/>
        </p:nvPicPr>
        <p:blipFill>
          <a:blip r:embed="rId1"/>
          <a:stretch/>
        </p:blipFill>
        <p:spPr>
          <a:xfrm>
            <a:off x="533520" y="3657600"/>
            <a:ext cx="4419360" cy="3152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ua1"/>
          <p:cNvPicPr/>
          <p:nvPr/>
        </p:nvPicPr>
        <p:blipFill>
          <a:blip r:embed="rId2"/>
          <a:stretch/>
        </p:blipFill>
        <p:spPr>
          <a:xfrm>
            <a:off x="5105520" y="3657600"/>
            <a:ext cx="396216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8077320" y="6278400"/>
            <a:ext cx="106668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华文行楷"/>
                <a:hlinkClick r:id="rId3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4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4:42:48Z</dcterms:created>
  <dc:creator/>
  <dc:description/>
  <cp:keywords>幻灯片之家 http:/www.eeppt.com</cp:keywords>
  <dc:language>en-US</dc:language>
  <cp:lastModifiedBy/>
  <dcterms:modified xsi:type="dcterms:W3CDTF">2015-07-03T11:36:18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