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490E1-F16E-4DDB-A75C-9C4A2B9F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3B348-F229-4A31-BA00-2E2AB73A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A1512-D6DB-40C8-8EBF-2EE4060D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D30A4-2924-403C-89BA-5DC048A3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90C60-4226-488F-BADE-92B89B8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B59BB-CEDA-427F-8D44-850B3EC1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FE2EF-A477-477A-BFB7-0853CF19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98DE9-927E-4FF5-8C74-834E9D3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C6238-48B8-4F90-997D-BC6E253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710EB-60EC-470B-9412-09B8E96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67969-B9BB-4DF9-99B1-3E900487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53BD3-8E34-46AF-AC0F-E38B9E0B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6D9E-2F80-4952-A016-59F846185B1A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826920" y="907920"/>
            <a:ext cx="4465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124000" y="31082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隶书"/>
              </a:rPr>
              <a:t>陈寿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5400" y="1486080"/>
            <a:ext cx="23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《隆中对》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164680" y="2030400"/>
            <a:ext cx="4569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益州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险塞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沃野千里，天府之土，高祖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以成帝业。刘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暗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张鲁在北，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国富而不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存恤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智能之士思得明君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02560" y="2440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险要的地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4674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凭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467480" y="3459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富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657600" y="342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昏庸懦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743200" y="4495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爱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85800" y="685800"/>
            <a:ext cx="7467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将军既帝室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胄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，信义著于四海，总揽英雄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思贤若渴，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跨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荆、益，保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岩阻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，西和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戎，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夷越，外结好孙权，内修政理；天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有变，则命一上将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荆州之军以向宛、洛，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军身率益州之众出于秦川，百姓孰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箪食壶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浆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以迎将军乎？诚于是，则霸业可成，汉室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兴矣。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832480" y="106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后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75652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占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765800" y="274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安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518280" y="361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带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07400" y="449568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谁 （用）箪盛着饭食（用）壶装着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724280" y="1905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险要的地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091960" y="1600200"/>
            <a:ext cx="495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先主曰：“善！”于是与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情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关羽、张飞等不悦，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曰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孤之有孔明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犹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鱼之有水也。愿诸君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复言。”羽飞乃止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23520" y="1982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感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185520" y="2995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解释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442320" y="398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好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858000" y="198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天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zhugeliang"/>
          <p:cNvPicPr/>
          <p:nvPr/>
        </p:nvPicPr>
        <p:blipFill>
          <a:blip r:embed="rId2"/>
          <a:stretch/>
        </p:blipFill>
        <p:spPr>
          <a:xfrm>
            <a:off x="304920" y="609480"/>
            <a:ext cx="2019240" cy="4267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74320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公元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207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年，刘备屡败，只好投靠刘表，寄居新野，势单力孤。渴求贤者辅佐其成就大业，于是三顾茅庐，问计于诸葛亮。诸葛亮被刘备的三顾之情所打动。这篇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隆中对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就是诸葛亮当时纵谈天下大事的一段记载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310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"/>
          <p:cNvSpPr/>
          <p:nvPr/>
        </p:nvSpPr>
        <p:spPr>
          <a:xfrm>
            <a:off x="3564000" y="19890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Avseq01.avi" descr=""/>
          <p:cNvPicPr/>
          <p:nvPr/>
        </p:nvPicPr>
        <p:blipFill>
          <a:blip r:embed="rId17"/>
          <a:stretch/>
        </p:blipFill>
        <p:spPr>
          <a:xfrm>
            <a:off x="990720" y="457200"/>
            <a:ext cx="76197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762120" y="152568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躬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陇亩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好为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梁父吟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身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八尺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每自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比于管仲、乐毅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人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莫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博陵崔州平，颖川徐庶元直与亮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善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谓为信然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06760" y="1935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亲自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14668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经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3720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只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671840" y="4906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说是确实这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886200" y="193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喜欢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819520" y="1935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田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770940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赞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638680" y="2925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当时的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068480"/>
            <a:ext cx="80010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时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屯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新野。徐庶见先主。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。谓先主曰：“诸葛孔明者，卧龙也，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愿见之乎？”先主曰：“君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来。”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曰：“此人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见，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屈致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将军宜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驾顾之。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27720" y="342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难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823120" y="4449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靠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391520" y="1477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器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38280" y="1523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驻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57200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委屈招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17220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268000" y="990720"/>
            <a:ext cx="4569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由是先主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诣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亮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三往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见。因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，曰：“汉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倾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奸臣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窃命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主上蒙尘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孤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度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德量力，欲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大义于天下，而智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浅短，遂用猖獗，至于今日。然志犹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谓计将安出？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20400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拜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1372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崩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90720" y="3382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估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019920" y="1371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191120" y="1371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总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343400" y="23623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窃取皇帝的命令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58128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伸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70866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停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882440" y="762120"/>
            <a:ext cx="5340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亮答曰：“自董卓已来，豪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起，跨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郡者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数。曹操比于袁绍，则名微而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寡，然操遂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绍，以弱为强者，非惟天时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抑亦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今操已拥百万之众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天子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令诸侯，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诚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不可与争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26200" y="1166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64960" y="2163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908800" y="3154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战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60380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谋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5160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确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400800" y="4191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挟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13920" y="855720"/>
            <a:ext cx="505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孙权据有江东，已历三世，国险而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附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贤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用，此可以为援而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图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荆州北据汉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沔，利尽南海，东连吴会，西通巴、蜀，此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武之国，而其主不能守，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殆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天所以资将军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将军岂有意乎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795000" y="129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依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88440" y="2233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被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029200" y="2286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谋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029200" y="4221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大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02:54:06Z</dcterms:created>
  <dc:creator/>
  <dc:description/>
  <cp:keywords>幻灯片之家 http:/www.eeppt.com</cp:keywords>
  <dc:language>en-US</dc:language>
  <cp:lastModifiedBy/>
  <dcterms:modified xsi:type="dcterms:W3CDTF">2015-07-17T15:02:23Z</dcterms:modified>
  <cp:revision>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