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projctor.wav" ContentType="audio/x-wav"/>
  <Override PartName="/ppt/media/image1.jpeg" ContentType="image/jpeg"/>
  <Override PartName="/ppt/media/image6.jpeg" ContentType="image/jpeg"/>
  <Override PartName="/ppt/media/chimes.wav" ContentType="audio/x-wav"/>
  <Override PartName="/ppt/media/image8.png" ContentType="image/pn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cashreg.wav" ContentType="audio/x-wav"/>
  <Override PartName="/ppt/media/image5.jpeg" ContentType="image/jpeg"/>
  <Override PartName="/ppt/media/image10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3033-BE32-4C27-93EE-7C8ACA9F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9EE4-F69F-462A-BAF4-45B7D769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04C0-618B-4107-9F9D-2C8CB84E4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D6CF-EADE-4003-828B-E1360373F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6AF2-639B-44DF-B8EF-0E137F3A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CEFD-F69B-4EF8-BF7B-D22D2E01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00D5-821A-4B52-B913-542ED782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2B95-C5EE-4207-B17D-FFBF8844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7619-DA27-40E9-BD02-5A8CA71D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86F1-1BE1-4FF9-98AC-26D3C999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EE7D-CC50-4502-90A4-FA51FE15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7347-8453-4081-BB71-4EE5CD9F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1A82-2BD7-4307-ACFB-D22E6622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639C-6A71-4956-8E0E-019B7AE1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7BEE-F9AC-43A3-8F90-467DDF11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1ADE-FC14-4445-A64C-7E1C5F5B5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58C0-1285-4464-97B9-D06E95D0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C51D-D9D6-4283-89A1-F1371739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C1B7-9E27-4CC0-9756-AC69B217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EAC5-287C-48D1-95B9-A2780289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8256-4CAE-4F06-BD27-EADF3FF0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F649-A8D7-43BC-A45A-763DBC31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94DD-1759-48E1-A5D2-7468D067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8898-1D2C-4B82-A44B-8F74998C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009E-CA24-47F4-BCC4-0A5FFEB88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9F38-8931-4B8D-AFB3-49D11268852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shreg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projctor.wav"/><Relationship Id="rId12" Type="http://schemas.openxmlformats.org/officeDocument/2006/relationships/audio" Target="../media/projctor.wav"/><Relationship Id="rId1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1258920" y="1341360"/>
            <a:ext cx="60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隆中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035160" y="3219480"/>
            <a:ext cx="281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司马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zhugeliang"/>
          <p:cNvPicPr/>
          <p:nvPr/>
        </p:nvPicPr>
        <p:blipFill>
          <a:blip r:embed="rId1"/>
          <a:stretch/>
        </p:blipFill>
        <p:spPr>
          <a:xfrm>
            <a:off x="468360" y="3068640"/>
            <a:ext cx="1727280" cy="3011400"/>
          </a:xfrm>
          <a:prstGeom prst="rect">
            <a:avLst/>
          </a:prstGeom>
          <a:ln w="0">
            <a:noFill/>
          </a:ln>
        </p:spPr>
      </p:pic>
      <p:sp>
        <p:nvSpPr>
          <p:cNvPr id="83" name="矩形 5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3413520" y="476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湖北襄阳古隆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rcRect l="0" t="0" r="0" b="95"/>
          <a:stretch/>
        </p:blipFill>
        <p:spPr>
          <a:xfrm>
            <a:off x="971640" y="1773360"/>
            <a:ext cx="720072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2843280" y="620280"/>
            <a:ext cx="42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作家作品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95280" y="2962800"/>
            <a:ext cx="830592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司马光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19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北宋著名的史学家，字君实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陕州夏县涑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楷体_GB2312"/>
              </a:rPr>
              <a:t>ù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水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今山西夏县司马营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，世称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涑水先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主持编撰的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资治通鉴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书，是中国封建社会中继司马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史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以后最优秀的一部通史巨著。对我国以后的史学发展起过巨大的影响。他一生著作甚多，主要有史学巨著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资治通鉴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温国文正司马公文集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028"/>
          <p:cNvSpPr/>
          <p:nvPr/>
        </p:nvSpPr>
        <p:spPr>
          <a:xfrm>
            <a:off x="250920" y="1844640"/>
            <a:ext cx="83534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资治通鉴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编年体史书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神宗以其“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鉴于往事，有资于治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，命名为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资治通鉴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按年代顺序排列实史，上起周威烈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公元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0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下至后周世宗显德六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公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59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记载了从战国到五代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36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间的历史，全书共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9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卷，另附目录及考异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卷，共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万字，是一部很有参考价值的历史巨著。司马光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治通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耗尽毕生精力，书成后两年，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8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逝世，终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29"/>
          <p:cNvSpPr/>
          <p:nvPr/>
        </p:nvSpPr>
        <p:spPr>
          <a:xfrm>
            <a:off x="2843280" y="404280"/>
            <a:ext cx="42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作家作品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3571560" y="1483200"/>
            <a:ext cx="13752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8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：诞生于琅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：因刘备三顾茅庐，而出山辅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：说服孙权抵御曹操于赤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1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：被封军师将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2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：被封蜀国丞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2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：讨伐南蛮，将其平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2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：上出师表，初出祁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2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：街亭失守，斩马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3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：发明木牛流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3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：病逝五丈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017600" y="33336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一代名相诸葛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诸葛亮"/>
          <p:cNvPicPr/>
          <p:nvPr/>
        </p:nvPicPr>
        <p:blipFill>
          <a:blip r:embed="rId1"/>
          <a:stretch/>
        </p:blipFill>
        <p:spPr>
          <a:xfrm>
            <a:off x="7236000" y="4581360"/>
            <a:ext cx="1593720" cy="197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2771640" y="907560"/>
            <a:ext cx="42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整体感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468360" y="249228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听读课文，识记字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文中提到了哪些人物？各自有哪些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理清文章结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圈点疑难，感知文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026"/>
          <p:cNvSpPr/>
          <p:nvPr/>
        </p:nvSpPr>
        <p:spPr>
          <a:xfrm>
            <a:off x="468360" y="1630440"/>
            <a:ext cx="81360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333399"/>
                </a:solidFill>
                <a:uFillTx/>
                <a:latin typeface="宋体"/>
              </a:rPr>
              <a:t>颍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川（      ）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宋体"/>
              </a:rPr>
              <a:t>猖蹶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汉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宋体"/>
              </a:rPr>
              <a:t>沔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      ）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宋体"/>
              </a:rPr>
              <a:t>挟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天子（      ）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存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宋体"/>
              </a:rPr>
              <a:t>恤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      ）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宋体"/>
              </a:rPr>
              <a:t>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越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333399"/>
                </a:solidFill>
                <a:uFillTx/>
                <a:latin typeface="宋体"/>
              </a:rPr>
              <a:t>胄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      ）  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宋体"/>
              </a:rPr>
              <a:t>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欲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宋体"/>
              </a:rPr>
              <a:t>信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大义（      ） 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宋体"/>
              </a:rPr>
              <a:t>诣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      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27"/>
          <p:cNvSpPr/>
          <p:nvPr/>
        </p:nvSpPr>
        <p:spPr>
          <a:xfrm>
            <a:off x="2268360" y="1916280"/>
            <a:ext cx="14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宋体"/>
              </a:rPr>
              <a:t>yǐ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29"/>
          <p:cNvSpPr/>
          <p:nvPr/>
        </p:nvSpPr>
        <p:spPr>
          <a:xfrm>
            <a:off x="5435640" y="1916280"/>
            <a:ext cx="30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宋体"/>
              </a:rPr>
              <a:t>chāng  ju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30"/>
          <p:cNvSpPr/>
          <p:nvPr/>
        </p:nvSpPr>
        <p:spPr>
          <a:xfrm>
            <a:off x="2484360" y="3860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宋体"/>
              </a:rPr>
              <a:t>x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31"/>
          <p:cNvSpPr/>
          <p:nvPr/>
        </p:nvSpPr>
        <p:spPr>
          <a:xfrm>
            <a:off x="6084720" y="5661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宋体"/>
              </a:rPr>
              <a:t>y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32"/>
          <p:cNvSpPr/>
          <p:nvPr/>
        </p:nvSpPr>
        <p:spPr>
          <a:xfrm>
            <a:off x="1835280" y="4724280"/>
            <a:ext cx="180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宋体"/>
              </a:rPr>
              <a:t>zhò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33"/>
          <p:cNvSpPr/>
          <p:nvPr/>
        </p:nvSpPr>
        <p:spPr>
          <a:xfrm>
            <a:off x="5148360" y="4724280"/>
            <a:ext cx="180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宋体"/>
              </a:rPr>
              <a:t>dà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34"/>
          <p:cNvSpPr/>
          <p:nvPr/>
        </p:nvSpPr>
        <p:spPr>
          <a:xfrm>
            <a:off x="2268360" y="285264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宋体"/>
              </a:rPr>
              <a:t>Miǎ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35"/>
          <p:cNvSpPr/>
          <p:nvPr/>
        </p:nvSpPr>
        <p:spPr>
          <a:xfrm>
            <a:off x="5724360" y="3789360"/>
            <a:ext cx="127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宋体"/>
              </a:rPr>
              <a:t>Ró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36"/>
          <p:cNvSpPr/>
          <p:nvPr/>
        </p:nvSpPr>
        <p:spPr>
          <a:xfrm>
            <a:off x="6012000" y="285264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宋体"/>
              </a:rPr>
              <a:t>xi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37"/>
          <p:cNvSpPr/>
          <p:nvPr/>
        </p:nvSpPr>
        <p:spPr>
          <a:xfrm>
            <a:off x="2556000" y="548640"/>
            <a:ext cx="42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积累字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38"/>
          <p:cNvSpPr/>
          <p:nvPr/>
        </p:nvSpPr>
        <p:spPr>
          <a:xfrm>
            <a:off x="3203640" y="5661000"/>
            <a:ext cx="180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宋体"/>
              </a:rPr>
              <a:t>shē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2771640" y="188280"/>
            <a:ext cx="42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整体感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95280" y="1125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文中提到了哪些主要人物？各自有哪些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50920" y="1773360"/>
            <a:ext cx="8686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曹操：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汉室丞相，已拥百万之众，挟天子而令诸侯（公元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年官渡之战击败袁绍，基本统一黄河流域；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207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年北征乌桓，取得胜利，为统一全国准备了条件。） 　　　　　　　　　　　　　　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孙权：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据有江东，已历三世（牢固地占有长江下游南部地区。）　　　　　　　　　　　　　　　　　　　　　　　　　　　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刘备：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出身于贩屦织席之辈（相继投靠陶谦、曹操，一度任豫州刺史；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199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年起兵攻打曹操失败，依附袁绍；次年因袁绍全军覆没，逃往荆州依附刘表，受排挤被送到新野小县屯兵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虽号称“帝室之胄”而二十余年流亡各地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2627280" y="333000"/>
            <a:ext cx="42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整体感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68360" y="1557360"/>
            <a:ext cx="828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理清文章结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95280" y="2708280"/>
            <a:ext cx="8280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部分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 ：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诸葛亮自比管仲、乐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部分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 ：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司马徽、徐庶推荐诸葛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部分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 ：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刘备往见，诸葛亮详陈对策及对诸葛亮的器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468360" y="184464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琅邪诸葛亮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寓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襄阳隆中，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比管仲、乐毅，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时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莫之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许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也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川徐庶与崔州平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谓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为</a:t>
            </a:r>
            <a:r>
              <a:rPr b="1" lang="zh-CN" sz="3600" spc="-1" strike="noStrike">
                <a:solidFill>
                  <a:srgbClr val="99cc00"/>
                </a:solidFill>
                <a:latin typeface="Times New Roman"/>
                <a:ea typeface="楷体_GB2312"/>
              </a:rPr>
              <a:t>信</a:t>
            </a: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州平，烈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子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7524720" y="1268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经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7308720" y="357336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只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3419640" y="4724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认为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  <a:ea typeface="楷体_GB2312"/>
              </a:rPr>
              <a:t>确实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这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203640" y="24922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当时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900000" y="587700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隐居隆中，抱负远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正面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侧面描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4572000" y="12682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居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5364000" y="249228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承认、同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2627280" y="188280"/>
            <a:ext cx="42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翻译课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1187280" y="126828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当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826920" y="357336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倒装句，宾语前置，“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时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莫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也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028"/>
          <p:cNvSpPr/>
          <p:nvPr/>
        </p:nvSpPr>
        <p:spPr>
          <a:xfrm>
            <a:off x="4284720" y="1989000"/>
            <a:ext cx="4321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当初，琅邪的诸葛亮居住在襄阳隆中，常常把自己与管仲、乐毅相提并论，当时的人没有谁承认这一点。只有颖川的徐庶和崔州平认为确实这样。州平，是烈的儿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29"/>
          <p:cNvSpPr/>
          <p:nvPr/>
        </p:nvSpPr>
        <p:spPr>
          <a:xfrm>
            <a:off x="2771640" y="475920"/>
            <a:ext cx="42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翻译课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30"/>
          <p:cNvSpPr/>
          <p:nvPr/>
        </p:nvSpPr>
        <p:spPr>
          <a:xfrm>
            <a:off x="324000" y="2060640"/>
            <a:ext cx="37447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琅邪诸葛亮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寓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襄阳隆中，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比管仲、乐毅，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时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莫之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也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颖川徐庶与崔州平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谓为信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州平，烈之子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900000" y="2781360"/>
            <a:ext cx="8425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堪爱南阳美丈夫，愿将弱主整匡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片言妙论三分定，一席高论自古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先取荆州为家业，后吞巴蜀建皇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要知鼎足为形势，须向茅庐指画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755640" y="765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猜一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395280" y="213372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刘备在荆州，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士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襄阳司马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徽曰：“儒生俗士，</a:t>
            </a:r>
            <a:r>
              <a:rPr b="1" lang="zh-CN" sz="3600" spc="-1" strike="noStrike">
                <a:solidFill>
                  <a:srgbClr val="99cc00"/>
                </a:solidFill>
                <a:latin typeface="Times New Roman"/>
                <a:ea typeface="楷体_GB2312"/>
              </a:rPr>
              <a:t>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识时务，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识时务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在乎俊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此间自有伏龙、凤雏。”备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谁，曰：“诸葛孔明、庞士元也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851280" y="1484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寻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5076720" y="155736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倒装句，状语后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2771640" y="2708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哪里，表反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6013080" y="27082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能够认清当前形势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250920" y="3789360"/>
            <a:ext cx="33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是一些杰出人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552240" y="4941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2771640" y="333000"/>
            <a:ext cx="42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翻译课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395280" y="1557360"/>
            <a:ext cx="8497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徐庶见备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新野。备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。庶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  <a:ea typeface="楷体_GB2312"/>
              </a:rPr>
              <a:t>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“诸葛孔明，卧龙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将军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  <a:ea typeface="楷体_GB2312"/>
              </a:rPr>
              <a:t>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愿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乎？”备曰：“君与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来。”庶曰：“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可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见，不可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屈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也。将军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宜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枉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驾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4067280" y="2060640"/>
            <a:ext cx="47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也许，是不是，表示推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95280" y="4005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靠近，前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3851280" y="1052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器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2627280" y="40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委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3851280" y="29973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一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3492360" y="522936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委屈自己的车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1187280" y="595008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未出茅庐，已声名远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侧面描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2700360" y="-360"/>
            <a:ext cx="42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翻译课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4932360" y="105264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对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5076720" y="40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应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5867280" y="4005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降低身份，屈尊相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7380360" y="450864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驾驶，乘坐车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6516720" y="515772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拜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1763640" y="213372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判断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3419640" y="400536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招致、引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468360" y="1557360"/>
            <a:ext cx="820908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3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刘备在荆州一带，在襄阳寻访司马徽。司马徽说：</a:t>
            </a:r>
            <a:r>
              <a:rPr b="1" lang="zh-CN" sz="30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3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一般的庸俗学士，哪里能认清当前形势，能够认清当前形势的是一些杰出人士。这一带有号称</a:t>
            </a:r>
            <a:r>
              <a:rPr b="1" lang="zh-CN" sz="3000" spc="-1" strike="noStrike">
                <a:solidFill>
                  <a:srgbClr val="333399"/>
                </a:solidFill>
                <a:latin typeface="Arial"/>
                <a:ea typeface="楷体_GB2312"/>
              </a:rPr>
              <a:t>‘</a:t>
            </a:r>
            <a:r>
              <a:rPr b="1" lang="zh-CN" sz="3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伏龙</a:t>
            </a:r>
            <a:r>
              <a:rPr b="1" lang="zh-CN" sz="3000" spc="-1" strike="noStrike">
                <a:solidFill>
                  <a:srgbClr val="333399"/>
                </a:solidFill>
                <a:latin typeface="Arial"/>
                <a:ea typeface="楷体_GB2312"/>
              </a:rPr>
              <a:t>’</a:t>
            </a:r>
            <a:r>
              <a:rPr b="1" lang="zh-CN" sz="3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、</a:t>
            </a:r>
            <a:r>
              <a:rPr b="1" lang="zh-CN" sz="3000" spc="-1" strike="noStrike">
                <a:solidFill>
                  <a:srgbClr val="333399"/>
                </a:solidFill>
                <a:latin typeface="Arial"/>
                <a:ea typeface="楷体_GB2312"/>
              </a:rPr>
              <a:t>‘</a:t>
            </a:r>
            <a:r>
              <a:rPr b="1" lang="zh-CN" sz="3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凤雏</a:t>
            </a:r>
            <a:r>
              <a:rPr b="1" lang="zh-CN" sz="3000" spc="-1" strike="noStrike">
                <a:solidFill>
                  <a:srgbClr val="333399"/>
                </a:solidFill>
                <a:latin typeface="Arial"/>
                <a:ea typeface="楷体_GB2312"/>
              </a:rPr>
              <a:t>’</a:t>
            </a:r>
            <a:r>
              <a:rPr b="1" lang="zh-CN" sz="3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的人士。</a:t>
            </a:r>
            <a:r>
              <a:rPr b="1" lang="zh-CN" sz="30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r>
              <a:rPr b="1" lang="zh-CN" sz="3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刘备问是谁，司马徽说：</a:t>
            </a:r>
            <a:r>
              <a:rPr b="1" lang="zh-CN" sz="30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3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是诸葛孔明和庞士元两人。</a:t>
            </a:r>
            <a:r>
              <a:rPr b="1" lang="zh-CN" sz="30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r>
              <a:rPr b="1" lang="zh-CN" sz="3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徐庶在新野见到刘备，刘备很器重他。徐庶对刘备说：</a:t>
            </a:r>
            <a:r>
              <a:rPr b="1" lang="zh-CN" sz="30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3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诸葛孔明，是卧龙啊，将军是不是愿意见到他？</a:t>
            </a:r>
            <a:r>
              <a:rPr b="1" lang="zh-CN" sz="30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r>
              <a:rPr b="1" lang="zh-CN" sz="3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刘备说：</a:t>
            </a:r>
            <a:r>
              <a:rPr b="1" lang="zh-CN" sz="30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3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您和他一起来。</a:t>
            </a:r>
            <a:r>
              <a:rPr b="1" lang="zh-CN" sz="30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r>
              <a:rPr b="1" lang="zh-CN" sz="3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徐庶说：</a:t>
            </a:r>
            <a:r>
              <a:rPr b="1" lang="zh-CN" sz="30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3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这个人只可以前去拜见，不可以委屈他前来，将军应当亲自去拜访他。</a:t>
            </a:r>
            <a:r>
              <a:rPr b="1" lang="zh-CN" sz="30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r>
              <a:rPr b="1" lang="zh-CN" sz="3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771640" y="259920"/>
            <a:ext cx="42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翻译课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647640" y="1773360"/>
            <a:ext cx="849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备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由是诣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亮，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往，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见。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因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，曰：“汉室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倾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奸臣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窃命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孤不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德量力，欲</a:t>
            </a:r>
            <a:r>
              <a:rPr b="1" lang="zh-CN" sz="32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义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下，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智术浅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遂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用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猖蹶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至于今日。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然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志犹未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君</a:t>
            </a:r>
            <a:r>
              <a:rPr b="1" lang="zh-CN" sz="32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计将安出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979640" y="1268280"/>
            <a:ext cx="18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前去、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866320" y="2421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崩溃，衰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7308720" y="22766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估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5508720" y="1197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708360" y="1197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总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4572000" y="234936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窃取皇帝的命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2050920" y="328464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通“伸”，伸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6012000" y="4221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停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2627280" y="188280"/>
            <a:ext cx="42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翻译课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2050920" y="4292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同“猖獗”，颠覆，失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7164360" y="4221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认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971640" y="126828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因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7524720" y="1197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隔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6443640" y="1197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于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4427640" y="5373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然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250920" y="422100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因，因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324000" y="1989000"/>
            <a:ext cx="8208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刘备于是去拜访诸葛亮，共去了三次，才见到。于是就叫旁边的人避开，说：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汉朝的统治崩溃，奸臣窃用皇帝的命令，我不衡量自己的德行能否服人，估计自己的力量能否胜人，想要在天下伸张大义，然而智慧与手段浅薄不足，就因此失败，到今天这个局面。然而志向还没有终止，您说该采取怎样的计策呢？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2771640" y="475920"/>
            <a:ext cx="42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翻译课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179280" y="1125360"/>
            <a:ext cx="8712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亮曰：今曹操已拥百万之众，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子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令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侯，此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可与争锋。孙权据有江东，已历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世，国险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民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贤能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此可与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可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也。荆州北据汉沔，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尽南海，东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吴会，西通巴蜀，此用武之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主不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守，此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所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资将军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258920" y="1628640"/>
            <a:ext cx="19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确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5580000" y="692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挟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2124000" y="2637000"/>
            <a:ext cx="16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依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5869440" y="2708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826920" y="35733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谋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324000" y="558972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差不多，大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2771640" y="187920"/>
            <a:ext cx="42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翻译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2987640" y="249228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形作名，指贤能者，德才兼备的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4859280" y="35733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物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4859280" y="45813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地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5076720" y="5661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表示手段或凭借、目的。相当于“用来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……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的东西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250920" y="1484280"/>
            <a:ext cx="842472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诸葛亮说：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现在曹操已拥有百万大军，挟持天子来号令诸侯，这确实是不能和他争雄的。孙权占据江东地区，已经经历了父兄三代的经营，地势险要而且百姓乐于依附，贤良而且有能力的人被他所用，这只可以结为外援而不可谋取也。荆州北面有汉水、沔水，一直到南海的物资都能得到，东面连接吴郡和会稽郡，西边连通巴、蜀二郡，这是兵家用武的地方，但是他的主人刘表却不能据守，这大概是上天所用来资助将军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2771640" y="333000"/>
            <a:ext cx="42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翻译课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395280" y="1197000"/>
            <a:ext cx="8424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益州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险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沃野千里，天府之土；刘璋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暗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张鲁在北，民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国富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知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存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智能之士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得明君。将军既帝室之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义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于四海，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跨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荆、益，保其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岩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抚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戎越，结好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权，内修政治，外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时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则霸业可成，汉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矣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826920" y="69228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险要的地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2627280" y="1700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富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6948360" y="62064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昏庸懦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5508720" y="17002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爱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428472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后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395280" y="3645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占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2268360" y="36450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险要的地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43280" y="364500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安抚和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635280" y="4581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时局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84360" y="5589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复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3419640" y="162864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表转折，相当于“却”、“但是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521964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信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6084720" y="270828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显明、显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2771640" y="218160"/>
            <a:ext cx="42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翻译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932840" y="1700280"/>
            <a:ext cx="5283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备曰：“善！”于是与亮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好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关羽、张飞不悦，备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之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孤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孔明，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鱼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水也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诸君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复言。”羽、飞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012000" y="1197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感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4500720" y="2276640"/>
            <a:ext cx="16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解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3348000" y="3284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好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7093080" y="836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名作状，一天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6443640" y="335772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希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1079640" y="5805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隆中对策，三分天下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侧面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395280" y="328464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用在主谓之间，取消句子的独立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3492360" y="450864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2771640" y="333000"/>
            <a:ext cx="42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翻译课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250920" y="1268280"/>
            <a:ext cx="8424720" cy="80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益州地势险要，有广阔肥沃的土地，是自然条件优越，物产丰饶，形势险固的地方，益州牧刘璋昏庸懦弱，张鲁占据汉中，在益州的北面，民众兴旺富裕、国家富足，但他不知道爱惜。有智谋才能的人都想得到贤明的君主。将军您既然是汉朝皇帝的后代，威信和义气闻名于天下，如果占据荆州、益州，守住险要的地势，安抚和睦边境少数民族，结好于孙权，对内修好政治，对外观察时局变化，那么霸业就可以完成，汉室就可以复兴了。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刘备说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好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于是和诸葛亮的感情一天天地亲密了。 关羽、张飞不高兴，刘备解释说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我有了孔明，就像鱼有了水一样。希望你们不要再说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关羽、张飞就不再说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771640" y="188280"/>
            <a:ext cx="42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翻译课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zhugeliang"/>
          <p:cNvPicPr/>
          <p:nvPr/>
        </p:nvPicPr>
        <p:blipFill>
          <a:blip r:embed="rId1"/>
          <a:stretch/>
        </p:blipFill>
        <p:spPr>
          <a:xfrm>
            <a:off x="3851280" y="4292640"/>
            <a:ext cx="1335240" cy="2325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255240" y="2781360"/>
            <a:ext cx="9115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鞠 躬 尽 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7961040" y="2852640"/>
            <a:ext cx="9115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死 而 后 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4423680" y="620640"/>
            <a:ext cx="483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顾频烦天下计，两朝开济老臣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出师未捷身先死，长使英雄泪满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4643280" y="1916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杜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蜀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1258920" y="263700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出师一表真名世，千载谁堪伯仲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4716360" y="3429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陆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书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250920" y="141300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第一部分在全文中的作用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771640" y="188280"/>
            <a:ext cx="42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阅读理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24000" y="227664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司马徽说诸葛孔明是“伏龙”、徐庶说诸葛亮是“卧龙”这两个词有什么含意？徐庶为什么要刘备亲自去拜访诸葛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468360" y="407664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    “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伏龙”“卧龙”的比喻形象地描绘了诸葛亮的超人才智，再一次表明他是一个隐居山野的非凡人物。在徐庶看来，“枉驾”才是得“宜”，“俱来”便为“屈致”，这就更突出了诸葛亮的才能。为下文“凡三往，乃见”埋下伏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3"/>
          <p:cNvSpPr/>
          <p:nvPr/>
        </p:nvSpPr>
        <p:spPr>
          <a:xfrm>
            <a:off x="2771640" y="188280"/>
            <a:ext cx="42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阅读理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50920" y="105264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刘备第三次拜访诸葛亮是态度和心情怎样？从哪些行动和语言里能看出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395280" y="20606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刘备说话简明得体，语气委婉有致，态度谦虚诚恳，流露出对汉室江山的焦虑之情。“凡三往，乃见”既说明了诸葛亮的谨慎性格，也说明了刘备的热心求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324000" y="386064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诸葛亮为什么要先分析曹操？摆了哪些事实？得出了什么结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324000" y="479736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因为曹操“已拥百万之众，挟天子而令诸侯” ，是刘备“欲信大义于天下”的头号敌人。用事实有力地肯定了曹操兵力雄厚，政治地位优越。得出强弱悬殊，难于为敌的结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2771640" y="188280"/>
            <a:ext cx="42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阅读理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250920" y="119700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接着从哪几个方面分析了孙权？结论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95280" y="20606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从政权、地利、人和等方面进行了分析。得出的结论是可以结为外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250920" y="335772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对刘备来说，荆州有哪些有利条件？诸葛亮是怎样暗示刘备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395280" y="45086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荆州的有利条件是物产丰富、军事要塞、刘表无能。所以诸葛亮“而其主不能守，此殆天所以资将军也”来暗示刘备，含蓄而有分寸，巧妙地将荆州可取、勿失良机的信息传达给了刘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2771640" y="259920"/>
            <a:ext cx="42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阅读理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324000" y="1484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为什么要分析益州？诸葛亮认为益州有哪些优越条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95280" y="299736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由于荆州四通八达，为兵家必争之地，所以只能作外围，不能做主要的根据地，因此最后分析了益州。益州的有利条件是：地势险要，易守难攻；天然粮仓，条件优越；政权动摇，民心已失。因此有机可乘，并且益州可以作为可靠的根据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4"/>
          <p:cNvSpPr/>
          <p:nvPr/>
        </p:nvSpPr>
        <p:spPr>
          <a:xfrm>
            <a:off x="289080" y="1341360"/>
            <a:ext cx="88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诸葛亮替刘备设计的政治蓝图是什么？诸葛亮为达到这个目的提出了什么战略方针？根据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611280" y="2421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政治蓝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611280" y="4581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根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5595480" y="2421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成霸业，兴汉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971640" y="6021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占据荆州和益州的必要性和可能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869040" y="3573360"/>
            <a:ext cx="14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战略方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2916360" y="3284640"/>
            <a:ext cx="58323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夺取荆州、益州，作为“霸业”的根基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结好孙权，联吴灭曹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抚和戎越，内修政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971640" y="530064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楷体_GB2312"/>
              </a:rPr>
              <a:t>不具备向东或向北发展的可能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3"/>
          <p:cNvSpPr/>
          <p:nvPr/>
        </p:nvSpPr>
        <p:spPr>
          <a:xfrm>
            <a:off x="2771640" y="259920"/>
            <a:ext cx="42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阅读探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14"/>
          <p:cNvSpPr/>
          <p:nvPr/>
        </p:nvSpPr>
        <p:spPr>
          <a:xfrm>
            <a:off x="2700360" y="3357720"/>
            <a:ext cx="71280" cy="12952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2771640" y="620280"/>
            <a:ext cx="42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阅读探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539640" y="177336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课文结尾为什么要写“关羽、张飞不悦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395280" y="314172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最后写“关羽、张飞不悦”，实际是从侧面表现刘备对诸葛亮的依赖。“犹鱼之有水来”的比喻，形象地解释了刘备得到诸葛亮后的满足心情，证明了诸葛亮的惊人才能的确名副其实，从而很自然地照应了开头的“自比管仲、乐毅”和人称“卧龙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324000" y="126828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结合具体语句，分析诸葛亮和刘备这两个人的人物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684360" y="328464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一个胸怀韬略，审时度势，高瞻远瞩，才智过人的谋臣形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765000" y="4437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刘备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755640" y="522936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　  一个胸怀大志，求贤若渴，礼贤下士，精于用人之道的英雄形象。</a:t>
            </a: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395280" y="2421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诸葛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2627280" y="333000"/>
            <a:ext cx="42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阅读探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0" y="148428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合历史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国演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谈谈你心目中这葛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324000" y="2924280"/>
            <a:ext cx="705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高傲、自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智慧的化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令人忧伤的悲剧人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镇定、神机、诡异、柔情、刚毅、尖锐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2627280" y="333000"/>
            <a:ext cx="42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我的感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8" descr="zhugeliang"/>
          <p:cNvPicPr/>
          <p:nvPr/>
        </p:nvPicPr>
        <p:blipFill>
          <a:blip r:embed="rId1"/>
          <a:stretch/>
        </p:blipFill>
        <p:spPr>
          <a:xfrm>
            <a:off x="7413480" y="4149720"/>
            <a:ext cx="1374840" cy="23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4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历史的天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886200" cy="48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暗淡了刀光剑影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去了鼓角铮鸣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眼前飞扬着一个个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鲜活的面容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湮没了黄尘古道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荒芜了烽火边城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月啊你带不走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一串串熟悉的姓名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兴亡谁人定啊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盛衰岂无凭啊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页风云散啊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幻了时空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4343400" y="1295280"/>
            <a:ext cx="415620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聚散皆是缘哪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离合总关情啊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担当生前事啊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何计身后评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江有意化作泪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江有情起歌声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历史的天空闪烁几颗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间一股英雄气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驰骋纵横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毛阿敏 历史的天空.wma" descr=""/>
          <p:cNvPicPr/>
          <p:nvPr/>
        </p:nvPicPr>
        <p:blipFill>
          <a:blip r:embed="rId1"/>
          <a:stretch/>
        </p:blipFill>
        <p:spPr>
          <a:xfrm>
            <a:off x="680400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三国演义"/>
          <p:cNvPicPr/>
          <p:nvPr/>
        </p:nvPicPr>
        <p:blipFill>
          <a:blip r:embed="rId2"/>
          <a:stretch/>
        </p:blipFill>
        <p:spPr>
          <a:xfrm>
            <a:off x="7391520" y="4800600"/>
            <a:ext cx="148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768" nodeType="clickEffect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1" dur="185713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748440" y="1295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3"/>
          <p:cNvSpPr/>
          <p:nvPr/>
        </p:nvSpPr>
        <p:spPr>
          <a:xfrm>
            <a:off x="1295280" y="1219320"/>
            <a:ext cx="152640" cy="60948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1447920" y="1066680"/>
            <a:ext cx="147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谓为信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谓先主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685800" y="37339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6"/>
          <p:cNvSpPr/>
          <p:nvPr/>
        </p:nvSpPr>
        <p:spPr>
          <a:xfrm>
            <a:off x="1219320" y="3429000"/>
            <a:ext cx="75960" cy="1143000"/>
          </a:xfrm>
          <a:custGeom>
            <a:avLst/>
            <a:gdLst>
              <a:gd name="textAreaLeft" fmla="*/ 48600 w 75960"/>
              <a:gd name="textAreaRight" fmla="*/ 7632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1653120" y="3429000"/>
            <a:ext cx="146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谓为信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欲信大义于天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信义著于四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684360" y="227664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9"/>
          <p:cNvSpPr/>
          <p:nvPr/>
        </p:nvSpPr>
        <p:spPr>
          <a:xfrm>
            <a:off x="1295280" y="2133720"/>
            <a:ext cx="152640" cy="990360"/>
          </a:xfrm>
          <a:custGeom>
            <a:avLst/>
            <a:gdLst>
              <a:gd name="textAreaLeft" fmla="*/ 97560 w 152640"/>
              <a:gd name="textAreaRight" fmla="*/ 153000 w 1526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1447920" y="1981080"/>
            <a:ext cx="190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遂用猖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此用武之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贤能为之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673920" y="5013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2"/>
          <p:cNvSpPr/>
          <p:nvPr/>
        </p:nvSpPr>
        <p:spPr>
          <a:xfrm>
            <a:off x="1258920" y="486900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1258920" y="479736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此用武之国                                   国险而民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民殷国富而不知存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去国怀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5"/>
          <p:cNvSpPr/>
          <p:nvPr/>
        </p:nvSpPr>
        <p:spPr>
          <a:xfrm>
            <a:off x="3564000" y="260280"/>
            <a:ext cx="31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一词多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3276720" y="9079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认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3276720" y="136224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对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……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8"/>
          <p:cNvSpPr/>
          <p:nvPr/>
        </p:nvSpPr>
        <p:spPr>
          <a:xfrm>
            <a:off x="3276720" y="1844640"/>
            <a:ext cx="17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因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9"/>
          <p:cNvSpPr/>
          <p:nvPr/>
        </p:nvSpPr>
        <p:spPr>
          <a:xfrm>
            <a:off x="3428280" y="2276640"/>
            <a:ext cx="235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运用，使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0"/>
          <p:cNvSpPr/>
          <p:nvPr/>
        </p:nvSpPr>
        <p:spPr>
          <a:xfrm>
            <a:off x="3276720" y="270828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任用，利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1"/>
          <p:cNvSpPr/>
          <p:nvPr/>
        </p:nvSpPr>
        <p:spPr>
          <a:xfrm>
            <a:off x="3780720" y="33051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的确，确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2"/>
          <p:cNvSpPr/>
          <p:nvPr/>
        </p:nvSpPr>
        <p:spPr>
          <a:xfrm>
            <a:off x="3419640" y="3789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通“伸”，伸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3"/>
          <p:cNvSpPr/>
          <p:nvPr/>
        </p:nvSpPr>
        <p:spPr>
          <a:xfrm>
            <a:off x="3492360" y="416880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诚信，信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4"/>
          <p:cNvSpPr/>
          <p:nvPr/>
        </p:nvSpPr>
        <p:spPr>
          <a:xfrm>
            <a:off x="3276720" y="467208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地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5"/>
          <p:cNvSpPr/>
          <p:nvPr/>
        </p:nvSpPr>
        <p:spPr>
          <a:xfrm>
            <a:off x="3276720" y="51055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地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6"/>
          <p:cNvSpPr/>
          <p:nvPr/>
        </p:nvSpPr>
        <p:spPr>
          <a:xfrm>
            <a:off x="4284720" y="539280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国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7"/>
          <p:cNvSpPr/>
          <p:nvPr/>
        </p:nvSpPr>
        <p:spPr>
          <a:xfrm>
            <a:off x="3565440" y="59119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国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8"/>
          <p:cNvSpPr/>
          <p:nvPr/>
        </p:nvSpPr>
        <p:spPr>
          <a:xfrm>
            <a:off x="6582240" y="1916280"/>
            <a:ext cx="16426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文言知识归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3059280" y="549360"/>
            <a:ext cx="47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24000" y="2133720"/>
            <a:ext cx="820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了解当时的天下形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积累字词，归纳文言知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理解诸葛亮的政治蓝图、远见卓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学习高度凝炼的语言，理解详略得当的选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分析刘备、诸葛亮的人物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学会正确评价历史人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3492360" y="40464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古今异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324000" y="1413000"/>
            <a:ext cx="5959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遂用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猖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此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可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援而不可图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北据汉沔，利尽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南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此殆天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所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将军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凡三往，乃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735480" y="1989000"/>
            <a:ext cx="67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古义：                                                     今义：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832680" y="2997360"/>
            <a:ext cx="53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古义：                                今义：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907200" y="4005360"/>
            <a:ext cx="52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古义：                              今义：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963360" y="501336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古义：                                          今义：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1403280" y="198900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同“猖獗”，颠覆、失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6407280" y="1916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凶猛放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2"/>
          <p:cNvSpPr/>
          <p:nvPr/>
        </p:nvSpPr>
        <p:spPr>
          <a:xfrm>
            <a:off x="1763640" y="2997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可以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5304600" y="2997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表可能，能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4"/>
          <p:cNvSpPr/>
          <p:nvPr/>
        </p:nvSpPr>
        <p:spPr>
          <a:xfrm>
            <a:off x="1919880" y="3933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南方近海地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5"/>
          <p:cNvSpPr/>
          <p:nvPr/>
        </p:nvSpPr>
        <p:spPr>
          <a:xfrm>
            <a:off x="4716360" y="400536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南中国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6"/>
          <p:cNvSpPr/>
          <p:nvPr/>
        </p:nvSpPr>
        <p:spPr>
          <a:xfrm>
            <a:off x="1763640" y="50133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用来用来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的东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7"/>
          <p:cNvSpPr/>
          <p:nvPr/>
        </p:nvSpPr>
        <p:spPr>
          <a:xfrm>
            <a:off x="6210360" y="5013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表因果关系的连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3"/>
          <p:cNvSpPr/>
          <p:nvPr/>
        </p:nvSpPr>
        <p:spPr>
          <a:xfrm>
            <a:off x="963360" y="602136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古义：                                          今义：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4"/>
          <p:cNvSpPr/>
          <p:nvPr/>
        </p:nvSpPr>
        <p:spPr>
          <a:xfrm>
            <a:off x="1692360" y="602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总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5"/>
          <p:cNvSpPr/>
          <p:nvPr/>
        </p:nvSpPr>
        <p:spPr>
          <a:xfrm>
            <a:off x="5992560" y="5969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平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3348000" y="26028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特殊句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179280" y="1413000"/>
            <a:ext cx="4664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人莫之许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欲信大义于天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诸葛孔明者，卧龙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此用武之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贤能为之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4276080" y="14842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宾语前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相当于：时人莫许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4399560" y="19162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状语后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相当于：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于天下信大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3895200" y="2349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判断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1"/>
          <p:cNvSpPr/>
          <p:nvPr/>
        </p:nvSpPr>
        <p:spPr>
          <a:xfrm>
            <a:off x="2671200" y="2708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判断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2"/>
          <p:cNvSpPr/>
          <p:nvPr/>
        </p:nvSpPr>
        <p:spPr>
          <a:xfrm>
            <a:off x="2671200" y="3213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被动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3"/>
          <p:cNvSpPr/>
          <p:nvPr/>
        </p:nvSpPr>
        <p:spPr>
          <a:xfrm>
            <a:off x="3635280" y="364500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通假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4"/>
          <p:cNvSpPr/>
          <p:nvPr/>
        </p:nvSpPr>
        <p:spPr>
          <a:xfrm>
            <a:off x="539640" y="4437000"/>
            <a:ext cx="35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欲信大义于天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3851280" y="443700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信，通“伸”，伸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3635280" y="501336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成语积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324000" y="595008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三顾茅庐      如鱼得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3203640" y="404640"/>
            <a:ext cx="38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中考前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79280" y="177336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边一副对联概括了诸葛亮一生的功绩，你能说出描写了他的哪些具体的事件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501480" y="3716280"/>
            <a:ext cx="8642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收二川，排八阵，六出七擒，五丈原前，点四十九盏明灯，一心只为酬三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取西蜀，定南蛮，东和北拒，中军帐里，变金木土爻神卦，水面偏能用火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  <p:sndAc>
      <p:stSnd>
        <p:snd r:embed="rId1" name="chimes.wav"/>
      </p:stSnd>
    </p:sndAc>
  </p:transition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2627280" y="1052640"/>
            <a:ext cx="36799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三顾：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三顾茅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1187280" y="2895480"/>
            <a:ext cx="323244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六出：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六出祁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5076720" y="4149720"/>
            <a:ext cx="3417840" cy="581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东和：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东和东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324000" y="260280"/>
            <a:ext cx="83818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收二川：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诸葛亮收复的蜀国两处根据地：东川、西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1187280" y="4221000"/>
            <a:ext cx="337680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北拒：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北拒曹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5105520" y="2895480"/>
            <a:ext cx="306684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七擒：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七擒孟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2987640" y="3573360"/>
            <a:ext cx="3888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排八阵：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摆设八卦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3142440" y="1863720"/>
            <a:ext cx="3838320" cy="58140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五丈原：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诸葛亮出征时病死的地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0"/>
          <p:cNvSpPr/>
          <p:nvPr/>
        </p:nvSpPr>
        <p:spPr>
          <a:xfrm>
            <a:off x="2268360" y="5084640"/>
            <a:ext cx="648036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点四十九盏明灯：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诸葛亮死时，点燃了四十九盏长明灯，祭神灵以求延续阳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1"/>
          <p:cNvSpPr/>
          <p:nvPr/>
        </p:nvSpPr>
        <p:spPr>
          <a:xfrm>
            <a:off x="3250800" y="6091200"/>
            <a:ext cx="4520160" cy="58140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酬三顾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报答刘备三顾茅庐的知遇之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2" descr="诸葛亮8"/>
          <p:cNvPicPr/>
          <p:nvPr/>
        </p:nvPicPr>
        <p:blipFill>
          <a:blip r:embed="rId1"/>
          <a:stretch/>
        </p:blipFill>
        <p:spPr>
          <a:xfrm>
            <a:off x="250920" y="5084640"/>
            <a:ext cx="1584360" cy="1470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cashreg.wav"/>
      </p:stSnd>
    </p:sndAc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539640" y="36450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丞相祠堂何处寻？锦官城外柏森森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映阶碧草自春色，隔叶黄鹂空好音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三顾频烦天下计，两朝开济老臣心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出师未捷身先死，长使英雄泪满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3276720" y="162864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蜀        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3780000" y="2852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杜   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3132000" y="260280"/>
            <a:ext cx="38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课外补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539640" y="63817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5" descr="武侯祠,成都旅游,成都武侯祠简介"/>
          <p:cNvPicPr/>
          <p:nvPr/>
        </p:nvPicPr>
        <p:blipFill>
          <a:blip r:embed="rId1"/>
          <a:stretch/>
        </p:blipFill>
        <p:spPr>
          <a:xfrm>
            <a:off x="468360" y="2276640"/>
            <a:ext cx="3384360" cy="385416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8"/>
          <p:cNvSpPr/>
          <p:nvPr/>
        </p:nvSpPr>
        <p:spPr>
          <a:xfrm>
            <a:off x="2916360" y="40464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成都武侯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4427640" y="1628640"/>
            <a:ext cx="403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三顾频烦天下计，                一番晤对古今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是已故的董必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6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游成都武侯祠的题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上联：“三顾频烦天下计”是借用杜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蜀相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的诗句。董老却抓住了诸葛亮一生中很关键的隆中对一事作为下联：“一番晤对古今情”。写得十分精彩，集诗、联、书、画为本体，令人叫绝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8" dur="3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539640" y="378936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早岁哪知世事艰，中原北望气如山。                         楼船雪夜瓜洲渡，铁马秋风大散关。                        塞上长城空自许，镜中衰鬓已先斑。    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出师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一表真名世，千载谁堪伯仲间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3132000" y="198900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书        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3635280" y="29242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陆   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3059280" y="549360"/>
            <a:ext cx="38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课外补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2"/>
          <p:cNvSpPr/>
          <p:nvPr/>
        </p:nvSpPr>
        <p:spPr>
          <a:xfrm>
            <a:off x="395280" y="1844640"/>
            <a:ext cx="829008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         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人们对诸葛亮的感受，大多来自历史小说</a:t>
            </a:r>
            <a:r>
              <a:rPr b="1" lang="en-US" sz="3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三国演义</a:t>
            </a:r>
            <a:r>
              <a:rPr b="1" lang="en-US" sz="3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，而历史中那个真实的诸葛亮就隐藏在我们熟悉的这个诸葛亮之后。不过，作家塑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造的艺术形象在读者欣赏时，可以依据自己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生活经验和审美意识提出独到新颖的见解。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谓“一千个人眼中有一千个哈姆雷特”，同样，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可以“一千个人眼中有一千个诸葛亮”！让我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多搜集和整理诸葛亮的故事，让我们自己心目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的那个“诸葛亮”成为最精彩的一个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WordArt 4"/>
          <p:cNvSpPr txBox="1"/>
          <p:nvPr/>
        </p:nvSpPr>
        <p:spPr>
          <a:xfrm>
            <a:off x="2843280" y="549360"/>
            <a:ext cx="367200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隶书"/>
              </a:rPr>
              <a:t>结束语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2"/>
          <p:cNvSpPr/>
          <p:nvPr/>
        </p:nvSpPr>
        <p:spPr>
          <a:xfrm>
            <a:off x="3348000" y="620640"/>
            <a:ext cx="38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本课作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468360" y="2097000"/>
            <a:ext cx="84582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积累字词及文学常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归纳文言知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背诵并默写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完成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尖兵题典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预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三顾茅庐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1087560" y="612612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987640" y="259920"/>
            <a:ext cx="42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时代背景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50920" y="360504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东汉末年朝廷政治日趋黑暗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官府徭役繁重、刑罚极其苛刻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广大人民陷于水深火热之中。这时，爆发了一场规模巨大的农民起义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黄巾起义。在镇压黄巾起义过程中产生和壮大起来的大小武装力量，为了取代东汉王朝，争夺势力范围，进行了勾心斗角的政治斗争和频繁的军事混战。在镇压黄巾起义中起家的曹操、刘备和孙坚，在多次战争中，一步步扩大势力。赤壁大战之后，形成了曹操、刘备和孙权三国鼎立的形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三国鼎立形势图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zhugeliang"/>
          <p:cNvPicPr/>
          <p:nvPr/>
        </p:nvPicPr>
        <p:blipFill>
          <a:blip r:embed="rId1"/>
          <a:stretch/>
        </p:blipFill>
        <p:spPr>
          <a:xfrm>
            <a:off x="539640" y="3500280"/>
            <a:ext cx="1338480" cy="28274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2268360" y="1484280"/>
            <a:ext cx="62485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公元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07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年，刘备屡败，只好投靠刘表，寄居新野，势单力孤。渴求贤者辅佐其成就大业，于是三顾茅庐，问计于诸葛亮。诸葛亮被刘备的三顾之情所打动，为他对当时的政治、军事形势做出了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2916360" y="404280"/>
            <a:ext cx="42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时代背景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268360" y="465300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黑体"/>
              </a:rPr>
              <a:t>“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对”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对策。古代臣子回答君王所问的政治、军事、经济方面的策略叫“对策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古隆中"/>
          <p:cNvPicPr/>
          <p:nvPr/>
        </p:nvPicPr>
        <p:blipFill>
          <a:blip r:embed="rId1"/>
          <a:stretch/>
        </p:blipFill>
        <p:spPr>
          <a:xfrm>
            <a:off x="1042920" y="1268280"/>
            <a:ext cx="7020000" cy="5265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3413520" y="476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湖北襄阳古隆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2:44:15Z</dcterms:created>
  <dc:creator/>
  <dc:description/>
  <cp:keywords>幻灯片之家 http:/www.eeppt.com</cp:keywords>
  <dc:language>en-US</dc:language>
  <cp:lastModifiedBy/>
  <dcterms:modified xsi:type="dcterms:W3CDTF">2015-07-20T06:36:2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