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type.wav" ContentType="audio/x-wav"/>
  <Override PartName="/ppt/media/image11.jpeg" ContentType="image/jpeg"/>
  <Override PartName="/ppt/media/chimes.wav" ContentType="audio/x-wav"/>
  <Override PartName="/ppt/media/image1.jpeg" ContentType="image/jpeg"/>
  <Override PartName="/ppt/media/coin.wav" ContentType="audio/x-wav"/>
  <Override PartName="/ppt/media/image3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0F10-5879-4F66-A9A1-CC8ED5896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4346-8AFB-4277-955F-3DB32873FE56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E7BE-2B20-48FD-9686-31F3E4DD606D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C91E-B25F-4692-A93E-2B46329BFB41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C165-887D-4443-A8A7-A769BF819D8F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A853-8443-4DCC-8D2E-BE49A84BCB32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37CD-DA20-456C-B326-69ACF22CA5E2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9757-E0A5-4B1E-A5CD-77467EFFACD3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E8AA-6603-4409-A537-DF1C1D052AB8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6B13-1697-49F9-A6E5-BE0EADE2DEC8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3A9A-AC83-450B-A2BC-BF0B9A5EB85D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8C9A-F3CC-4F64-93A3-90F017610528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67C6-EED4-4B72-AAB2-F341EF51729F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45A9-7956-4E9D-AFAC-A1D83CC278D9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8892-BD54-40DB-A061-3456BF19277B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F29F-FD09-49E9-8ACF-FA916826DDC7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0364-CD9E-49FD-9DA5-EB13AEA1F601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388B-64B0-4978-8963-8BDC810F7D9A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E87D-8F12-4BB1-8686-B9CF40B4A54B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7EEC-B306-4C66-AC39-6306919B0DCE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F2B7-8851-4233-ADE9-05624F5B9D6D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AA84-96C1-44FA-8248-2C96EEACC3E0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9D16-C0E6-49A4-B82D-FBD210D33157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7BF2-4DA0-45D8-9E94-721667BB62F2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C295-214A-43A9-9360-2BCB5E339EB3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CF8E-3029-4BCA-A0AB-52C9B4DD0AE7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63D3-9550-4FC0-A5B3-355A86A2DDBA}" type="slidenum">
              <a:rPr b="0" lang="en-US" sz="12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B6C-0EB8-4952-8F04-6D7D9A69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E45B-05AD-410F-8345-11539056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B7BB-0784-4C43-A046-E9723810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8285-312B-4FC8-A588-1191D0EC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C224-D011-4414-9237-2379D90E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17DF-630E-4BEB-A15D-D980422F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B954-E315-4F1B-9B51-BD02020E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21D8-2C5B-4611-8E53-266A17B3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395A-5B4C-489D-A400-2C670706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F313-3A91-45CF-9C8C-95802E86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140A-7E0E-4A32-9719-8E8B9E8E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6CF-6661-424E-AB8C-3B6FBE7A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DAB6-E8B2-4071-9AF4-EBBB7E48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B47C-C62B-4C05-A5C5-DDCC588F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24D9-AC32-43F6-9C8B-0F50576A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A714-DD1C-454E-AAE9-914837A0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0881-E608-45E6-BD79-7927F08C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72877-A903-4B4C-A7B0-9D613E6D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BEA9D-249C-4D37-AFE8-F717E52A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5DBFE-F35A-40BF-B18C-051BAAEA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D02C9-9DBA-4044-85B9-A428E1C4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5D998-8D19-4E44-BE92-D9B3A70D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D87-9218-475A-8EAB-48499B61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55FCA-2742-4C57-8FC7-D6AD026C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D8D8F-F6EC-4588-BE54-452E8EE0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7C0D4-4679-4E10-B329-B271A181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5E5D2-5C89-455D-A63D-373022E5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78ACF-F762-44B7-BA76-372002BC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A534D-5038-4B75-A276-684D6F99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F7724-EB0F-446F-AE8A-4D1DEEC2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5C7-9BCB-4AB0-90CB-393F4E72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D450-3DF5-48F6-AB28-88BCDDC5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2E7C-05FF-4595-B776-93B4FF51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9E3-0567-4436-A324-9A4CD4AC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837-5290-40FF-9B2A-5E62B43D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98E7-F862-4AB4-B0CA-CB145E1A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1EB2-783D-4FDA-B7CE-D21867EA1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32FC-1A5F-4122-B1C8-1C5C1668A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1A5E-785D-46D9-A54E-4EC23641FFA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oin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oin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oin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oin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19.xml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685800" y="1700280"/>
            <a:ext cx="79898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隆中对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完整版免费下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《隆中对》mp3音频课文朗读.mp3" descr=""/>
          <p:cNvPicPr/>
          <p:nvPr/>
        </p:nvPicPr>
        <p:blipFill>
          <a:blip r:embed="rId2"/>
          <a:stretch/>
        </p:blipFill>
        <p:spPr>
          <a:xfrm>
            <a:off x="795672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oi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2"/>
          <p:cNvSpPr txBox="1"/>
          <p:nvPr/>
        </p:nvSpPr>
        <p:spPr>
          <a:xfrm>
            <a:off x="2050920" y="2637000"/>
            <a:ext cx="40770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黑体"/>
              </a:rPr>
              <a:t>疏通文义</a:t>
            </a:r>
            <a:endParaRPr b="1" lang="en-US" sz="8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762120" y="836640"/>
            <a:ext cx="8381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亮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耕陇亩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好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梁父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身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八尺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比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管仲、乐毅，时人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许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。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博陵崔州平，颖川徐庶元直与亮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善，谓为 信然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660680" y="1413000"/>
            <a:ext cx="53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亲自                喜欢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111400" y="2349360"/>
            <a:ext cx="658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经常   跟                没有人   同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547640" y="3357720"/>
            <a:ext cx="695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只有                             友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598400" y="43657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认为     确实这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533520" y="685800"/>
            <a:ext cx="898524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先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新野。徐庶见先主。先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之。谓先主曰：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诸葛孔明者，卧龙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军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愿见之乎？”先主曰：“君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来。”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曰：“此人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见，不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屈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也。将军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宜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驾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之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12536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当时     驻扎                       器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011480" y="2101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判断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56640" y="3102120"/>
            <a:ext cx="714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可                             一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571840" y="40006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接近     委屈招来      应该屈驾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755640" y="5084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拜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月总结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精美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说课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80880" y="99072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由是先主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诣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亮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三往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乃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见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因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人，曰：“汉室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倾颓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，奸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窃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，主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蒙尘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孤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度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德量力，欲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大义于天下，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智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浅短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遂用猖獗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，至于今日。然志犹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已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，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谓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计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安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出？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771640" y="1484280"/>
            <a:ext cx="63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去拜访  总共      才  就叫人避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839400" y="249228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崩溃   盗用皇帝的政令  蒙受风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042920" y="3500280"/>
            <a:ext cx="72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估计          伸张               智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36480" y="443700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   就因此失败                     停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80880" y="53737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为   怎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463040" y="4730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概括前三段的内容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39640" y="1341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介绍诸葛亮的隐居生活和不平凡的抱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689480" y="2781360"/>
            <a:ext cx="388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徐庶向刘备推荐诸葛亮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611280" y="371628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刘备三顾茅庐，向诸葛亮请教复兴大计，并表示自己的决心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M3"/>
          <p:cNvPicPr/>
          <p:nvPr/>
        </p:nvPicPr>
        <p:blipFill>
          <a:blip r:embed="rId1"/>
          <a:stretch/>
        </p:blipFill>
        <p:spPr>
          <a:xfrm>
            <a:off x="7066080" y="4572000"/>
            <a:ext cx="2077920" cy="2286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、诸葛亮“每自比于管仲、乐毅”是否太狂？作者这样写是什么意图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并不“狂”。实际上诸葛亮的才能远高于管仲、乐毅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作者这样写是为了突出诸葛亮才能非凡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250920" y="18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学习前三段思考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oin.wav"/>
      </p:stSnd>
    </p:sndAc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、为什么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此人可就见，不可屈致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 将军宜枉驾顾之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25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暗示诸葛亮有大才，不会轻易投靠刘备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就见”才能表现出刘备的诚意，才有可能感动诸葛亮并赢得他的信任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oin.wav"/>
      </p:stSnd>
    </p:sndAc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13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、先主诣亮，“凡三往，乃见”，仅仅是表现刘备的求贤若渴吗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27082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、表现刘备的求贤若渴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、从侧面烘托诸葛亮的非凡才能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oin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064720" cy="189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奸臣窃命，主上蒙尘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的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奸臣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是谁？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主上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7572"/>
                </a:solidFill>
                <a:latin typeface="黑体"/>
                <a:ea typeface="黑体"/>
              </a:rPr>
              <a:t>是谁？这句话指的是什么事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997000"/>
            <a:ext cx="8167680" cy="21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奸臣”指曹操；“主上”指汉献帝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这句话指曹操逼迫汉献帝迁都许昌，挟天子而令诸侯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oin.wav"/>
      </p:stSnd>
    </p:sndAc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-360" y="549000"/>
            <a:ext cx="8893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滚滚长江东逝水，浪花淘尽英雄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三顾频繁天下计，一番晤对古今情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Arial"/>
                <a:ea typeface="黑体"/>
              </a:rPr>
              <a:t>画纸之上分天下，谈笑之间定乾坤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47548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Arial"/>
                <a:ea typeface="黑体"/>
              </a:rPr>
              <a:t>5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、刘备的“信大义于天下”具体是指什么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229600" cy="17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兴复汉室，统一中国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1" name="Picture 4" descr="bizhi1"/>
          <p:cNvPicPr/>
          <p:nvPr/>
        </p:nvPicPr>
        <p:blipFill>
          <a:blip r:embed="rId1"/>
          <a:srcRect l="0" t="4006" r="0" b="0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oin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179280" y="0"/>
            <a:ext cx="8964720" cy="64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课堂检测、解释字词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躬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耕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梁父吟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莫之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谓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信然     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先主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新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先主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r>
              <a:rPr b="1" lang="zh-CN" sz="3600" spc="-1" strike="noStrike">
                <a:solidFill>
                  <a:srgbClr val="c0c0c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君与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来</a:t>
            </a:r>
            <a:r>
              <a:rPr b="1" lang="zh-CN" sz="3600" spc="-1" strike="noStrike">
                <a:solidFill>
                  <a:srgbClr val="c0c0c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此人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屈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也</a:t>
            </a:r>
            <a:r>
              <a:rPr b="1" lang="zh-CN" sz="3600" spc="-1" strike="noStrike">
                <a:solidFill>
                  <a:srgbClr val="c0c0c0"/>
                </a:solidFill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将军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宜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驾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顾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先主遂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亮，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往 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德量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欲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大义于天下          遂用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猖獗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然志犹未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已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君谓计将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79280" y="0"/>
            <a:ext cx="89647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写出下列句子的大意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每自比于管仲、乐毅，时人莫之许也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此人可就见，不可屈致也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3.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将军岂愿见之乎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4.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 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将军宜枉驾顾之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孤不度德量力，欲信大义于天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24000" y="136800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他）常常把自己比作管仲、乐毅，当时的人人没有谁同意这一点 。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539640" y="2780280"/>
            <a:ext cx="835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这个人只能到他那里去拜访，不能委屈他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召他上门来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684360" y="436572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将军是否愿意见他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956680" y="551556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您应当屈尊亲自去拜访他。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835640" y="762120"/>
            <a:ext cx="5402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亮答曰：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自董卓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已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来，豪杰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并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起，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跨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州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郡者不可胜数。曹操比于袁绍，则名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微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而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寡，然操遂能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克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绍，以弱为强者，非惟天时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抑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亦人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谋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也。今操已拥百万之众，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挟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天子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令诸侯，此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诚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不可与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争锋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836880" y="1268280"/>
            <a:ext cx="53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　　一起   占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300720" y="2276640"/>
            <a:ext cx="14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819520" y="3141720"/>
            <a:ext cx="12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战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50920" y="414972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而且   谋划                   挟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2268360" y="5229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的确     争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1865520" y="765000"/>
            <a:ext cx="5752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孙权据有江东，已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历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三世，国险而民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附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，贤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为之用，此可以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为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援而不可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图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也。荆州北据汉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沔，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利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尽南海，东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连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吴会，西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通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巴、蜀，此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武之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，而其主不能守，此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殆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天所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以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资将军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将军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岂有意乎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4433760" y="1197000"/>
            <a:ext cx="36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经历 　　　　　 归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116000" y="220500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作为 　　谋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39640" y="3213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物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 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连接      到达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-121320" y="4149720"/>
            <a:ext cx="78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地方                大概    用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826920" y="515772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可有意思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008440" y="1114560"/>
            <a:ext cx="5057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益州</a:t>
            </a:r>
            <a:r>
              <a:rPr b="1" lang="zh-CN" sz="4000" spc="-1" strike="noStrike">
                <a:solidFill>
                  <a:srgbClr val="cc0066"/>
                </a:solidFill>
                <a:latin typeface="Times New Roman"/>
                <a:ea typeface="黑体"/>
              </a:rPr>
              <a:t>险塞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，沃野千里，天府之土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高祖</a:t>
            </a:r>
            <a:r>
              <a:rPr b="1" lang="zh-CN" sz="4000" spc="-1" strike="noStrike">
                <a:solidFill>
                  <a:srgbClr val="cc0066"/>
                </a:solidFill>
                <a:latin typeface="Times New Roman"/>
                <a:ea typeface="黑体"/>
              </a:rPr>
              <a:t>因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之以成帝业。刘璋</a:t>
            </a:r>
            <a:r>
              <a:rPr b="1" lang="zh-CN" sz="4000" spc="-1" strike="noStrike">
                <a:solidFill>
                  <a:srgbClr val="cc0066"/>
                </a:solidFill>
                <a:latin typeface="Times New Roman"/>
                <a:ea typeface="黑体"/>
              </a:rPr>
              <a:t>暗弱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，张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在北，民</a:t>
            </a:r>
            <a:r>
              <a:rPr b="1" lang="zh-CN" sz="4000" spc="-1" strike="noStrike">
                <a:solidFill>
                  <a:srgbClr val="cc0066"/>
                </a:solidFill>
                <a:latin typeface="Times New Roman"/>
                <a:ea typeface="黑体"/>
              </a:rPr>
              <a:t>殷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国</a:t>
            </a:r>
            <a:r>
              <a:rPr b="1" lang="zh-CN" sz="4000" spc="-1" strike="noStrike">
                <a:solidFill>
                  <a:srgbClr val="cc0066"/>
                </a:solidFill>
                <a:latin typeface="Times New Roman"/>
                <a:ea typeface="黑体"/>
              </a:rPr>
              <a:t>富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而不知</a:t>
            </a:r>
            <a:r>
              <a:rPr b="1" lang="zh-CN" sz="4000" spc="-1" strike="noStrike">
                <a:solidFill>
                  <a:srgbClr val="cc0066"/>
                </a:solidFill>
                <a:latin typeface="Times New Roman"/>
                <a:ea typeface="黑体"/>
              </a:rPr>
              <a:t>存恤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。智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之士思得明君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143000" y="1692360"/>
            <a:ext cx="285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险要的地方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258920" y="2924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凭借               昏庸懦弱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286720" y="42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兴旺  富裕      爱惜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967040" y="260280"/>
            <a:ext cx="50576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将军既帝室之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胄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，信义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著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于四海，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总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英雄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思贤若渴，若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跨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荆、益，保其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岩阻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，西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和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诸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戎，南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抚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夷越，外结好孙权，内修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政理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；天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有变，则命一上将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将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荆州之军以向宛、洛，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军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身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率益州之众出于秦川，百姓孰敢不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箪食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浆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以迎将军乎？诚如是，则霸业可成，汉室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兴矣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2080080" y="765000"/>
            <a:ext cx="65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后代          闻名       广泛的招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2533680" y="1773360"/>
            <a:ext cx="661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占据             险要的地方     和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1219320" y="2708280"/>
            <a:ext cx="652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安抚                                            政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3419640" y="3645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带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304920" y="4581360"/>
            <a:ext cx="952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亲自                              （用）箪盛着饭食（用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250920" y="5661000"/>
            <a:ext cx="50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壶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装着酒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682280" y="635040"/>
            <a:ext cx="556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先主曰：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善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于是与亮情好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日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关羽、张飞等不悦，先主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解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之曰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孤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之有孔明，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犹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鱼之有水也。愿诸君勿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复言。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羽飞乃止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181480" y="121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659640" y="104472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一天天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165720" y="2266920"/>
            <a:ext cx="14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解释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536760" y="333360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我         好象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849816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孤不度德量力，欲信大义于天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非唯天时，抑亦人谋也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荆州北据汉、沔，利尽南海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然志犹未已，君谓计将安出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57120" y="85644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我没有估计自己的德行能否服人，衡量自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的力量能否胜人，想要在天下伸张大义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4053960" y="2570760"/>
            <a:ext cx="6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不仅是时机好，而且也是人的筹划得当。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428760" y="5572080"/>
            <a:ext cx="835164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但是我的志向到现在还没有罢休，您说该采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怎样的办法呢？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500040" y="41004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荆州北靠汉水、沔水，一直到南海的物资都能得到。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893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5.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此殆天所以资将军，将军岂有意乎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6.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百姓孰敢不箪食壶浆以迎将军乎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324000" y="184068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这大概是天拿它来资助将军的，将军是否有夺取它的意图？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395280" y="42076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百姓谁敢不用篮子盛着饭，用壶装着酒来迎接将军呢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!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下面的对联是什么意思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920" y="765000"/>
            <a:ext cx="7345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一对二表三分鼎，六出七纵八阵图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492000" y="1557000"/>
            <a:ext cx="5187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一对：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隆中对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表：前、后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出师表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分：分为魏蜀吴三国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六出：六出祁山北伐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七纵：七擒七纵孟获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八阵图：孔明所设军阵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总之，概括诸葛亮一生功绩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8" name="Picture 5" descr="图片1"/>
          <p:cNvPicPr/>
          <p:nvPr/>
        </p:nvPicPr>
        <p:blipFill>
          <a:blip r:embed="rId1"/>
          <a:stretch/>
        </p:blipFill>
        <p:spPr>
          <a:xfrm>
            <a:off x="250920" y="1484280"/>
            <a:ext cx="3028680" cy="42498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755640" y="580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是我国人民心目中智慧的化身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oin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7.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 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民殷国富而不知存恤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8.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 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信义著于四海，总揽英雄，思贤如渴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9.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 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孤之有孔明，犹鱼之有水也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468360" y="981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百姓国家兴旺富裕，（刘璋）却不知道爱惜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501480" y="263700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（将军的）信用道义闻名天下，广泛罗致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雄，思慕贤才如饥似渴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755640" y="47973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我有了孔明，就像鱼有了水呀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1758960" y="152280"/>
            <a:ext cx="56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思考：全文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个自然段可分为三部分，怎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分？三部分是按什么顺序排列的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2158920" y="170028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诸葛亮的出身及年轻时的抱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徐庶推荐诸葛亮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158920" y="3213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刘备问计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诸葛亮对策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文章的主体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268360" y="48690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刘备的评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254160" y="1752480"/>
            <a:ext cx="1661760" cy="113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对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之前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-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298440" y="3225960"/>
            <a:ext cx="1661760" cy="113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对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之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-5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357120" y="4724280"/>
            <a:ext cx="1661760" cy="113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对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之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3132000" y="5877000"/>
            <a:ext cx="23050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时间顺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统观对策（第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段），可以分为几层，介绍了哪些内容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、分析曹操、孙权两大集团的状况，分清敌友，采取不同的方针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、指出荆、益二州在战略上的重要地位和夺取的可能性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、归纳策略的主要之点并指出光明的前景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5028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第四段：写隆中对策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893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拥百万之众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军事优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挟天子而令诸侯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政治优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已历三世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地位巩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国险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地理险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民附，贤能为之用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政治优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用武之国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地理：交通便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其主不能守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政治形势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（既不会用兵，又不会用人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天府之土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地势险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政治形势：暗弱（民殷国富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不知存恤， 智能之士思得明君。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589800" y="692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此诚不可与争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6515280" y="2133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此可以为援而不可图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6497640" y="364500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可争，但作为根据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不保险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6796440" y="5734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可图，作为根据地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5292720" y="765000"/>
            <a:ext cx="647640" cy="287640"/>
          </a:xfrm>
          <a:prstGeom prst="rightArrow">
            <a:avLst>
              <a:gd name="adj1" fmla="val 50000"/>
              <a:gd name="adj2" fmla="val 56289"/>
            </a:avLst>
          </a:prstGeom>
          <a:solidFill>
            <a:srgbClr val="cc00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>
            <a:off x="5292720" y="220500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cc00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AutoShape 11"/>
          <p:cNvSpPr/>
          <p:nvPr/>
        </p:nvSpPr>
        <p:spPr>
          <a:xfrm>
            <a:off x="5292720" y="400536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cc00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AutoShape 12"/>
          <p:cNvSpPr/>
          <p:nvPr/>
        </p:nvSpPr>
        <p:spPr>
          <a:xfrm>
            <a:off x="5580000" y="5805360"/>
            <a:ext cx="647640" cy="287640"/>
          </a:xfrm>
          <a:prstGeom prst="rightArrow">
            <a:avLst>
              <a:gd name="adj1" fmla="val 50000"/>
              <a:gd name="adj2" fmla="val 56289"/>
            </a:avLst>
          </a:prstGeom>
          <a:solidFill>
            <a:srgbClr val="cc00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AutoShape 15"/>
          <p:cNvSpPr/>
          <p:nvPr/>
        </p:nvSpPr>
        <p:spPr>
          <a:xfrm>
            <a:off x="468360" y="549360"/>
            <a:ext cx="71280" cy="86508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AutoShape 16"/>
          <p:cNvSpPr/>
          <p:nvPr/>
        </p:nvSpPr>
        <p:spPr>
          <a:xfrm>
            <a:off x="468360" y="1916280"/>
            <a:ext cx="71280" cy="1152360"/>
          </a:xfrm>
          <a:custGeom>
            <a:avLst/>
            <a:gdLst>
              <a:gd name="textAreaLeft" fmla="*/ 45720 w 71280"/>
              <a:gd name="textAreaRight" fmla="*/ 71640 w 71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AutoShape 17"/>
          <p:cNvSpPr/>
          <p:nvPr/>
        </p:nvSpPr>
        <p:spPr>
          <a:xfrm>
            <a:off x="395280" y="3500280"/>
            <a:ext cx="142920" cy="1295640"/>
          </a:xfrm>
          <a:custGeom>
            <a:avLst/>
            <a:gdLst>
              <a:gd name="textAreaLeft" fmla="*/ 91440 w 142920"/>
              <a:gd name="textAreaRight" fmla="*/ 143280 w 142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AutoShape 18"/>
          <p:cNvSpPr/>
          <p:nvPr/>
        </p:nvSpPr>
        <p:spPr>
          <a:xfrm>
            <a:off x="395280" y="5229360"/>
            <a:ext cx="73080" cy="1225440"/>
          </a:xfrm>
          <a:custGeom>
            <a:avLst/>
            <a:gdLst>
              <a:gd name="textAreaLeft" fmla="*/ 46800 w 73080"/>
              <a:gd name="textAreaRight" fmla="*/ 73440 w 7308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2319480" y="16160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50920" y="18900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诸葛亮替刘备设计的政治蓝图是什么？诸葛亮为达到这个目的提出了什么战略方针？根据是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1379880" y="2133720"/>
            <a:ext cx="62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政治蓝图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霸业可成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汉室可兴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395280" y="285264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战略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方针：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黑体"/>
              </a:rPr>
              <a:t>、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黑体"/>
              </a:rPr>
              <a:t>跨有荆、益，保其岩阻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黑体"/>
              </a:rPr>
              <a:t>                   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黑体"/>
              </a:rPr>
              <a:t>、西和诸戎，南抚夷越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黑体"/>
              </a:rPr>
              <a:t>                   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黑体"/>
              </a:rPr>
              <a:t>、外结好孙权，内修政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395280" y="4292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根据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1187280" y="479736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、不具备向北或向东发展的可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、荆、益两州可作建立霸业的基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、修明内政是巩固政权的保证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3941280" y="907920"/>
            <a:ext cx="90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从文中找出对诸葛亮和刘备总评价的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7520" y="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6600"/>
                </a:solidFill>
                <a:latin typeface="Times New Roman"/>
                <a:ea typeface="黑体"/>
              </a:rPr>
              <a:t>思考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468360" y="177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诸葛亮：身长八尺，每自比于管仲、乐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9640" y="328464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刘  备：将军既帝室之胄，信义著于四海，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总揽英雄，思贤若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4346280" y="2565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表现了诸葛亮具有远大的政治抱负和政治军事才能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395280" y="45813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是一个胸怀大志、求贤若渴的明君，这正是诸葛亮辅佐他的原因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250920" y="333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在对前景形势的分析中，诸葛亮特别强调了什么因素的作用？你是从哪些语句中可以看出来的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5" name="Picture 3" descr="zhugeliang"/>
          <p:cNvPicPr/>
          <p:nvPr/>
        </p:nvPicPr>
        <p:blipFill>
          <a:blip r:embed="rId1"/>
          <a:stretch/>
        </p:blipFill>
        <p:spPr>
          <a:xfrm>
            <a:off x="6570720" y="1523880"/>
            <a:ext cx="2230560" cy="47134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4"/>
          <p:cNvSpPr/>
          <p:nvPr/>
        </p:nvSpPr>
        <p:spPr>
          <a:xfrm>
            <a:off x="611280" y="2492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特别强调了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人谋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”的作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826920" y="3573360"/>
            <a:ext cx="486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非惟天时，抑亦人谋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贤能为之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总揽英雄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思贤若渴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539280" y="1989000"/>
            <a:ext cx="8093160" cy="16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侧面描写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烘托诸葛亮对于刘备的重要性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9" name="Picture 3" descr="longzhongdui"/>
          <p:cNvPicPr/>
          <p:nvPr/>
        </p:nvPicPr>
        <p:blipFill>
          <a:blip r:embed="rId1"/>
          <a:srcRect l="0" t="11155" r="0" b="13944"/>
          <a:stretch/>
        </p:blipFill>
        <p:spPr>
          <a:xfrm>
            <a:off x="1258920" y="3933720"/>
            <a:ext cx="6591240" cy="27576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304920" y="380880"/>
            <a:ext cx="822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Arial"/>
                <a:ea typeface="黑体"/>
              </a:rPr>
              <a:t>3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、“孤之有孔明，犹鱼有水”属于什么描写方法？起什么作用</a:t>
            </a: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oin.wav"/>
      </p:stSnd>
    </p:sndAc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、对曹操为什么“不可与争锋”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748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今操已拥百万之众，挟天子而令诸侯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539640" y="24922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、对孙权，为什么“可以为援而不可图也”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79280" y="4292640"/>
            <a:ext cx="80074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孙权据有江东，已历三世，国险而民附，贤能为之用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oin.wav"/>
      </p:stSnd>
    </p:sndAc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8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179280" y="189000"/>
            <a:ext cx="792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结合具体语句，分析刘备和诸葛亮这两个人的人物形象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79280" y="357336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结尾写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关羽、张飞等不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有什么作用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468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刘　备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是一个胸怀大志、求贤若渴的明君形象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468360" y="2349360"/>
            <a:ext cx="81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诸葛亮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是一个自视甚高、富有雄才大略的谋臣形象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380880" y="428796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引出刘备对诸葛亮的评价，说明他的“自比”并非虚夸，从侧面突出了诸葛亮的杰出才能；同时照应了前文，使文章显得结构严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诸葛亮"/>
          <p:cNvPicPr/>
          <p:nvPr/>
        </p:nvPicPr>
        <p:blipFill>
          <a:blip r:embed="rId2"/>
          <a:stretch/>
        </p:blipFill>
        <p:spPr>
          <a:xfrm>
            <a:off x="4484520" y="692280"/>
            <a:ext cx="4659480" cy="6148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228600" y="765000"/>
            <a:ext cx="41148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诸葛亮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黑体"/>
              </a:rPr>
              <a:t>，字孔明，三国时著名政治家，军事家，中国历史上的名相。现在，“诸葛亮”这个名字已经成为了智慧的象征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7380360" y="6021360"/>
            <a:ext cx="1584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0066"/>
                </a:solidFill>
                <a:uFillTx/>
                <a:latin typeface="Times New Roman"/>
                <a:hlinkClick r:id="rId3" action="ppaction://hlinksldjump"/>
              </a:rPr>
              <a:t>返回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65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赏析本文刻画人物形象的方法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  <a:ea typeface="黑体"/>
              </a:rPr>
              <a:t>。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03280" y="836280"/>
            <a:ext cx="774072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从各个方面描写刻画诸葛亮这个中心人物，是本文最主要的写作特点。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  <a:ea typeface="黑体"/>
              </a:rPr>
              <a:t>开头一段写诸葛亮，从正面写他的非凡抱负；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徐庶向刘备推荐诸葛亮，则从侧面来写。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刘备、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诸葛亮问答从正面通过人物自身的语言塑造形象，充分表现诸葛亮的天才预见，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而刘备三顾茅庐、密谈后“与亮情好日密”、关张不悦、刘鱼水相答都从侧面表现诸葛亮的非凡才能。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正面描写与侧面描写相照应，使诸葛亮这个人物形象更丰满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92" name="Picture 4" descr="zhugeliang"/>
          <p:cNvPicPr/>
          <p:nvPr/>
        </p:nvPicPr>
        <p:blipFill>
          <a:blip r:embed="rId1"/>
          <a:stretch/>
        </p:blipFill>
        <p:spPr>
          <a:xfrm>
            <a:off x="0" y="1916280"/>
            <a:ext cx="1773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76320" y="2622600"/>
            <a:ext cx="609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隆中对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AutoShape 4"/>
          <p:cNvSpPr/>
          <p:nvPr/>
        </p:nvSpPr>
        <p:spPr>
          <a:xfrm>
            <a:off x="838080" y="1143000"/>
            <a:ext cx="228600" cy="4648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990720" y="914400"/>
            <a:ext cx="42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、诸葛亮青年时代之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990720" y="1676520"/>
            <a:ext cx="37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二、徐庶推荐诸葛亮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06668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三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828800" y="31240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刘 备 问 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82880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诸葛亮对策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AutoShape 10"/>
          <p:cNvSpPr/>
          <p:nvPr/>
        </p:nvSpPr>
        <p:spPr>
          <a:xfrm>
            <a:off x="1600200" y="3276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Line 11"/>
          <p:cNvSpPr/>
          <p:nvPr/>
        </p:nvSpPr>
        <p:spPr>
          <a:xfrm>
            <a:off x="5148360" y="1197000"/>
            <a:ext cx="38088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5580000" y="9079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抱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Line 13"/>
          <p:cNvSpPr/>
          <p:nvPr/>
        </p:nvSpPr>
        <p:spPr>
          <a:xfrm>
            <a:off x="6443640" y="1197000"/>
            <a:ext cx="39384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6804000" y="907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作铺垫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Line 15"/>
          <p:cNvSpPr/>
          <p:nvPr/>
        </p:nvSpPr>
        <p:spPr>
          <a:xfrm>
            <a:off x="4356000" y="1916280"/>
            <a:ext cx="18925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6248520" y="16002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侧面烘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990720" y="5424480"/>
            <a:ext cx="55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四、孤之有孔明，犹鱼之有水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6477120" y="5424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侧面烘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AutoShape 19"/>
          <p:cNvSpPr/>
          <p:nvPr/>
        </p:nvSpPr>
        <p:spPr>
          <a:xfrm>
            <a:off x="3809880" y="2514600"/>
            <a:ext cx="76320" cy="2438280"/>
          </a:xfrm>
          <a:custGeom>
            <a:avLst/>
            <a:gdLst>
              <a:gd name="textAreaLeft" fmla="*/ 48960 w 76320"/>
              <a:gd name="textAreaRight" fmla="*/ 76320 w 763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4079880" y="2286000"/>
            <a:ext cx="4073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不具备向东或向北发展的可能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Text Box 21"/>
          <p:cNvSpPr/>
          <p:nvPr/>
        </p:nvSpPr>
        <p:spPr>
          <a:xfrm>
            <a:off x="4076640" y="3357720"/>
            <a:ext cx="4024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夺取荆、益州二州，作为根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Text Box 22"/>
          <p:cNvSpPr/>
          <p:nvPr/>
        </p:nvSpPr>
        <p:spPr>
          <a:xfrm>
            <a:off x="4102200" y="4495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修明内政，联吴抗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AutoShape 23"/>
          <p:cNvSpPr/>
          <p:nvPr/>
        </p:nvSpPr>
        <p:spPr>
          <a:xfrm>
            <a:off x="8077320" y="1219320"/>
            <a:ext cx="166680" cy="4800600"/>
          </a:xfrm>
          <a:custGeom>
            <a:avLst/>
            <a:gdLst>
              <a:gd name="textAreaLeft" fmla="*/ 0 w 166680"/>
              <a:gd name="textAreaRight" fmla="*/ 60120 w 16668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Text Box 24"/>
          <p:cNvSpPr/>
          <p:nvPr/>
        </p:nvSpPr>
        <p:spPr>
          <a:xfrm>
            <a:off x="8244000" y="765000"/>
            <a:ext cx="72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黑体"/>
              </a:rPr>
              <a:t>未出茅庐而知天下三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Text Box 25"/>
          <p:cNvSpPr/>
          <p:nvPr/>
        </p:nvSpPr>
        <p:spPr>
          <a:xfrm>
            <a:off x="3657600" y="290844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4533840" y="275580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Line 30"/>
          <p:cNvSpPr/>
          <p:nvPr/>
        </p:nvSpPr>
        <p:spPr>
          <a:xfrm>
            <a:off x="6172200" y="5715000"/>
            <a:ext cx="22860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04920" y="30492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一、古 今 异 义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762120" y="1828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猖獗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371600" y="1676520"/>
            <a:ext cx="457200" cy="1447560"/>
          </a:xfrm>
          <a:custGeom>
            <a:avLst/>
            <a:gdLst>
              <a:gd name="textAreaLeft" fmla="*/ 292320 w 457200"/>
              <a:gd name="textAreaRight" fmla="*/ 457560 w 4572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905120" y="16002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今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905120" y="25146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古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766440" y="4495680"/>
            <a:ext cx="729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有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1371600" y="4191120"/>
            <a:ext cx="304920" cy="1676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1752480" y="40384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今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1752480" y="52578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古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2666880" y="160020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猖狂、凶猛而放肆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2590920" y="25146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失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2666880" y="39625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故意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2666880" y="52578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有某种打算、想法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7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2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7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2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324000" y="333360"/>
            <a:ext cx="41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二、通假字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116000" y="1484280"/>
            <a:ext cx="6248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、欲信大义于天下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、自董卓已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      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2312640" y="2421000"/>
            <a:ext cx="35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信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”</a:t>
            </a:r>
            <a:r>
              <a:rPr b="1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通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伸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”</a:t>
            </a:r>
            <a:r>
              <a:rPr b="1" lang="en-US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,   </a:t>
            </a:r>
            <a:r>
              <a:rPr b="1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伸张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312640" y="4292640"/>
            <a:ext cx="35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已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”</a:t>
            </a:r>
            <a:r>
              <a:rPr b="1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通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以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”</a:t>
            </a:r>
            <a:r>
              <a:rPr b="1" lang="en-US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,   </a:t>
            </a:r>
            <a:r>
              <a:rPr b="1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以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9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4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9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0" y="1981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犹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0" y="4648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然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4114800" y="21337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已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191120" y="4648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信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609480" y="1523880"/>
            <a:ext cx="304920" cy="1752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4572000" y="1523880"/>
            <a:ext cx="304920" cy="1752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609480" y="4114800"/>
            <a:ext cx="304920" cy="1752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AutoShape 9"/>
          <p:cNvSpPr/>
          <p:nvPr/>
        </p:nvSpPr>
        <p:spPr>
          <a:xfrm>
            <a:off x="4724280" y="4191120"/>
            <a:ext cx="304920" cy="1752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914400" y="1295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然志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犹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未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914400" y="22860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犹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鱼之有水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4876920" y="19051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自董卓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已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来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Text Box 13"/>
          <p:cNvSpPr/>
          <p:nvPr/>
        </p:nvSpPr>
        <p:spPr>
          <a:xfrm>
            <a:off x="4876920" y="1066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然志犹未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4952880" y="2743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今操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已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拥兵百万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Text Box 15"/>
          <p:cNvSpPr/>
          <p:nvPr/>
        </p:nvSpPr>
        <p:spPr>
          <a:xfrm>
            <a:off x="838080" y="3809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然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志犹未已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838080" y="4876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谓为信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Text Box 17"/>
          <p:cNvSpPr/>
          <p:nvPr/>
        </p:nvSpPr>
        <p:spPr>
          <a:xfrm>
            <a:off x="5029200" y="5607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谓为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信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Text Box 18"/>
          <p:cNvSpPr/>
          <p:nvPr/>
        </p:nvSpPr>
        <p:spPr>
          <a:xfrm>
            <a:off x="5029200" y="38098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欲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信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大义于天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Text Box 19"/>
          <p:cNvSpPr/>
          <p:nvPr/>
        </p:nvSpPr>
        <p:spPr>
          <a:xfrm>
            <a:off x="4952880" y="472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信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义著于四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Text Box 20"/>
          <p:cNvSpPr/>
          <p:nvPr/>
        </p:nvSpPr>
        <p:spPr>
          <a:xfrm>
            <a:off x="1835280" y="177336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还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Text Box 21"/>
          <p:cNvSpPr/>
          <p:nvPr/>
        </p:nvSpPr>
        <p:spPr>
          <a:xfrm>
            <a:off x="755640" y="27813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好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6227640" y="148428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停止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5940360" y="23493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通“以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Text Box 24"/>
          <p:cNvSpPr/>
          <p:nvPr/>
        </p:nvSpPr>
        <p:spPr>
          <a:xfrm>
            <a:off x="5651640" y="31417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已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Text Box 25"/>
          <p:cNvSpPr/>
          <p:nvPr/>
        </p:nvSpPr>
        <p:spPr>
          <a:xfrm>
            <a:off x="755640" y="42926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然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Text Box 26"/>
          <p:cNvSpPr/>
          <p:nvPr/>
        </p:nvSpPr>
        <p:spPr>
          <a:xfrm>
            <a:off x="2133720" y="5334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这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Text Box 27"/>
          <p:cNvSpPr/>
          <p:nvPr/>
        </p:nvSpPr>
        <p:spPr>
          <a:xfrm>
            <a:off x="5003640" y="4292640"/>
            <a:ext cx="44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通“伸”，伸张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Text Box 28"/>
          <p:cNvSpPr/>
          <p:nvPr/>
        </p:nvSpPr>
        <p:spPr>
          <a:xfrm>
            <a:off x="4788000" y="5157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诚信 信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Text Box 29"/>
          <p:cNvSpPr/>
          <p:nvPr/>
        </p:nvSpPr>
        <p:spPr>
          <a:xfrm>
            <a:off x="5867280" y="59878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确实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WordArt 30"/>
          <p:cNvSpPr txBox="1"/>
          <p:nvPr/>
        </p:nvSpPr>
        <p:spPr>
          <a:xfrm>
            <a:off x="533520" y="380880"/>
            <a:ext cx="4267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三、一词多义</a:t>
            </a:r>
            <a:endParaRPr b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8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3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8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8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3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8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3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152280" y="1295280"/>
            <a:ext cx="68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谓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250920" y="4437000"/>
            <a:ext cx="914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因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4067280" y="2924280"/>
            <a:ext cx="1066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685800" y="762120"/>
            <a:ext cx="304920" cy="1752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AutoShape 6"/>
          <p:cNvSpPr/>
          <p:nvPr/>
        </p:nvSpPr>
        <p:spPr>
          <a:xfrm>
            <a:off x="755640" y="3933720"/>
            <a:ext cx="304920" cy="1752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9" name="AutoShape 7"/>
          <p:cNvSpPr/>
          <p:nvPr/>
        </p:nvSpPr>
        <p:spPr>
          <a:xfrm>
            <a:off x="4572000" y="1989000"/>
            <a:ext cx="380880" cy="2514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990720" y="304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谓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为信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990720" y="1066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君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谓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计将安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1066680" y="18288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谓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先主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971640" y="386064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因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屏人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Text Box 12"/>
          <p:cNvSpPr/>
          <p:nvPr/>
        </p:nvSpPr>
        <p:spPr>
          <a:xfrm>
            <a:off x="900000" y="50846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高祖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因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之以成帝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4643280" y="170028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好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为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《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梁父吟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4788000" y="27813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外结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好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孙权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4932360" y="3933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情</a:t>
            </a:r>
            <a:r>
              <a:rPr b="0" lang="zh-CN" sz="3600" spc="-1" strike="noStrike">
                <a:solidFill>
                  <a:srgbClr val="cc0066"/>
                </a:solidFill>
                <a:latin typeface="Times New Roman"/>
                <a:ea typeface="华文行楷"/>
              </a:rPr>
              <a:t>好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日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Text Box 16"/>
          <p:cNvSpPr/>
          <p:nvPr/>
        </p:nvSpPr>
        <p:spPr>
          <a:xfrm>
            <a:off x="2895480" y="3049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Text Box 17"/>
          <p:cNvSpPr/>
          <p:nvPr/>
        </p:nvSpPr>
        <p:spPr>
          <a:xfrm>
            <a:off x="3809880" y="1066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认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Text Box 18"/>
          <p:cNvSpPr/>
          <p:nvPr/>
        </p:nvSpPr>
        <p:spPr>
          <a:xfrm>
            <a:off x="2971800" y="19810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对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…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1" name="Text Box 19"/>
          <p:cNvSpPr/>
          <p:nvPr/>
        </p:nvSpPr>
        <p:spPr>
          <a:xfrm>
            <a:off x="2771640" y="38606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于是，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Text Box 20"/>
          <p:cNvSpPr/>
          <p:nvPr/>
        </p:nvSpPr>
        <p:spPr>
          <a:xfrm>
            <a:off x="4716360" y="5157720"/>
            <a:ext cx="2438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凭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Text Box 21"/>
          <p:cNvSpPr/>
          <p:nvPr/>
        </p:nvSpPr>
        <p:spPr>
          <a:xfrm>
            <a:off x="7812000" y="1700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喜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6732720" y="2852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友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Text Box 23"/>
          <p:cNvSpPr/>
          <p:nvPr/>
        </p:nvSpPr>
        <p:spPr>
          <a:xfrm>
            <a:off x="7164360" y="40053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友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0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5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0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5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5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0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5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0" y="12952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将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AutoShape 3"/>
          <p:cNvSpPr/>
          <p:nvPr/>
        </p:nvSpPr>
        <p:spPr>
          <a:xfrm>
            <a:off x="609480" y="533520"/>
            <a:ext cx="304920" cy="2286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838080" y="3049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则命一上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将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荆州之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762120" y="1295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君谓计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将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安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838080" y="2286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出郭相扶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0" y="4267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为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2" name="AutoShape 8"/>
          <p:cNvSpPr/>
          <p:nvPr/>
        </p:nvSpPr>
        <p:spPr>
          <a:xfrm>
            <a:off x="533520" y="3505320"/>
            <a:ext cx="304560" cy="2286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826920" y="31417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好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为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梁父吟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1828800" y="4495680"/>
            <a:ext cx="350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755640" y="38606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谓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为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信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755640" y="46530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以弱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为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强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755640" y="54450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贤能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为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楷体"/>
              </a:rPr>
              <a:t>之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5148360" y="2602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大将   率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9" name="Text Box 15"/>
          <p:cNvSpPr/>
          <p:nvPr/>
        </p:nvSpPr>
        <p:spPr>
          <a:xfrm>
            <a:off x="3733920" y="1295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将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3200400" y="2286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扶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1" name="Text Box 17"/>
          <p:cNvSpPr/>
          <p:nvPr/>
        </p:nvSpPr>
        <p:spPr>
          <a:xfrm>
            <a:off x="3564000" y="3141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吟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2" name="Text Box 18"/>
          <p:cNvSpPr/>
          <p:nvPr/>
        </p:nvSpPr>
        <p:spPr>
          <a:xfrm>
            <a:off x="2771640" y="38606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Text Box 19"/>
          <p:cNvSpPr/>
          <p:nvPr/>
        </p:nvSpPr>
        <p:spPr>
          <a:xfrm>
            <a:off x="3059280" y="46530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成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4" name="Text Box 20"/>
          <p:cNvSpPr/>
          <p:nvPr/>
        </p:nvSpPr>
        <p:spPr>
          <a:xfrm>
            <a:off x="3276720" y="5589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被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5715000" y="1981080"/>
            <a:ext cx="2743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楷体"/>
                <a:ea typeface="华文楷体"/>
              </a:rPr>
              <a:t>遂</a:t>
            </a:r>
            <a:r>
              <a:rPr b="1" lang="zh-CN" sz="32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用</a:t>
            </a:r>
            <a:r>
              <a:rPr b="1" lang="zh-CN" sz="3200" spc="-1" strike="noStrike">
                <a:solidFill>
                  <a:srgbClr val="000099"/>
                </a:solidFill>
                <a:latin typeface="华文楷体"/>
                <a:ea typeface="华文楷体"/>
              </a:rPr>
              <a:t>猖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楷体"/>
                <a:ea typeface="华文楷体"/>
              </a:rPr>
              <a:t>贤能为之</a:t>
            </a:r>
            <a:r>
              <a:rPr b="1" lang="zh-CN" sz="32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楷体"/>
                <a:ea typeface="华文楷体"/>
              </a:rPr>
              <a:t>此</a:t>
            </a:r>
            <a:r>
              <a:rPr b="1" lang="zh-CN" sz="32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用</a:t>
            </a:r>
            <a:r>
              <a:rPr b="1" lang="zh-CN" sz="3200" spc="-1" strike="noStrike">
                <a:solidFill>
                  <a:srgbClr val="000099"/>
                </a:solidFill>
                <a:latin typeface="华文楷体"/>
                <a:ea typeface="华文楷体"/>
              </a:rPr>
              <a:t>武之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6" name="Rectangle 22"/>
          <p:cNvSpPr/>
          <p:nvPr/>
        </p:nvSpPr>
        <p:spPr>
          <a:xfrm>
            <a:off x="4741200" y="2971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7" name="AutoShape 23"/>
          <p:cNvSpPr/>
          <p:nvPr/>
        </p:nvSpPr>
        <p:spPr>
          <a:xfrm>
            <a:off x="5410080" y="2209680"/>
            <a:ext cx="304920" cy="2286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8" name="Rectangle 24"/>
          <p:cNvSpPr/>
          <p:nvPr/>
        </p:nvSpPr>
        <p:spPr>
          <a:xfrm>
            <a:off x="7524720" y="1989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因此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9" name="Rectangle 25"/>
          <p:cNvSpPr/>
          <p:nvPr/>
        </p:nvSpPr>
        <p:spPr>
          <a:xfrm>
            <a:off x="7812000" y="299736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任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Rectangle 26"/>
          <p:cNvSpPr/>
          <p:nvPr/>
        </p:nvSpPr>
        <p:spPr>
          <a:xfrm>
            <a:off x="7812000" y="3933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运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7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2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7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2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7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2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1510920" y="404640"/>
            <a:ext cx="5064840" cy="57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练习一：解释句中的词语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亮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躬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耕陇亩。（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先主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器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之。（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将军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枉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驾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顾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之。（   ）（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先主遂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诣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亮。（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孤不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度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德量力。（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欲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信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大义于天下。（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7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此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殆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天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所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以资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将军。（ ）（ ）（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8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民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殷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国富而不知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存恤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。（  ）（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2222640" y="189000"/>
            <a:ext cx="466704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练习二：写出下列句子的大意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时人莫之许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此人可就见，不可屈致也。将军宜枉驾顾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孤不度德量力，欲信大义于天下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而智术浅短，遂用猖獗，至于今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非为天时，抑亦人谋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荆州北据汉、沔，利尽南海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7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此殆天所以资将军，将军岂有意乎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8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百姓孰敢不箪食壶浆以迎将军乎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9.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孤之有孔明，犹鱼之有水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黑体"/>
              </a:rPr>
              <a:t>解释下列加点的字词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54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每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自此于管仲、乐毅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 )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徐庶见先主，先主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器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之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此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殆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天所以资将军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 )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④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将军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身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率益州之众出于秦川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⑤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谓为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信然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 )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⑥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此人可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就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见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5940360" y="1268280"/>
            <a:ext cx="2952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常常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器重、重视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大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④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亲自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⑤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确实这样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⑥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接近、趋向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学习目标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了解文学常识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准确、流利地朗读课文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完成一、二两段的翻译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457200" y="915840"/>
            <a:ext cx="65530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一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解释下列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红色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词语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⒈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谓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信然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⒉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将军宜枉驾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顾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⒊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凡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三往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⒋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欲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信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大义于天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⒌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遂用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猖蹶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⒍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汉室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倾颓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429000" y="1676520"/>
            <a:ext cx="24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确实这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4648320" y="228600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拜访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2895480" y="2971800"/>
            <a:ext cx="16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总共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4724280" y="3657600"/>
            <a:ext cx="33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通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伸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，伸张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276720" y="4343400"/>
            <a:ext cx="14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失败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3352680" y="495288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崩溃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0" y="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  <a:ea typeface="方正舒体"/>
              </a:rPr>
              <a:t>巩固练习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179280" y="611280"/>
            <a:ext cx="799308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二、用现代汉语翻译下面句子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然志犹未已，君谓计将安出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诸葛孔明者，卧龙也，将军岂愿见之乎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此人可就见，不可屈致也。将军宜枉驾顾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250920" y="1413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但是我的志向还不罢休，您看该采取怎样的办法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971640" y="3284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诸葛孔明是一条卧龙，您想见他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250920" y="515772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这个人只能登门求见，不能降低他的身份把他召来。您倒应该降低身份去拜访他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课堂练习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644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隆中对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节选自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作者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字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朝史学家。所著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记载了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三国的历史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曹操比于袁绍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然操遂能克绍，以弱为强者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250920" y="4508640"/>
            <a:ext cx="835344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三国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蜀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诸葛亮传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陈寿  承祚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晋 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三国志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魏、蜀、吴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则名微而众寡  非惟天时  抑亦人谋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3757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诸葛亮替刘备设计的政治蓝图是什么？（用课文中的话回答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（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）诸葛亮为达到这个目标提出了什么战略方针？（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）根据是什么？（用原文回答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在诸葛亮的眼里刘备是一个怎样的人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请从文中找出原句加以说明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-360" y="1125000"/>
            <a:ext cx="8915400" cy="49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）占据荆益两州，安抚西南诸族，联合孙权，整顿内政，然后俟机从荆、益两路北伐曹操，统一中国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）根据当时“天下大势”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0875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nodeType="clickEffect" fill="hold">
                      <p:stCondLst>
                        <p:cond delay="0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26"/>
          <p:cNvSpPr/>
          <p:nvPr/>
        </p:nvSpPr>
        <p:spPr>
          <a:xfrm>
            <a:off x="179280" y="-108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时代背景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Rectangle 1027"/>
          <p:cNvSpPr/>
          <p:nvPr/>
        </p:nvSpPr>
        <p:spPr>
          <a:xfrm>
            <a:off x="468360" y="3028680"/>
            <a:ext cx="82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东汉末年朝廷政治日趋黑暗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官府摇役繁重、刑罚极其苛刻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广大人民陷于水深火热之中。这时，爆发了一场规模巨大的农民起义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黄巾起义。在镇压黄巾起义过程中产生和壮大起来的大小武装力量，为了取代东汉王朝，争夺势力范围，进行了勾心斗角的政治斗争和频繁的军事混战。在镇压黄巾起义中起家的曹操、刘备和孙坚，在多次战争中，一步步扩大势力。赤壁大战之后，形成了曹操、刘备和孙权三国鼎立的形势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zhugeliang"/>
          <p:cNvPicPr/>
          <p:nvPr/>
        </p:nvPicPr>
        <p:blipFill>
          <a:blip r:embed="rId1"/>
          <a:stretch/>
        </p:blipFill>
        <p:spPr>
          <a:xfrm>
            <a:off x="304920" y="609480"/>
            <a:ext cx="2390760" cy="50515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2843280" y="7650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公元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207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年，刘备屡败，只好投靠刘表，寄居新野，势单力孤。渴求贤者辅佐其成就大业，于是三顾茅庐，问计于诸葛亮。诸葛亮被刘备的三顾之情所打动。这篇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隆中对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，就是诸葛亮当时纵谈天下大事的一段记载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539640" y="1628640"/>
            <a:ext cx="810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本文节选自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三国志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•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蜀志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•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诸葛亮传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作者是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陈寿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字承祚，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晋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朝安汉人，史学家，所著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三国志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共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65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卷，记载三国时期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魏 、蜀、吴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的历史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763560" y="294948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4114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ào          fǔ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好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为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父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吟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qīng  tu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倾    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uó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度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德 量 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hēn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信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大 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chāng ju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猖     獗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0" y="333000"/>
            <a:ext cx="41004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kuài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吴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d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à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i       x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殆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存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恤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yī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殷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国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zhòu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帝室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ā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箪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食壶浆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02:54:06Z</dcterms:created>
  <dc:creator/>
  <dc:description/>
  <cp:keywords>幻灯片之家 http:/www.eeppt.com</cp:keywords>
  <dc:language>en-US</dc:language>
  <cp:lastModifiedBy/>
  <dcterms:modified xsi:type="dcterms:W3CDTF">2015-07-20T06:36:0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