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BFF-028D-488E-8CB7-EAF655CF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C75-64F6-4824-8179-981F8C0D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499-DE43-4E29-AAFF-D77363FC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1F6-5D2C-4B1A-A6AE-A286E993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B7D-5A84-42F4-8681-A4059D8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E11-C635-4C10-9788-08778EC4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761-41D8-41C3-95BB-062A0A21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DC0-BE48-4660-9D56-83BFC2CB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D38-3946-4749-B90C-1A0BF81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9F5-9CAB-48EA-A049-77EC266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1C6-B0DF-4B36-ACC7-1791DFA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B3D-733E-4A5A-8789-973CA8D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C5C7-DBA5-4432-8EC8-D451EDF4E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34800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8360" y="2060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两只鸟蛋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9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-726840" y="1268280"/>
            <a:ext cx="1642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看谁最聪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1628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小鸟会为小男孩唱什么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484360" y="27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鸟妈妈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484360" y="393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你最喜欢怎样的世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484360" y="5013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你愿意像小男孩一样爱护可爱的小鸟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cccc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219320" y="1341360"/>
            <a:ext cx="426708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要求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划记本课生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找出最喜欢的段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3"/>
          <p:cNvGrpSpPr/>
          <p:nvPr/>
        </p:nvGrpSpPr>
        <p:grpSpPr>
          <a:xfrm>
            <a:off x="5257800" y="1360440"/>
            <a:ext cx="2413080" cy="2530440"/>
            <a:chOff x="5257800" y="1360440"/>
            <a:chExt cx="2413080" cy="2530440"/>
          </a:xfrm>
        </p:grpSpPr>
        <p:sp>
          <p:nvSpPr>
            <p:cNvPr id="46" name="Freeform 7"/>
            <p:cNvSpPr/>
            <p:nvPr/>
          </p:nvSpPr>
          <p:spPr>
            <a:xfrm>
              <a:off x="6194520" y="3373560"/>
              <a:ext cx="104760" cy="304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32" h="385">
                  <a:moveTo>
                    <a:pt x="10" y="0"/>
                  </a:moveTo>
                  <a:lnTo>
                    <a:pt x="0" y="284"/>
                  </a:lnTo>
                  <a:lnTo>
                    <a:pt x="43" y="385"/>
                  </a:lnTo>
                  <a:lnTo>
                    <a:pt x="132" y="250"/>
                  </a:lnTo>
                  <a:lnTo>
                    <a:pt x="66" y="9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a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226280" y="2730600"/>
              <a:ext cx="171360" cy="160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16" h="202">
                  <a:moveTo>
                    <a:pt x="0" y="123"/>
                  </a:moveTo>
                  <a:lnTo>
                    <a:pt x="216" y="0"/>
                  </a:lnTo>
                  <a:lnTo>
                    <a:pt x="207" y="81"/>
                  </a:lnTo>
                  <a:lnTo>
                    <a:pt x="38" y="202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e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834160" y="1387440"/>
              <a:ext cx="1631880" cy="176220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2056" h="2219">
                  <a:moveTo>
                    <a:pt x="1093" y="8"/>
                  </a:moveTo>
                  <a:lnTo>
                    <a:pt x="1337" y="101"/>
                  </a:lnTo>
                  <a:lnTo>
                    <a:pt x="1374" y="59"/>
                  </a:lnTo>
                  <a:lnTo>
                    <a:pt x="1468" y="144"/>
                  </a:lnTo>
                  <a:lnTo>
                    <a:pt x="1560" y="279"/>
                  </a:lnTo>
                  <a:lnTo>
                    <a:pt x="1560" y="448"/>
                  </a:lnTo>
                  <a:lnTo>
                    <a:pt x="2056" y="810"/>
                  </a:lnTo>
                  <a:lnTo>
                    <a:pt x="1430" y="599"/>
                  </a:lnTo>
                  <a:lnTo>
                    <a:pt x="1308" y="658"/>
                  </a:lnTo>
                  <a:lnTo>
                    <a:pt x="1085" y="616"/>
                  </a:lnTo>
                  <a:lnTo>
                    <a:pt x="1047" y="531"/>
                  </a:lnTo>
                  <a:lnTo>
                    <a:pt x="935" y="540"/>
                  </a:lnTo>
                  <a:lnTo>
                    <a:pt x="850" y="633"/>
                  </a:lnTo>
                  <a:lnTo>
                    <a:pt x="888" y="768"/>
                  </a:lnTo>
                  <a:lnTo>
                    <a:pt x="1093" y="776"/>
                  </a:lnTo>
                  <a:lnTo>
                    <a:pt x="1588" y="844"/>
                  </a:lnTo>
                  <a:lnTo>
                    <a:pt x="1720" y="1055"/>
                  </a:lnTo>
                  <a:lnTo>
                    <a:pt x="1459" y="1308"/>
                  </a:lnTo>
                  <a:lnTo>
                    <a:pt x="1337" y="1697"/>
                  </a:lnTo>
                  <a:lnTo>
                    <a:pt x="1168" y="1932"/>
                  </a:lnTo>
                  <a:lnTo>
                    <a:pt x="869" y="2076"/>
                  </a:lnTo>
                  <a:lnTo>
                    <a:pt x="672" y="2219"/>
                  </a:lnTo>
                  <a:lnTo>
                    <a:pt x="0" y="1983"/>
                  </a:lnTo>
                  <a:lnTo>
                    <a:pt x="261" y="1181"/>
                  </a:lnTo>
                  <a:lnTo>
                    <a:pt x="205" y="1140"/>
                  </a:lnTo>
                  <a:lnTo>
                    <a:pt x="383" y="1005"/>
                  </a:lnTo>
                  <a:lnTo>
                    <a:pt x="888" y="1038"/>
                  </a:lnTo>
                  <a:lnTo>
                    <a:pt x="991" y="1013"/>
                  </a:lnTo>
                  <a:lnTo>
                    <a:pt x="608" y="802"/>
                  </a:lnTo>
                  <a:lnTo>
                    <a:pt x="580" y="573"/>
                  </a:lnTo>
                  <a:lnTo>
                    <a:pt x="719" y="313"/>
                  </a:lnTo>
                  <a:lnTo>
                    <a:pt x="1121" y="169"/>
                  </a:lnTo>
                  <a:lnTo>
                    <a:pt x="1019" y="0"/>
                  </a:lnTo>
                  <a:lnTo>
                    <a:pt x="109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478480" y="2944800"/>
              <a:ext cx="2019240" cy="946080"/>
            </a:xfrm>
            <a:custGeom>
              <a:avLst/>
              <a:gdLst>
                <a:gd name="textAreaLeft" fmla="*/ 0 w 2019240"/>
                <a:gd name="textAreaRight" fmla="*/ 2019240 w 201924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544" h="1191">
                  <a:moveTo>
                    <a:pt x="996" y="1064"/>
                  </a:moveTo>
                  <a:lnTo>
                    <a:pt x="1007" y="817"/>
                  </a:lnTo>
                  <a:lnTo>
                    <a:pt x="1057" y="559"/>
                  </a:lnTo>
                  <a:lnTo>
                    <a:pt x="1113" y="857"/>
                  </a:lnTo>
                  <a:lnTo>
                    <a:pt x="1348" y="428"/>
                  </a:lnTo>
                  <a:lnTo>
                    <a:pt x="1465" y="327"/>
                  </a:lnTo>
                  <a:lnTo>
                    <a:pt x="1331" y="722"/>
                  </a:lnTo>
                  <a:lnTo>
                    <a:pt x="1589" y="509"/>
                  </a:lnTo>
                  <a:lnTo>
                    <a:pt x="2064" y="266"/>
                  </a:lnTo>
                  <a:lnTo>
                    <a:pt x="2544" y="221"/>
                  </a:lnTo>
                  <a:lnTo>
                    <a:pt x="2147" y="368"/>
                  </a:lnTo>
                  <a:lnTo>
                    <a:pt x="1801" y="550"/>
                  </a:lnTo>
                  <a:lnTo>
                    <a:pt x="1567" y="751"/>
                  </a:lnTo>
                  <a:lnTo>
                    <a:pt x="1940" y="655"/>
                  </a:lnTo>
                  <a:lnTo>
                    <a:pt x="2298" y="661"/>
                  </a:lnTo>
                  <a:lnTo>
                    <a:pt x="2455" y="747"/>
                  </a:lnTo>
                  <a:lnTo>
                    <a:pt x="2466" y="913"/>
                  </a:lnTo>
                  <a:lnTo>
                    <a:pt x="2287" y="726"/>
                  </a:lnTo>
                  <a:lnTo>
                    <a:pt x="1929" y="782"/>
                  </a:lnTo>
                  <a:lnTo>
                    <a:pt x="1578" y="908"/>
                  </a:lnTo>
                  <a:lnTo>
                    <a:pt x="1331" y="1175"/>
                  </a:lnTo>
                  <a:lnTo>
                    <a:pt x="1409" y="892"/>
                  </a:lnTo>
                  <a:lnTo>
                    <a:pt x="1142" y="1109"/>
                  </a:lnTo>
                  <a:lnTo>
                    <a:pt x="1142" y="988"/>
                  </a:lnTo>
                  <a:lnTo>
                    <a:pt x="1012" y="1191"/>
                  </a:lnTo>
                  <a:lnTo>
                    <a:pt x="827" y="1105"/>
                  </a:lnTo>
                  <a:lnTo>
                    <a:pt x="794" y="1185"/>
                  </a:lnTo>
                  <a:lnTo>
                    <a:pt x="655" y="1175"/>
                  </a:lnTo>
                  <a:lnTo>
                    <a:pt x="458" y="898"/>
                  </a:lnTo>
                  <a:lnTo>
                    <a:pt x="0" y="424"/>
                  </a:lnTo>
                  <a:lnTo>
                    <a:pt x="543" y="822"/>
                  </a:lnTo>
                  <a:lnTo>
                    <a:pt x="454" y="540"/>
                  </a:lnTo>
                  <a:lnTo>
                    <a:pt x="347" y="424"/>
                  </a:lnTo>
                  <a:lnTo>
                    <a:pt x="499" y="419"/>
                  </a:lnTo>
                  <a:lnTo>
                    <a:pt x="666" y="651"/>
                  </a:lnTo>
                  <a:lnTo>
                    <a:pt x="666" y="458"/>
                  </a:lnTo>
                  <a:lnTo>
                    <a:pt x="521" y="256"/>
                  </a:lnTo>
                  <a:lnTo>
                    <a:pt x="336" y="0"/>
                  </a:lnTo>
                  <a:lnTo>
                    <a:pt x="610" y="147"/>
                  </a:lnTo>
                  <a:lnTo>
                    <a:pt x="805" y="403"/>
                  </a:lnTo>
                  <a:lnTo>
                    <a:pt x="934" y="908"/>
                  </a:lnTo>
                  <a:lnTo>
                    <a:pt x="996" y="1064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642000" y="1407960"/>
              <a:ext cx="468360" cy="33660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9" h="424">
                  <a:moveTo>
                    <a:pt x="317" y="412"/>
                  </a:moveTo>
                  <a:lnTo>
                    <a:pt x="381" y="418"/>
                  </a:lnTo>
                  <a:lnTo>
                    <a:pt x="386" y="408"/>
                  </a:lnTo>
                  <a:lnTo>
                    <a:pt x="430" y="408"/>
                  </a:lnTo>
                  <a:lnTo>
                    <a:pt x="420" y="384"/>
                  </a:lnTo>
                  <a:lnTo>
                    <a:pt x="461" y="384"/>
                  </a:lnTo>
                  <a:lnTo>
                    <a:pt x="445" y="341"/>
                  </a:lnTo>
                  <a:lnTo>
                    <a:pt x="394" y="249"/>
                  </a:lnTo>
                  <a:lnTo>
                    <a:pt x="251" y="150"/>
                  </a:lnTo>
                  <a:lnTo>
                    <a:pt x="150" y="60"/>
                  </a:lnTo>
                  <a:lnTo>
                    <a:pt x="245" y="73"/>
                  </a:lnTo>
                  <a:lnTo>
                    <a:pt x="306" y="91"/>
                  </a:lnTo>
                  <a:lnTo>
                    <a:pt x="387" y="143"/>
                  </a:lnTo>
                  <a:lnTo>
                    <a:pt x="391" y="104"/>
                  </a:lnTo>
                  <a:lnTo>
                    <a:pt x="492" y="222"/>
                  </a:lnTo>
                  <a:lnTo>
                    <a:pt x="536" y="397"/>
                  </a:lnTo>
                  <a:lnTo>
                    <a:pt x="589" y="424"/>
                  </a:lnTo>
                  <a:lnTo>
                    <a:pt x="541" y="260"/>
                  </a:lnTo>
                  <a:lnTo>
                    <a:pt x="420" y="69"/>
                  </a:lnTo>
                  <a:lnTo>
                    <a:pt x="347" y="25"/>
                  </a:lnTo>
                  <a:lnTo>
                    <a:pt x="341" y="59"/>
                  </a:lnTo>
                  <a:lnTo>
                    <a:pt x="211" y="25"/>
                  </a:lnTo>
                  <a:lnTo>
                    <a:pt x="0" y="0"/>
                  </a:lnTo>
                  <a:lnTo>
                    <a:pt x="117" y="98"/>
                  </a:lnTo>
                  <a:lnTo>
                    <a:pt x="306" y="232"/>
                  </a:lnTo>
                  <a:lnTo>
                    <a:pt x="391" y="338"/>
                  </a:lnTo>
                  <a:lnTo>
                    <a:pt x="370" y="379"/>
                  </a:lnTo>
                  <a:lnTo>
                    <a:pt x="317" y="412"/>
                  </a:lnTo>
                  <a:close/>
                </a:path>
              </a:pathLst>
            </a:custGeom>
            <a:solidFill>
              <a:srgbClr val="e3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837480" y="1643040"/>
              <a:ext cx="96840" cy="81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2" h="101">
                  <a:moveTo>
                    <a:pt x="0" y="31"/>
                  </a:moveTo>
                  <a:lnTo>
                    <a:pt x="61" y="0"/>
                  </a:lnTo>
                  <a:lnTo>
                    <a:pt x="100" y="15"/>
                  </a:lnTo>
                  <a:lnTo>
                    <a:pt x="122" y="70"/>
                  </a:lnTo>
                  <a:lnTo>
                    <a:pt x="83" y="101"/>
                  </a:lnTo>
                  <a:lnTo>
                    <a:pt x="16" y="10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799240" y="2300400"/>
              <a:ext cx="869760" cy="7444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96" h="938">
                  <a:moveTo>
                    <a:pt x="334" y="5"/>
                  </a:moveTo>
                  <a:lnTo>
                    <a:pt x="436" y="0"/>
                  </a:lnTo>
                  <a:lnTo>
                    <a:pt x="423" y="56"/>
                  </a:lnTo>
                  <a:lnTo>
                    <a:pt x="486" y="121"/>
                  </a:lnTo>
                  <a:lnTo>
                    <a:pt x="306" y="262"/>
                  </a:lnTo>
                  <a:lnTo>
                    <a:pt x="408" y="258"/>
                  </a:lnTo>
                  <a:lnTo>
                    <a:pt x="334" y="399"/>
                  </a:lnTo>
                  <a:lnTo>
                    <a:pt x="397" y="424"/>
                  </a:lnTo>
                  <a:lnTo>
                    <a:pt x="547" y="338"/>
                  </a:lnTo>
                  <a:lnTo>
                    <a:pt x="608" y="454"/>
                  </a:lnTo>
                  <a:lnTo>
                    <a:pt x="681" y="430"/>
                  </a:lnTo>
                  <a:lnTo>
                    <a:pt x="675" y="379"/>
                  </a:lnTo>
                  <a:lnTo>
                    <a:pt x="859" y="308"/>
                  </a:lnTo>
                  <a:lnTo>
                    <a:pt x="899" y="222"/>
                  </a:lnTo>
                  <a:lnTo>
                    <a:pt x="777" y="152"/>
                  </a:lnTo>
                  <a:lnTo>
                    <a:pt x="564" y="142"/>
                  </a:lnTo>
                  <a:lnTo>
                    <a:pt x="833" y="66"/>
                  </a:lnTo>
                  <a:lnTo>
                    <a:pt x="1056" y="66"/>
                  </a:lnTo>
                  <a:lnTo>
                    <a:pt x="1096" y="328"/>
                  </a:lnTo>
                  <a:lnTo>
                    <a:pt x="955" y="585"/>
                  </a:lnTo>
                  <a:lnTo>
                    <a:pt x="608" y="883"/>
                  </a:lnTo>
                  <a:lnTo>
                    <a:pt x="167" y="938"/>
                  </a:lnTo>
                  <a:lnTo>
                    <a:pt x="0" y="762"/>
                  </a:lnTo>
                  <a:lnTo>
                    <a:pt x="122" y="373"/>
                  </a:lnTo>
                  <a:lnTo>
                    <a:pt x="334" y="5"/>
                  </a:lnTo>
                  <a:close/>
                </a:path>
              </a:pathLst>
            </a:custGeom>
            <a:solidFill>
              <a:srgbClr val="b2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994360" y="3036960"/>
              <a:ext cx="432000" cy="3254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42" h="410">
                  <a:moveTo>
                    <a:pt x="0" y="65"/>
                  </a:moveTo>
                  <a:lnTo>
                    <a:pt x="128" y="238"/>
                  </a:lnTo>
                  <a:lnTo>
                    <a:pt x="198" y="405"/>
                  </a:lnTo>
                  <a:lnTo>
                    <a:pt x="328" y="410"/>
                  </a:lnTo>
                  <a:lnTo>
                    <a:pt x="441" y="343"/>
                  </a:lnTo>
                  <a:lnTo>
                    <a:pt x="526" y="241"/>
                  </a:lnTo>
                  <a:lnTo>
                    <a:pt x="542" y="30"/>
                  </a:lnTo>
                  <a:lnTo>
                    <a:pt x="433" y="18"/>
                  </a:lnTo>
                  <a:lnTo>
                    <a:pt x="237" y="76"/>
                  </a:lnTo>
                  <a:lnTo>
                    <a:pt x="176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931000" y="2332080"/>
              <a:ext cx="755640" cy="6253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950" h="786">
                  <a:moveTo>
                    <a:pt x="178" y="272"/>
                  </a:moveTo>
                  <a:lnTo>
                    <a:pt x="34" y="377"/>
                  </a:lnTo>
                  <a:lnTo>
                    <a:pt x="0" y="606"/>
                  </a:lnTo>
                  <a:lnTo>
                    <a:pt x="17" y="690"/>
                  </a:lnTo>
                  <a:lnTo>
                    <a:pt x="134" y="666"/>
                  </a:lnTo>
                  <a:lnTo>
                    <a:pt x="117" y="741"/>
                  </a:lnTo>
                  <a:lnTo>
                    <a:pt x="139" y="776"/>
                  </a:lnTo>
                  <a:lnTo>
                    <a:pt x="252" y="786"/>
                  </a:lnTo>
                  <a:lnTo>
                    <a:pt x="453" y="666"/>
                  </a:lnTo>
                  <a:lnTo>
                    <a:pt x="588" y="651"/>
                  </a:lnTo>
                  <a:lnTo>
                    <a:pt x="805" y="444"/>
                  </a:lnTo>
                  <a:lnTo>
                    <a:pt x="944" y="338"/>
                  </a:lnTo>
                  <a:lnTo>
                    <a:pt x="950" y="217"/>
                  </a:lnTo>
                  <a:lnTo>
                    <a:pt x="905" y="45"/>
                  </a:lnTo>
                  <a:lnTo>
                    <a:pt x="805" y="0"/>
                  </a:lnTo>
                  <a:lnTo>
                    <a:pt x="441" y="90"/>
                  </a:lnTo>
                  <a:lnTo>
                    <a:pt x="653" y="90"/>
                  </a:lnTo>
                  <a:lnTo>
                    <a:pt x="850" y="156"/>
                  </a:lnTo>
                  <a:lnTo>
                    <a:pt x="850" y="287"/>
                  </a:lnTo>
                  <a:lnTo>
                    <a:pt x="610" y="383"/>
                  </a:lnTo>
                  <a:lnTo>
                    <a:pt x="688" y="434"/>
                  </a:lnTo>
                  <a:lnTo>
                    <a:pt x="575" y="539"/>
                  </a:lnTo>
                  <a:lnTo>
                    <a:pt x="571" y="428"/>
                  </a:lnTo>
                  <a:lnTo>
                    <a:pt x="414" y="499"/>
                  </a:lnTo>
                  <a:lnTo>
                    <a:pt x="324" y="616"/>
                  </a:lnTo>
                  <a:lnTo>
                    <a:pt x="369" y="377"/>
                  </a:lnTo>
                  <a:lnTo>
                    <a:pt x="269" y="463"/>
                  </a:lnTo>
                  <a:lnTo>
                    <a:pt x="123" y="479"/>
                  </a:lnTo>
                  <a:lnTo>
                    <a:pt x="89" y="403"/>
                  </a:lnTo>
                  <a:lnTo>
                    <a:pt x="178" y="272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772240" y="2289240"/>
              <a:ext cx="914400" cy="79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152" h="1003">
                  <a:moveTo>
                    <a:pt x="263" y="14"/>
                  </a:moveTo>
                  <a:lnTo>
                    <a:pt x="421" y="0"/>
                  </a:lnTo>
                  <a:lnTo>
                    <a:pt x="380" y="105"/>
                  </a:lnTo>
                  <a:lnTo>
                    <a:pt x="443" y="135"/>
                  </a:lnTo>
                  <a:lnTo>
                    <a:pt x="280" y="266"/>
                  </a:lnTo>
                  <a:lnTo>
                    <a:pt x="191" y="453"/>
                  </a:lnTo>
                  <a:lnTo>
                    <a:pt x="152" y="725"/>
                  </a:lnTo>
                  <a:lnTo>
                    <a:pt x="146" y="821"/>
                  </a:lnTo>
                  <a:lnTo>
                    <a:pt x="269" y="907"/>
                  </a:lnTo>
                  <a:lnTo>
                    <a:pt x="565" y="862"/>
                  </a:lnTo>
                  <a:lnTo>
                    <a:pt x="710" y="821"/>
                  </a:lnTo>
                  <a:lnTo>
                    <a:pt x="777" y="735"/>
                  </a:lnTo>
                  <a:lnTo>
                    <a:pt x="1057" y="508"/>
                  </a:lnTo>
                  <a:lnTo>
                    <a:pt x="1029" y="675"/>
                  </a:lnTo>
                  <a:lnTo>
                    <a:pt x="957" y="806"/>
                  </a:lnTo>
                  <a:lnTo>
                    <a:pt x="979" y="862"/>
                  </a:lnTo>
                  <a:lnTo>
                    <a:pt x="1152" y="872"/>
                  </a:lnTo>
                  <a:lnTo>
                    <a:pt x="974" y="962"/>
                  </a:lnTo>
                  <a:lnTo>
                    <a:pt x="666" y="968"/>
                  </a:lnTo>
                  <a:lnTo>
                    <a:pt x="515" y="997"/>
                  </a:lnTo>
                  <a:lnTo>
                    <a:pt x="241" y="1003"/>
                  </a:lnTo>
                  <a:lnTo>
                    <a:pt x="0" y="827"/>
                  </a:lnTo>
                  <a:lnTo>
                    <a:pt x="67" y="696"/>
                  </a:lnTo>
                  <a:lnTo>
                    <a:pt x="163" y="327"/>
                  </a:lnTo>
                  <a:lnTo>
                    <a:pt x="302" y="39"/>
                  </a:lnTo>
                  <a:lnTo>
                    <a:pt x="263" y="14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30760" y="2984400"/>
              <a:ext cx="220680" cy="1620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280" h="203">
                  <a:moveTo>
                    <a:pt x="134" y="0"/>
                  </a:moveTo>
                  <a:lnTo>
                    <a:pt x="280" y="143"/>
                  </a:lnTo>
                  <a:lnTo>
                    <a:pt x="5" y="203"/>
                  </a:lnTo>
                  <a:lnTo>
                    <a:pt x="0" y="137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6157800" y="1531800"/>
              <a:ext cx="1035000" cy="151308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304" h="1906">
                  <a:moveTo>
                    <a:pt x="532" y="811"/>
                  </a:moveTo>
                  <a:lnTo>
                    <a:pt x="762" y="807"/>
                  </a:lnTo>
                  <a:lnTo>
                    <a:pt x="426" y="903"/>
                  </a:lnTo>
                  <a:lnTo>
                    <a:pt x="130" y="893"/>
                  </a:lnTo>
                  <a:lnTo>
                    <a:pt x="0" y="918"/>
                  </a:lnTo>
                  <a:lnTo>
                    <a:pt x="197" y="942"/>
                  </a:lnTo>
                  <a:lnTo>
                    <a:pt x="319" y="1003"/>
                  </a:lnTo>
                  <a:lnTo>
                    <a:pt x="549" y="942"/>
                  </a:lnTo>
                  <a:lnTo>
                    <a:pt x="673" y="954"/>
                  </a:lnTo>
                  <a:lnTo>
                    <a:pt x="673" y="903"/>
                  </a:lnTo>
                  <a:lnTo>
                    <a:pt x="851" y="811"/>
                  </a:lnTo>
                  <a:lnTo>
                    <a:pt x="851" y="741"/>
                  </a:lnTo>
                  <a:lnTo>
                    <a:pt x="660" y="716"/>
                  </a:lnTo>
                  <a:lnTo>
                    <a:pt x="923" y="690"/>
                  </a:lnTo>
                  <a:lnTo>
                    <a:pt x="1114" y="772"/>
                  </a:lnTo>
                  <a:lnTo>
                    <a:pt x="1114" y="923"/>
                  </a:lnTo>
                  <a:lnTo>
                    <a:pt x="929" y="1019"/>
                  </a:lnTo>
                  <a:lnTo>
                    <a:pt x="990" y="1024"/>
                  </a:lnTo>
                  <a:lnTo>
                    <a:pt x="918" y="1104"/>
                  </a:lnTo>
                  <a:lnTo>
                    <a:pt x="918" y="1175"/>
                  </a:lnTo>
                  <a:lnTo>
                    <a:pt x="817" y="1327"/>
                  </a:lnTo>
                  <a:lnTo>
                    <a:pt x="896" y="1331"/>
                  </a:lnTo>
                  <a:lnTo>
                    <a:pt x="734" y="1513"/>
                  </a:lnTo>
                  <a:lnTo>
                    <a:pt x="790" y="1533"/>
                  </a:lnTo>
                  <a:lnTo>
                    <a:pt x="784" y="1594"/>
                  </a:lnTo>
                  <a:lnTo>
                    <a:pt x="599" y="1715"/>
                  </a:lnTo>
                  <a:lnTo>
                    <a:pt x="673" y="1603"/>
                  </a:lnTo>
                  <a:lnTo>
                    <a:pt x="621" y="1498"/>
                  </a:lnTo>
                  <a:lnTo>
                    <a:pt x="699" y="1407"/>
                  </a:lnTo>
                  <a:lnTo>
                    <a:pt x="684" y="1267"/>
                  </a:lnTo>
                  <a:lnTo>
                    <a:pt x="638" y="1392"/>
                  </a:lnTo>
                  <a:lnTo>
                    <a:pt x="549" y="1427"/>
                  </a:lnTo>
                  <a:lnTo>
                    <a:pt x="571" y="1589"/>
                  </a:lnTo>
                  <a:lnTo>
                    <a:pt x="415" y="1750"/>
                  </a:lnTo>
                  <a:lnTo>
                    <a:pt x="404" y="1906"/>
                  </a:lnTo>
                  <a:lnTo>
                    <a:pt x="616" y="1891"/>
                  </a:lnTo>
                  <a:lnTo>
                    <a:pt x="795" y="1750"/>
                  </a:lnTo>
                  <a:lnTo>
                    <a:pt x="1018" y="1382"/>
                  </a:lnTo>
                  <a:lnTo>
                    <a:pt x="1231" y="1044"/>
                  </a:lnTo>
                  <a:lnTo>
                    <a:pt x="1304" y="858"/>
                  </a:lnTo>
                  <a:lnTo>
                    <a:pt x="1270" y="731"/>
                  </a:lnTo>
                  <a:lnTo>
                    <a:pt x="1085" y="635"/>
                  </a:lnTo>
                  <a:lnTo>
                    <a:pt x="616" y="600"/>
                  </a:lnTo>
                  <a:lnTo>
                    <a:pt x="482" y="534"/>
                  </a:lnTo>
                  <a:lnTo>
                    <a:pt x="482" y="383"/>
                  </a:lnTo>
                  <a:lnTo>
                    <a:pt x="599" y="342"/>
                  </a:lnTo>
                  <a:lnTo>
                    <a:pt x="645" y="367"/>
                  </a:lnTo>
                  <a:lnTo>
                    <a:pt x="712" y="459"/>
                  </a:lnTo>
                  <a:lnTo>
                    <a:pt x="857" y="484"/>
                  </a:lnTo>
                  <a:lnTo>
                    <a:pt x="979" y="484"/>
                  </a:lnTo>
                  <a:lnTo>
                    <a:pt x="1046" y="424"/>
                  </a:lnTo>
                  <a:lnTo>
                    <a:pt x="918" y="413"/>
                  </a:lnTo>
                  <a:lnTo>
                    <a:pt x="834" y="444"/>
                  </a:lnTo>
                  <a:lnTo>
                    <a:pt x="751" y="413"/>
                  </a:lnTo>
                  <a:lnTo>
                    <a:pt x="727" y="338"/>
                  </a:lnTo>
                  <a:lnTo>
                    <a:pt x="829" y="281"/>
                  </a:lnTo>
                  <a:lnTo>
                    <a:pt x="734" y="262"/>
                  </a:lnTo>
                  <a:lnTo>
                    <a:pt x="649" y="207"/>
                  </a:lnTo>
                  <a:lnTo>
                    <a:pt x="588" y="186"/>
                  </a:lnTo>
                  <a:lnTo>
                    <a:pt x="688" y="105"/>
                  </a:lnTo>
                  <a:lnTo>
                    <a:pt x="784" y="131"/>
                  </a:lnTo>
                  <a:lnTo>
                    <a:pt x="779" y="211"/>
                  </a:lnTo>
                  <a:lnTo>
                    <a:pt x="873" y="236"/>
                  </a:lnTo>
                  <a:lnTo>
                    <a:pt x="845" y="186"/>
                  </a:lnTo>
                  <a:lnTo>
                    <a:pt x="935" y="121"/>
                  </a:lnTo>
                  <a:lnTo>
                    <a:pt x="896" y="70"/>
                  </a:lnTo>
                  <a:lnTo>
                    <a:pt x="695" y="0"/>
                  </a:lnTo>
                  <a:lnTo>
                    <a:pt x="515" y="45"/>
                  </a:lnTo>
                  <a:lnTo>
                    <a:pt x="358" y="131"/>
                  </a:lnTo>
                  <a:lnTo>
                    <a:pt x="185" y="312"/>
                  </a:lnTo>
                  <a:lnTo>
                    <a:pt x="135" y="469"/>
                  </a:lnTo>
                  <a:lnTo>
                    <a:pt x="191" y="635"/>
                  </a:lnTo>
                  <a:lnTo>
                    <a:pt x="258" y="696"/>
                  </a:lnTo>
                  <a:lnTo>
                    <a:pt x="432" y="756"/>
                  </a:lnTo>
                  <a:lnTo>
                    <a:pt x="532" y="811"/>
                  </a:lnTo>
                  <a:close/>
                </a:path>
              </a:pathLst>
            </a:custGeom>
            <a:solidFill>
              <a:srgbClr val="d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523200" y="1550880"/>
              <a:ext cx="345960" cy="173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36" h="217">
                  <a:moveTo>
                    <a:pt x="397" y="35"/>
                  </a:moveTo>
                  <a:lnTo>
                    <a:pt x="291" y="0"/>
                  </a:lnTo>
                  <a:lnTo>
                    <a:pt x="128" y="30"/>
                  </a:lnTo>
                  <a:lnTo>
                    <a:pt x="0" y="141"/>
                  </a:lnTo>
                  <a:lnTo>
                    <a:pt x="61" y="141"/>
                  </a:lnTo>
                  <a:lnTo>
                    <a:pt x="66" y="192"/>
                  </a:lnTo>
                  <a:lnTo>
                    <a:pt x="200" y="217"/>
                  </a:lnTo>
                  <a:lnTo>
                    <a:pt x="330" y="201"/>
                  </a:lnTo>
                  <a:lnTo>
                    <a:pt x="330" y="125"/>
                  </a:lnTo>
                  <a:lnTo>
                    <a:pt x="436" y="70"/>
                  </a:lnTo>
                  <a:lnTo>
                    <a:pt x="397" y="35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6805440" y="1719360"/>
              <a:ext cx="795600" cy="42048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02" h="530">
                  <a:moveTo>
                    <a:pt x="0" y="51"/>
                  </a:moveTo>
                  <a:lnTo>
                    <a:pt x="225" y="36"/>
                  </a:lnTo>
                  <a:lnTo>
                    <a:pt x="275" y="0"/>
                  </a:lnTo>
                  <a:lnTo>
                    <a:pt x="375" y="21"/>
                  </a:lnTo>
                  <a:lnTo>
                    <a:pt x="839" y="339"/>
                  </a:lnTo>
                  <a:lnTo>
                    <a:pt x="1002" y="530"/>
                  </a:lnTo>
                  <a:lnTo>
                    <a:pt x="286" y="217"/>
                  </a:lnTo>
                  <a:lnTo>
                    <a:pt x="84" y="198"/>
                  </a:lnTo>
                  <a:lnTo>
                    <a:pt x="106" y="13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898720"/>
              <a:ext cx="550800" cy="3920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694" h="493">
                  <a:moveTo>
                    <a:pt x="669" y="0"/>
                  </a:moveTo>
                  <a:lnTo>
                    <a:pt x="429" y="129"/>
                  </a:lnTo>
                  <a:lnTo>
                    <a:pt x="255" y="225"/>
                  </a:lnTo>
                  <a:lnTo>
                    <a:pt x="142" y="313"/>
                  </a:lnTo>
                  <a:lnTo>
                    <a:pt x="19" y="406"/>
                  </a:lnTo>
                  <a:lnTo>
                    <a:pt x="0" y="493"/>
                  </a:lnTo>
                  <a:lnTo>
                    <a:pt x="302" y="244"/>
                  </a:lnTo>
                  <a:lnTo>
                    <a:pt x="694" y="31"/>
                  </a:lnTo>
                  <a:lnTo>
                    <a:pt x="66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178760" y="2720880"/>
              <a:ext cx="314280" cy="204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6" h="259">
                  <a:moveTo>
                    <a:pt x="296" y="0"/>
                  </a:moveTo>
                  <a:lnTo>
                    <a:pt x="197" y="57"/>
                  </a:lnTo>
                  <a:lnTo>
                    <a:pt x="246" y="81"/>
                  </a:lnTo>
                  <a:lnTo>
                    <a:pt x="139" y="134"/>
                  </a:lnTo>
                  <a:lnTo>
                    <a:pt x="139" y="81"/>
                  </a:lnTo>
                  <a:lnTo>
                    <a:pt x="3" y="165"/>
                  </a:lnTo>
                  <a:lnTo>
                    <a:pt x="0" y="259"/>
                  </a:lnTo>
                  <a:lnTo>
                    <a:pt x="210" y="200"/>
                  </a:lnTo>
                  <a:lnTo>
                    <a:pt x="396" y="7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d17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6691320" y="2071800"/>
              <a:ext cx="385920" cy="5698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486" h="718">
                  <a:moveTo>
                    <a:pt x="0" y="26"/>
                  </a:moveTo>
                  <a:lnTo>
                    <a:pt x="278" y="0"/>
                  </a:lnTo>
                  <a:lnTo>
                    <a:pt x="458" y="86"/>
                  </a:lnTo>
                  <a:lnTo>
                    <a:pt x="486" y="192"/>
                  </a:lnTo>
                  <a:lnTo>
                    <a:pt x="441" y="323"/>
                  </a:lnTo>
                  <a:lnTo>
                    <a:pt x="290" y="444"/>
                  </a:lnTo>
                  <a:lnTo>
                    <a:pt x="256" y="601"/>
                  </a:lnTo>
                  <a:lnTo>
                    <a:pt x="83" y="718"/>
                  </a:lnTo>
                  <a:lnTo>
                    <a:pt x="161" y="540"/>
                  </a:lnTo>
                  <a:lnTo>
                    <a:pt x="184" y="358"/>
                  </a:lnTo>
                  <a:lnTo>
                    <a:pt x="273" y="248"/>
                  </a:lnTo>
                  <a:lnTo>
                    <a:pt x="144" y="258"/>
                  </a:lnTo>
                  <a:lnTo>
                    <a:pt x="290" y="112"/>
                  </a:lnTo>
                  <a:lnTo>
                    <a:pt x="211" y="6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6402240" y="1763640"/>
              <a:ext cx="444600" cy="3049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560" h="385">
                  <a:moveTo>
                    <a:pt x="365" y="37"/>
                  </a:moveTo>
                  <a:lnTo>
                    <a:pt x="352" y="12"/>
                  </a:lnTo>
                  <a:lnTo>
                    <a:pt x="163" y="0"/>
                  </a:lnTo>
                  <a:lnTo>
                    <a:pt x="68" y="72"/>
                  </a:lnTo>
                  <a:lnTo>
                    <a:pt x="0" y="168"/>
                  </a:lnTo>
                  <a:lnTo>
                    <a:pt x="57" y="274"/>
                  </a:lnTo>
                  <a:lnTo>
                    <a:pt x="85" y="243"/>
                  </a:lnTo>
                  <a:lnTo>
                    <a:pt x="152" y="339"/>
                  </a:lnTo>
                  <a:lnTo>
                    <a:pt x="269" y="385"/>
                  </a:lnTo>
                  <a:lnTo>
                    <a:pt x="560" y="329"/>
                  </a:lnTo>
                  <a:lnTo>
                    <a:pt x="330" y="324"/>
                  </a:lnTo>
                  <a:lnTo>
                    <a:pt x="152" y="238"/>
                  </a:lnTo>
                  <a:lnTo>
                    <a:pt x="152" y="122"/>
                  </a:lnTo>
                  <a:lnTo>
                    <a:pt x="252" y="62"/>
                  </a:lnTo>
                  <a:lnTo>
                    <a:pt x="341" y="98"/>
                  </a:lnTo>
                  <a:lnTo>
                    <a:pt x="365" y="3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286680" y="1679400"/>
              <a:ext cx="284040" cy="4572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58" h="576">
                  <a:moveTo>
                    <a:pt x="174" y="0"/>
                  </a:moveTo>
                  <a:lnTo>
                    <a:pt x="61" y="121"/>
                  </a:lnTo>
                  <a:lnTo>
                    <a:pt x="0" y="293"/>
                  </a:lnTo>
                  <a:lnTo>
                    <a:pt x="34" y="459"/>
                  </a:lnTo>
                  <a:lnTo>
                    <a:pt x="124" y="504"/>
                  </a:lnTo>
                  <a:lnTo>
                    <a:pt x="358" y="576"/>
                  </a:lnTo>
                  <a:lnTo>
                    <a:pt x="124" y="444"/>
                  </a:lnTo>
                  <a:lnTo>
                    <a:pt x="78" y="338"/>
                  </a:lnTo>
                  <a:lnTo>
                    <a:pt x="78" y="172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649920" y="1479600"/>
              <a:ext cx="254160" cy="212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268">
                  <a:moveTo>
                    <a:pt x="321" y="169"/>
                  </a:moveTo>
                  <a:lnTo>
                    <a:pt x="278" y="202"/>
                  </a:lnTo>
                  <a:lnTo>
                    <a:pt x="169" y="168"/>
                  </a:lnTo>
                  <a:lnTo>
                    <a:pt x="163" y="213"/>
                  </a:lnTo>
                  <a:lnTo>
                    <a:pt x="113" y="213"/>
                  </a:lnTo>
                  <a:lnTo>
                    <a:pt x="141" y="268"/>
                  </a:lnTo>
                  <a:lnTo>
                    <a:pt x="34" y="239"/>
                  </a:lnTo>
                  <a:lnTo>
                    <a:pt x="67" y="208"/>
                  </a:lnTo>
                  <a:lnTo>
                    <a:pt x="34" y="168"/>
                  </a:lnTo>
                  <a:lnTo>
                    <a:pt x="113" y="168"/>
                  </a:lnTo>
                  <a:lnTo>
                    <a:pt x="74" y="117"/>
                  </a:lnTo>
                  <a:lnTo>
                    <a:pt x="158" y="143"/>
                  </a:lnTo>
                  <a:lnTo>
                    <a:pt x="0" y="0"/>
                  </a:lnTo>
                  <a:lnTo>
                    <a:pt x="321" y="1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464160" y="2079720"/>
              <a:ext cx="731880" cy="9698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922" h="1222">
                  <a:moveTo>
                    <a:pt x="201" y="763"/>
                  </a:moveTo>
                  <a:lnTo>
                    <a:pt x="201" y="939"/>
                  </a:lnTo>
                  <a:lnTo>
                    <a:pt x="101" y="1066"/>
                  </a:lnTo>
                  <a:lnTo>
                    <a:pt x="145" y="1136"/>
                  </a:lnTo>
                  <a:lnTo>
                    <a:pt x="251" y="1091"/>
                  </a:lnTo>
                  <a:lnTo>
                    <a:pt x="212" y="1050"/>
                  </a:lnTo>
                  <a:lnTo>
                    <a:pt x="358" y="999"/>
                  </a:lnTo>
                  <a:lnTo>
                    <a:pt x="464" y="863"/>
                  </a:lnTo>
                  <a:lnTo>
                    <a:pt x="403" y="803"/>
                  </a:lnTo>
                  <a:lnTo>
                    <a:pt x="609" y="637"/>
                  </a:lnTo>
                  <a:lnTo>
                    <a:pt x="659" y="551"/>
                  </a:lnTo>
                  <a:lnTo>
                    <a:pt x="581" y="555"/>
                  </a:lnTo>
                  <a:lnTo>
                    <a:pt x="637" y="460"/>
                  </a:lnTo>
                  <a:lnTo>
                    <a:pt x="833" y="283"/>
                  </a:lnTo>
                  <a:lnTo>
                    <a:pt x="872" y="147"/>
                  </a:lnTo>
                  <a:lnTo>
                    <a:pt x="850" y="0"/>
                  </a:lnTo>
                  <a:lnTo>
                    <a:pt x="922" y="142"/>
                  </a:lnTo>
                  <a:lnTo>
                    <a:pt x="889" y="379"/>
                  </a:lnTo>
                  <a:lnTo>
                    <a:pt x="755" y="505"/>
                  </a:lnTo>
                  <a:lnTo>
                    <a:pt x="620" y="717"/>
                  </a:lnTo>
                  <a:lnTo>
                    <a:pt x="553" y="843"/>
                  </a:lnTo>
                  <a:lnTo>
                    <a:pt x="351" y="1105"/>
                  </a:lnTo>
                  <a:lnTo>
                    <a:pt x="145" y="1222"/>
                  </a:lnTo>
                  <a:lnTo>
                    <a:pt x="6" y="1197"/>
                  </a:lnTo>
                  <a:lnTo>
                    <a:pt x="0" y="1070"/>
                  </a:lnTo>
                  <a:lnTo>
                    <a:pt x="156" y="954"/>
                  </a:lnTo>
                  <a:lnTo>
                    <a:pt x="201" y="76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832440" y="1749240"/>
              <a:ext cx="763920" cy="3938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1" h="495">
                  <a:moveTo>
                    <a:pt x="72" y="154"/>
                  </a:moveTo>
                  <a:lnTo>
                    <a:pt x="181" y="120"/>
                  </a:lnTo>
                  <a:lnTo>
                    <a:pt x="0" y="44"/>
                  </a:lnTo>
                  <a:lnTo>
                    <a:pt x="188" y="38"/>
                  </a:lnTo>
                  <a:lnTo>
                    <a:pt x="453" y="158"/>
                  </a:lnTo>
                  <a:lnTo>
                    <a:pt x="264" y="38"/>
                  </a:lnTo>
                  <a:lnTo>
                    <a:pt x="277" y="0"/>
                  </a:lnTo>
                  <a:lnTo>
                    <a:pt x="325" y="13"/>
                  </a:lnTo>
                  <a:lnTo>
                    <a:pt x="605" y="208"/>
                  </a:lnTo>
                  <a:lnTo>
                    <a:pt x="766" y="309"/>
                  </a:lnTo>
                  <a:lnTo>
                    <a:pt x="705" y="230"/>
                  </a:lnTo>
                  <a:lnTo>
                    <a:pt x="900" y="387"/>
                  </a:lnTo>
                  <a:lnTo>
                    <a:pt x="961" y="495"/>
                  </a:lnTo>
                  <a:lnTo>
                    <a:pt x="672" y="375"/>
                  </a:lnTo>
                  <a:lnTo>
                    <a:pt x="234" y="170"/>
                  </a:lnTo>
                  <a:lnTo>
                    <a:pt x="72" y="154"/>
                  </a:lnTo>
                  <a:close/>
                </a:path>
              </a:pathLst>
            </a:custGeom>
            <a:solidFill>
              <a:srgbClr val="ffd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869160" y="1666800"/>
              <a:ext cx="41400" cy="334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3" h="42">
                  <a:moveTo>
                    <a:pt x="16" y="0"/>
                  </a:moveTo>
                  <a:lnTo>
                    <a:pt x="49" y="0"/>
                  </a:lnTo>
                  <a:lnTo>
                    <a:pt x="53" y="28"/>
                  </a:lnTo>
                  <a:lnTo>
                    <a:pt x="27" y="42"/>
                  </a:lnTo>
                  <a:lnTo>
                    <a:pt x="0" y="2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045200" y="1752480"/>
              <a:ext cx="211320" cy="1270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4" h="159">
                  <a:moveTo>
                    <a:pt x="206" y="117"/>
                  </a:moveTo>
                  <a:lnTo>
                    <a:pt x="51" y="33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53" y="66"/>
                  </a:lnTo>
                  <a:lnTo>
                    <a:pt x="264" y="159"/>
                  </a:lnTo>
                  <a:lnTo>
                    <a:pt x="20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5948280" y="2311200"/>
              <a:ext cx="771480" cy="627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71" h="789">
                  <a:moveTo>
                    <a:pt x="669" y="28"/>
                  </a:moveTo>
                  <a:lnTo>
                    <a:pt x="855" y="0"/>
                  </a:lnTo>
                  <a:lnTo>
                    <a:pt x="938" y="46"/>
                  </a:lnTo>
                  <a:lnTo>
                    <a:pt x="958" y="151"/>
                  </a:lnTo>
                  <a:lnTo>
                    <a:pt x="958" y="170"/>
                  </a:lnTo>
                  <a:lnTo>
                    <a:pt x="960" y="200"/>
                  </a:lnTo>
                  <a:lnTo>
                    <a:pt x="961" y="234"/>
                  </a:lnTo>
                  <a:lnTo>
                    <a:pt x="963" y="238"/>
                  </a:lnTo>
                  <a:lnTo>
                    <a:pt x="963" y="244"/>
                  </a:lnTo>
                  <a:lnTo>
                    <a:pt x="963" y="248"/>
                  </a:lnTo>
                  <a:lnTo>
                    <a:pt x="963" y="252"/>
                  </a:lnTo>
                  <a:lnTo>
                    <a:pt x="963" y="256"/>
                  </a:lnTo>
                  <a:lnTo>
                    <a:pt x="964" y="261"/>
                  </a:lnTo>
                  <a:lnTo>
                    <a:pt x="964" y="263"/>
                  </a:lnTo>
                  <a:lnTo>
                    <a:pt x="964" y="265"/>
                  </a:lnTo>
                  <a:lnTo>
                    <a:pt x="964" y="270"/>
                  </a:lnTo>
                  <a:lnTo>
                    <a:pt x="971" y="359"/>
                  </a:lnTo>
                  <a:lnTo>
                    <a:pt x="874" y="447"/>
                  </a:lnTo>
                  <a:lnTo>
                    <a:pt x="778" y="545"/>
                  </a:lnTo>
                  <a:lnTo>
                    <a:pt x="591" y="719"/>
                  </a:lnTo>
                  <a:lnTo>
                    <a:pt x="444" y="696"/>
                  </a:lnTo>
                  <a:lnTo>
                    <a:pt x="328" y="771"/>
                  </a:lnTo>
                  <a:lnTo>
                    <a:pt x="192" y="789"/>
                  </a:lnTo>
                  <a:lnTo>
                    <a:pt x="122" y="754"/>
                  </a:lnTo>
                  <a:lnTo>
                    <a:pt x="205" y="609"/>
                  </a:lnTo>
                  <a:lnTo>
                    <a:pt x="12" y="661"/>
                  </a:lnTo>
                  <a:lnTo>
                    <a:pt x="0" y="597"/>
                  </a:lnTo>
                  <a:lnTo>
                    <a:pt x="12" y="516"/>
                  </a:lnTo>
                  <a:lnTo>
                    <a:pt x="37" y="586"/>
                  </a:lnTo>
                  <a:lnTo>
                    <a:pt x="161" y="586"/>
                  </a:lnTo>
                  <a:lnTo>
                    <a:pt x="295" y="528"/>
                  </a:lnTo>
                  <a:lnTo>
                    <a:pt x="250" y="614"/>
                  </a:lnTo>
                  <a:lnTo>
                    <a:pt x="212" y="696"/>
                  </a:lnTo>
                  <a:lnTo>
                    <a:pt x="283" y="743"/>
                  </a:lnTo>
                  <a:lnTo>
                    <a:pt x="366" y="644"/>
                  </a:lnTo>
                  <a:lnTo>
                    <a:pt x="533" y="540"/>
                  </a:lnTo>
                  <a:lnTo>
                    <a:pt x="508" y="638"/>
                  </a:lnTo>
                  <a:lnTo>
                    <a:pt x="597" y="638"/>
                  </a:lnTo>
                  <a:lnTo>
                    <a:pt x="706" y="557"/>
                  </a:lnTo>
                  <a:lnTo>
                    <a:pt x="771" y="458"/>
                  </a:lnTo>
                  <a:lnTo>
                    <a:pt x="642" y="428"/>
                  </a:lnTo>
                  <a:lnTo>
                    <a:pt x="746" y="394"/>
                  </a:lnTo>
                  <a:lnTo>
                    <a:pt x="888" y="376"/>
                  </a:lnTo>
                  <a:lnTo>
                    <a:pt x="913" y="272"/>
                  </a:lnTo>
                  <a:lnTo>
                    <a:pt x="867" y="86"/>
                  </a:lnTo>
                  <a:lnTo>
                    <a:pt x="803" y="63"/>
                  </a:lnTo>
                  <a:lnTo>
                    <a:pt x="533" y="75"/>
                  </a:lnTo>
                  <a:lnTo>
                    <a:pt x="66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211800" y="3622680"/>
              <a:ext cx="50760" cy="160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4" h="202">
                  <a:moveTo>
                    <a:pt x="64" y="202"/>
                  </a:moveTo>
                  <a:lnTo>
                    <a:pt x="0" y="0"/>
                  </a:lnTo>
                  <a:lnTo>
                    <a:pt x="64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6326280" y="2674800"/>
              <a:ext cx="1333440" cy="119880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1679" h="1509">
                  <a:moveTo>
                    <a:pt x="49" y="1091"/>
                  </a:moveTo>
                  <a:lnTo>
                    <a:pt x="180" y="847"/>
                  </a:lnTo>
                  <a:lnTo>
                    <a:pt x="358" y="613"/>
                  </a:lnTo>
                  <a:lnTo>
                    <a:pt x="550" y="485"/>
                  </a:lnTo>
                  <a:lnTo>
                    <a:pt x="399" y="720"/>
                  </a:lnTo>
                  <a:lnTo>
                    <a:pt x="638" y="542"/>
                  </a:lnTo>
                  <a:lnTo>
                    <a:pt x="982" y="372"/>
                  </a:lnTo>
                  <a:lnTo>
                    <a:pt x="968" y="340"/>
                  </a:lnTo>
                  <a:lnTo>
                    <a:pt x="1055" y="293"/>
                  </a:lnTo>
                  <a:lnTo>
                    <a:pt x="1055" y="238"/>
                  </a:lnTo>
                  <a:lnTo>
                    <a:pt x="1113" y="200"/>
                  </a:lnTo>
                  <a:lnTo>
                    <a:pt x="1110" y="304"/>
                  </a:lnTo>
                  <a:lnTo>
                    <a:pt x="1377" y="197"/>
                  </a:lnTo>
                  <a:lnTo>
                    <a:pt x="1402" y="96"/>
                  </a:lnTo>
                  <a:lnTo>
                    <a:pt x="1302" y="99"/>
                  </a:lnTo>
                  <a:lnTo>
                    <a:pt x="1380" y="46"/>
                  </a:lnTo>
                  <a:lnTo>
                    <a:pt x="1473" y="70"/>
                  </a:lnTo>
                  <a:lnTo>
                    <a:pt x="1643" y="0"/>
                  </a:lnTo>
                  <a:lnTo>
                    <a:pt x="1679" y="14"/>
                  </a:lnTo>
                  <a:lnTo>
                    <a:pt x="1518" y="84"/>
                  </a:lnTo>
                  <a:lnTo>
                    <a:pt x="1493" y="156"/>
                  </a:lnTo>
                  <a:lnTo>
                    <a:pt x="1445" y="227"/>
                  </a:lnTo>
                  <a:lnTo>
                    <a:pt x="1129" y="378"/>
                  </a:lnTo>
                  <a:lnTo>
                    <a:pt x="1062" y="362"/>
                  </a:lnTo>
                  <a:lnTo>
                    <a:pt x="779" y="499"/>
                  </a:lnTo>
                  <a:lnTo>
                    <a:pt x="405" y="805"/>
                  </a:lnTo>
                  <a:lnTo>
                    <a:pt x="283" y="1010"/>
                  </a:lnTo>
                  <a:lnTo>
                    <a:pt x="528" y="819"/>
                  </a:lnTo>
                  <a:lnTo>
                    <a:pt x="940" y="592"/>
                  </a:lnTo>
                  <a:lnTo>
                    <a:pt x="1315" y="504"/>
                  </a:lnTo>
                  <a:lnTo>
                    <a:pt x="1551" y="545"/>
                  </a:lnTo>
                  <a:lnTo>
                    <a:pt x="1634" y="597"/>
                  </a:lnTo>
                  <a:lnTo>
                    <a:pt x="1473" y="624"/>
                  </a:lnTo>
                  <a:lnTo>
                    <a:pt x="1043" y="743"/>
                  </a:lnTo>
                  <a:lnTo>
                    <a:pt x="769" y="882"/>
                  </a:lnTo>
                  <a:lnTo>
                    <a:pt x="569" y="1063"/>
                  </a:lnTo>
                  <a:lnTo>
                    <a:pt x="833" y="1008"/>
                  </a:lnTo>
                  <a:lnTo>
                    <a:pt x="1040" y="816"/>
                  </a:lnTo>
                  <a:lnTo>
                    <a:pt x="1179" y="765"/>
                  </a:lnTo>
                  <a:lnTo>
                    <a:pt x="979" y="995"/>
                  </a:lnTo>
                  <a:lnTo>
                    <a:pt x="1262" y="984"/>
                  </a:lnTo>
                  <a:lnTo>
                    <a:pt x="1432" y="1094"/>
                  </a:lnTo>
                  <a:lnTo>
                    <a:pt x="1438" y="1280"/>
                  </a:lnTo>
                  <a:lnTo>
                    <a:pt x="1479" y="1397"/>
                  </a:lnTo>
                  <a:lnTo>
                    <a:pt x="1360" y="1298"/>
                  </a:lnTo>
                  <a:lnTo>
                    <a:pt x="1268" y="1129"/>
                  </a:lnTo>
                  <a:lnTo>
                    <a:pt x="1180" y="1112"/>
                  </a:lnTo>
                  <a:lnTo>
                    <a:pt x="937" y="1132"/>
                  </a:lnTo>
                  <a:lnTo>
                    <a:pt x="846" y="1246"/>
                  </a:lnTo>
                  <a:lnTo>
                    <a:pt x="772" y="1474"/>
                  </a:lnTo>
                  <a:lnTo>
                    <a:pt x="754" y="1375"/>
                  </a:lnTo>
                  <a:lnTo>
                    <a:pt x="593" y="1509"/>
                  </a:lnTo>
                  <a:lnTo>
                    <a:pt x="766" y="1178"/>
                  </a:lnTo>
                  <a:lnTo>
                    <a:pt x="514" y="1277"/>
                  </a:lnTo>
                  <a:lnTo>
                    <a:pt x="322" y="1446"/>
                  </a:lnTo>
                  <a:lnTo>
                    <a:pt x="450" y="1219"/>
                  </a:lnTo>
                  <a:lnTo>
                    <a:pt x="843" y="1103"/>
                  </a:lnTo>
                  <a:lnTo>
                    <a:pt x="1229" y="1057"/>
                  </a:lnTo>
                  <a:lnTo>
                    <a:pt x="1370" y="1172"/>
                  </a:lnTo>
                  <a:lnTo>
                    <a:pt x="1338" y="1074"/>
                  </a:lnTo>
                  <a:lnTo>
                    <a:pt x="1196" y="1016"/>
                  </a:lnTo>
                  <a:lnTo>
                    <a:pt x="791" y="1039"/>
                  </a:lnTo>
                  <a:lnTo>
                    <a:pt x="460" y="1147"/>
                  </a:lnTo>
                  <a:lnTo>
                    <a:pt x="663" y="865"/>
                  </a:lnTo>
                  <a:lnTo>
                    <a:pt x="1062" y="679"/>
                  </a:lnTo>
                  <a:lnTo>
                    <a:pt x="1429" y="575"/>
                  </a:lnTo>
                  <a:lnTo>
                    <a:pt x="1016" y="621"/>
                  </a:lnTo>
                  <a:lnTo>
                    <a:pt x="489" y="907"/>
                  </a:lnTo>
                  <a:lnTo>
                    <a:pt x="114" y="1333"/>
                  </a:lnTo>
                  <a:lnTo>
                    <a:pt x="341" y="714"/>
                  </a:lnTo>
                  <a:lnTo>
                    <a:pt x="174" y="1003"/>
                  </a:lnTo>
                  <a:lnTo>
                    <a:pt x="20" y="1422"/>
                  </a:lnTo>
                  <a:lnTo>
                    <a:pt x="0" y="934"/>
                  </a:lnTo>
                  <a:lnTo>
                    <a:pt x="49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097680" y="1360440"/>
              <a:ext cx="1573200" cy="831960"/>
            </a:xfrm>
            <a:custGeom>
              <a:avLst/>
              <a:gdLst>
                <a:gd name="textAreaLeft" fmla="*/ 0 w 1573200"/>
                <a:gd name="textAreaRight" fmla="*/ 1573560 w 15732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1983" h="1047">
                  <a:moveTo>
                    <a:pt x="1276" y="461"/>
                  </a:moveTo>
                  <a:lnTo>
                    <a:pt x="1257" y="317"/>
                  </a:lnTo>
                  <a:lnTo>
                    <a:pt x="1184" y="186"/>
                  </a:lnTo>
                  <a:lnTo>
                    <a:pt x="1038" y="59"/>
                  </a:lnTo>
                  <a:lnTo>
                    <a:pt x="996" y="93"/>
                  </a:lnTo>
                  <a:lnTo>
                    <a:pt x="907" y="59"/>
                  </a:lnTo>
                  <a:lnTo>
                    <a:pt x="846" y="72"/>
                  </a:lnTo>
                  <a:lnTo>
                    <a:pt x="702" y="13"/>
                  </a:lnTo>
                  <a:lnTo>
                    <a:pt x="576" y="0"/>
                  </a:lnTo>
                  <a:lnTo>
                    <a:pt x="576" y="21"/>
                  </a:lnTo>
                  <a:lnTo>
                    <a:pt x="679" y="85"/>
                  </a:lnTo>
                  <a:lnTo>
                    <a:pt x="393" y="38"/>
                  </a:lnTo>
                  <a:lnTo>
                    <a:pt x="240" y="38"/>
                  </a:lnTo>
                  <a:lnTo>
                    <a:pt x="19" y="76"/>
                  </a:lnTo>
                  <a:lnTo>
                    <a:pt x="66" y="101"/>
                  </a:lnTo>
                  <a:lnTo>
                    <a:pt x="244" y="89"/>
                  </a:lnTo>
                  <a:lnTo>
                    <a:pt x="416" y="118"/>
                  </a:lnTo>
                  <a:lnTo>
                    <a:pt x="132" y="152"/>
                  </a:lnTo>
                  <a:lnTo>
                    <a:pt x="33" y="178"/>
                  </a:lnTo>
                  <a:lnTo>
                    <a:pt x="0" y="220"/>
                  </a:lnTo>
                  <a:lnTo>
                    <a:pt x="132" y="186"/>
                  </a:lnTo>
                  <a:lnTo>
                    <a:pt x="468" y="173"/>
                  </a:lnTo>
                  <a:lnTo>
                    <a:pt x="651" y="216"/>
                  </a:lnTo>
                  <a:lnTo>
                    <a:pt x="482" y="279"/>
                  </a:lnTo>
                  <a:lnTo>
                    <a:pt x="365" y="359"/>
                  </a:lnTo>
                  <a:lnTo>
                    <a:pt x="226" y="561"/>
                  </a:lnTo>
                  <a:lnTo>
                    <a:pt x="202" y="683"/>
                  </a:lnTo>
                  <a:lnTo>
                    <a:pt x="221" y="802"/>
                  </a:lnTo>
                  <a:lnTo>
                    <a:pt x="304" y="920"/>
                  </a:lnTo>
                  <a:lnTo>
                    <a:pt x="440" y="963"/>
                  </a:lnTo>
                  <a:lnTo>
                    <a:pt x="604" y="1043"/>
                  </a:lnTo>
                  <a:lnTo>
                    <a:pt x="688" y="1034"/>
                  </a:lnTo>
                  <a:lnTo>
                    <a:pt x="571" y="954"/>
                  </a:lnTo>
                  <a:lnTo>
                    <a:pt x="402" y="908"/>
                  </a:lnTo>
                  <a:lnTo>
                    <a:pt x="310" y="865"/>
                  </a:lnTo>
                  <a:lnTo>
                    <a:pt x="254" y="760"/>
                  </a:lnTo>
                  <a:lnTo>
                    <a:pt x="254" y="650"/>
                  </a:lnTo>
                  <a:lnTo>
                    <a:pt x="337" y="478"/>
                  </a:lnTo>
                  <a:lnTo>
                    <a:pt x="491" y="347"/>
                  </a:lnTo>
                  <a:lnTo>
                    <a:pt x="627" y="266"/>
                  </a:lnTo>
                  <a:lnTo>
                    <a:pt x="790" y="245"/>
                  </a:lnTo>
                  <a:lnTo>
                    <a:pt x="1057" y="357"/>
                  </a:lnTo>
                  <a:lnTo>
                    <a:pt x="996" y="271"/>
                  </a:lnTo>
                  <a:lnTo>
                    <a:pt x="745" y="76"/>
                  </a:lnTo>
                  <a:lnTo>
                    <a:pt x="870" y="110"/>
                  </a:lnTo>
                  <a:lnTo>
                    <a:pt x="935" y="106"/>
                  </a:lnTo>
                  <a:lnTo>
                    <a:pt x="1053" y="161"/>
                  </a:lnTo>
                  <a:lnTo>
                    <a:pt x="1053" y="118"/>
                  </a:lnTo>
                  <a:lnTo>
                    <a:pt x="1137" y="199"/>
                  </a:lnTo>
                  <a:lnTo>
                    <a:pt x="1229" y="359"/>
                  </a:lnTo>
                  <a:lnTo>
                    <a:pt x="1237" y="462"/>
                  </a:lnTo>
                  <a:lnTo>
                    <a:pt x="1715" y="798"/>
                  </a:lnTo>
                  <a:lnTo>
                    <a:pt x="1875" y="958"/>
                  </a:lnTo>
                  <a:lnTo>
                    <a:pt x="1567" y="743"/>
                  </a:lnTo>
                  <a:lnTo>
                    <a:pt x="1226" y="582"/>
                  </a:lnTo>
                  <a:lnTo>
                    <a:pt x="1095" y="528"/>
                  </a:lnTo>
                  <a:lnTo>
                    <a:pt x="902" y="503"/>
                  </a:lnTo>
                  <a:lnTo>
                    <a:pt x="874" y="528"/>
                  </a:lnTo>
                  <a:lnTo>
                    <a:pt x="992" y="544"/>
                  </a:lnTo>
                  <a:lnTo>
                    <a:pt x="1220" y="612"/>
                  </a:lnTo>
                  <a:lnTo>
                    <a:pt x="1515" y="760"/>
                  </a:lnTo>
                  <a:lnTo>
                    <a:pt x="1739" y="903"/>
                  </a:lnTo>
                  <a:lnTo>
                    <a:pt x="1212" y="667"/>
                  </a:lnTo>
                  <a:lnTo>
                    <a:pt x="1142" y="641"/>
                  </a:lnTo>
                  <a:lnTo>
                    <a:pt x="1001" y="629"/>
                  </a:lnTo>
                  <a:lnTo>
                    <a:pt x="963" y="654"/>
                  </a:lnTo>
                  <a:lnTo>
                    <a:pt x="1043" y="658"/>
                  </a:lnTo>
                  <a:lnTo>
                    <a:pt x="1262" y="722"/>
                  </a:lnTo>
                  <a:lnTo>
                    <a:pt x="1506" y="831"/>
                  </a:lnTo>
                  <a:lnTo>
                    <a:pt x="1823" y="979"/>
                  </a:lnTo>
                  <a:lnTo>
                    <a:pt x="1931" y="1022"/>
                  </a:lnTo>
                  <a:lnTo>
                    <a:pt x="1959" y="1047"/>
                  </a:lnTo>
                  <a:lnTo>
                    <a:pt x="1983" y="1022"/>
                  </a:lnTo>
                  <a:lnTo>
                    <a:pt x="1851" y="857"/>
                  </a:lnTo>
                  <a:lnTo>
                    <a:pt x="1567" y="658"/>
                  </a:lnTo>
                  <a:lnTo>
                    <a:pt x="1276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770520" y="1619280"/>
              <a:ext cx="228600" cy="117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9" h="149">
                  <a:moveTo>
                    <a:pt x="172" y="29"/>
                  </a:moveTo>
                  <a:lnTo>
                    <a:pt x="137" y="39"/>
                  </a:lnTo>
                  <a:lnTo>
                    <a:pt x="106" y="54"/>
                  </a:lnTo>
                  <a:lnTo>
                    <a:pt x="95" y="81"/>
                  </a:lnTo>
                  <a:lnTo>
                    <a:pt x="106" y="114"/>
                  </a:lnTo>
                  <a:lnTo>
                    <a:pt x="139" y="124"/>
                  </a:lnTo>
                  <a:lnTo>
                    <a:pt x="178" y="115"/>
                  </a:lnTo>
                  <a:lnTo>
                    <a:pt x="201" y="97"/>
                  </a:lnTo>
                  <a:lnTo>
                    <a:pt x="223" y="63"/>
                  </a:lnTo>
                  <a:lnTo>
                    <a:pt x="289" y="114"/>
                  </a:lnTo>
                  <a:lnTo>
                    <a:pt x="228" y="102"/>
                  </a:lnTo>
                  <a:lnTo>
                    <a:pt x="239" y="131"/>
                  </a:lnTo>
                  <a:lnTo>
                    <a:pt x="206" y="126"/>
                  </a:lnTo>
                  <a:lnTo>
                    <a:pt x="181" y="147"/>
                  </a:lnTo>
                  <a:lnTo>
                    <a:pt x="125" y="149"/>
                  </a:lnTo>
                  <a:lnTo>
                    <a:pt x="78" y="114"/>
                  </a:lnTo>
                  <a:lnTo>
                    <a:pt x="65" y="84"/>
                  </a:lnTo>
                  <a:lnTo>
                    <a:pt x="0" y="50"/>
                  </a:lnTo>
                  <a:lnTo>
                    <a:pt x="83" y="50"/>
                  </a:lnTo>
                  <a:lnTo>
                    <a:pt x="42" y="15"/>
                  </a:lnTo>
                  <a:lnTo>
                    <a:pt x="98" y="25"/>
                  </a:lnTo>
                  <a:lnTo>
                    <a:pt x="159" y="0"/>
                  </a:lnTo>
                  <a:lnTo>
                    <a:pt x="206" y="26"/>
                  </a:lnTo>
                  <a:lnTo>
                    <a:pt x="17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431040" y="1782720"/>
              <a:ext cx="793800" cy="8557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999" h="1078">
                  <a:moveTo>
                    <a:pt x="711" y="144"/>
                  </a:moveTo>
                  <a:lnTo>
                    <a:pt x="641" y="178"/>
                  </a:lnTo>
                  <a:lnTo>
                    <a:pt x="458" y="191"/>
                  </a:lnTo>
                  <a:lnTo>
                    <a:pt x="327" y="140"/>
                  </a:lnTo>
                  <a:lnTo>
                    <a:pt x="281" y="76"/>
                  </a:lnTo>
                  <a:lnTo>
                    <a:pt x="206" y="68"/>
                  </a:lnTo>
                  <a:lnTo>
                    <a:pt x="155" y="106"/>
                  </a:lnTo>
                  <a:lnTo>
                    <a:pt x="131" y="174"/>
                  </a:lnTo>
                  <a:lnTo>
                    <a:pt x="211" y="224"/>
                  </a:lnTo>
                  <a:lnTo>
                    <a:pt x="392" y="284"/>
                  </a:lnTo>
                  <a:lnTo>
                    <a:pt x="617" y="279"/>
                  </a:lnTo>
                  <a:lnTo>
                    <a:pt x="836" y="322"/>
                  </a:lnTo>
                  <a:lnTo>
                    <a:pt x="935" y="402"/>
                  </a:lnTo>
                  <a:lnTo>
                    <a:pt x="999" y="498"/>
                  </a:lnTo>
                  <a:lnTo>
                    <a:pt x="980" y="689"/>
                  </a:lnTo>
                  <a:lnTo>
                    <a:pt x="940" y="895"/>
                  </a:lnTo>
                  <a:lnTo>
                    <a:pt x="916" y="788"/>
                  </a:lnTo>
                  <a:lnTo>
                    <a:pt x="871" y="985"/>
                  </a:lnTo>
                  <a:lnTo>
                    <a:pt x="822" y="899"/>
                  </a:lnTo>
                  <a:lnTo>
                    <a:pt x="788" y="1078"/>
                  </a:lnTo>
                  <a:lnTo>
                    <a:pt x="730" y="895"/>
                  </a:lnTo>
                  <a:lnTo>
                    <a:pt x="655" y="908"/>
                  </a:lnTo>
                  <a:lnTo>
                    <a:pt x="768" y="802"/>
                  </a:lnTo>
                  <a:lnTo>
                    <a:pt x="904" y="661"/>
                  </a:lnTo>
                  <a:lnTo>
                    <a:pt x="935" y="475"/>
                  </a:lnTo>
                  <a:lnTo>
                    <a:pt x="832" y="377"/>
                  </a:lnTo>
                  <a:lnTo>
                    <a:pt x="636" y="322"/>
                  </a:lnTo>
                  <a:lnTo>
                    <a:pt x="500" y="317"/>
                  </a:lnTo>
                  <a:lnTo>
                    <a:pt x="369" y="334"/>
                  </a:lnTo>
                  <a:lnTo>
                    <a:pt x="188" y="284"/>
                  </a:lnTo>
                  <a:lnTo>
                    <a:pt x="89" y="224"/>
                  </a:lnTo>
                  <a:lnTo>
                    <a:pt x="80" y="136"/>
                  </a:lnTo>
                  <a:lnTo>
                    <a:pt x="0" y="169"/>
                  </a:lnTo>
                  <a:lnTo>
                    <a:pt x="33" y="98"/>
                  </a:lnTo>
                  <a:lnTo>
                    <a:pt x="169" y="9"/>
                  </a:lnTo>
                  <a:lnTo>
                    <a:pt x="234" y="0"/>
                  </a:lnTo>
                  <a:lnTo>
                    <a:pt x="327" y="0"/>
                  </a:lnTo>
                  <a:lnTo>
                    <a:pt x="341" y="55"/>
                  </a:lnTo>
                  <a:lnTo>
                    <a:pt x="364" y="119"/>
                  </a:lnTo>
                  <a:lnTo>
                    <a:pt x="444" y="152"/>
                  </a:lnTo>
                  <a:lnTo>
                    <a:pt x="580" y="161"/>
                  </a:lnTo>
                  <a:lnTo>
                    <a:pt x="674" y="127"/>
                  </a:lnTo>
                  <a:lnTo>
                    <a:pt x="71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5975280" y="3057480"/>
              <a:ext cx="455760" cy="328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75" h="414">
                  <a:moveTo>
                    <a:pt x="0" y="49"/>
                  </a:moveTo>
                  <a:lnTo>
                    <a:pt x="212" y="0"/>
                  </a:lnTo>
                  <a:lnTo>
                    <a:pt x="242" y="44"/>
                  </a:lnTo>
                  <a:lnTo>
                    <a:pt x="472" y="6"/>
                  </a:lnTo>
                  <a:lnTo>
                    <a:pt x="575" y="11"/>
                  </a:lnTo>
                  <a:lnTo>
                    <a:pt x="447" y="103"/>
                  </a:lnTo>
                  <a:lnTo>
                    <a:pt x="345" y="201"/>
                  </a:lnTo>
                  <a:lnTo>
                    <a:pt x="326" y="137"/>
                  </a:lnTo>
                  <a:lnTo>
                    <a:pt x="223" y="190"/>
                  </a:lnTo>
                  <a:lnTo>
                    <a:pt x="248" y="272"/>
                  </a:lnTo>
                  <a:lnTo>
                    <a:pt x="320" y="245"/>
                  </a:lnTo>
                  <a:lnTo>
                    <a:pt x="381" y="310"/>
                  </a:lnTo>
                  <a:lnTo>
                    <a:pt x="501" y="278"/>
                  </a:lnTo>
                  <a:lnTo>
                    <a:pt x="333" y="414"/>
                  </a:lnTo>
                  <a:lnTo>
                    <a:pt x="217" y="376"/>
                  </a:lnTo>
                  <a:lnTo>
                    <a:pt x="133" y="18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57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524560" y="2149560"/>
              <a:ext cx="1260360" cy="102708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88" h="1295">
                  <a:moveTo>
                    <a:pt x="1588" y="29"/>
                  </a:moveTo>
                  <a:lnTo>
                    <a:pt x="1460" y="0"/>
                  </a:lnTo>
                  <a:lnTo>
                    <a:pt x="1320" y="29"/>
                  </a:lnTo>
                  <a:lnTo>
                    <a:pt x="1190" y="64"/>
                  </a:lnTo>
                  <a:lnTo>
                    <a:pt x="940" y="18"/>
                  </a:lnTo>
                  <a:lnTo>
                    <a:pt x="747" y="46"/>
                  </a:lnTo>
                  <a:lnTo>
                    <a:pt x="566" y="174"/>
                  </a:lnTo>
                  <a:lnTo>
                    <a:pt x="535" y="262"/>
                  </a:lnTo>
                  <a:lnTo>
                    <a:pt x="599" y="238"/>
                  </a:lnTo>
                  <a:lnTo>
                    <a:pt x="502" y="383"/>
                  </a:lnTo>
                  <a:lnTo>
                    <a:pt x="432" y="534"/>
                  </a:lnTo>
                  <a:lnTo>
                    <a:pt x="386" y="772"/>
                  </a:lnTo>
                  <a:lnTo>
                    <a:pt x="233" y="1028"/>
                  </a:lnTo>
                  <a:lnTo>
                    <a:pt x="116" y="1166"/>
                  </a:lnTo>
                  <a:lnTo>
                    <a:pt x="0" y="1272"/>
                  </a:lnTo>
                  <a:lnTo>
                    <a:pt x="85" y="1295"/>
                  </a:lnTo>
                  <a:lnTo>
                    <a:pt x="219" y="1295"/>
                  </a:lnTo>
                  <a:lnTo>
                    <a:pt x="444" y="1207"/>
                  </a:lnTo>
                  <a:lnTo>
                    <a:pt x="419" y="1179"/>
                  </a:lnTo>
                  <a:lnTo>
                    <a:pt x="206" y="1231"/>
                  </a:lnTo>
                  <a:lnTo>
                    <a:pt x="194" y="1166"/>
                  </a:lnTo>
                  <a:lnTo>
                    <a:pt x="258" y="1068"/>
                  </a:lnTo>
                  <a:lnTo>
                    <a:pt x="399" y="906"/>
                  </a:lnTo>
                  <a:lnTo>
                    <a:pt x="438" y="783"/>
                  </a:lnTo>
                  <a:lnTo>
                    <a:pt x="489" y="558"/>
                  </a:lnTo>
                  <a:lnTo>
                    <a:pt x="605" y="314"/>
                  </a:lnTo>
                  <a:lnTo>
                    <a:pt x="715" y="163"/>
                  </a:lnTo>
                  <a:lnTo>
                    <a:pt x="650" y="174"/>
                  </a:lnTo>
                  <a:lnTo>
                    <a:pt x="766" y="87"/>
                  </a:lnTo>
                  <a:lnTo>
                    <a:pt x="985" y="81"/>
                  </a:lnTo>
                  <a:lnTo>
                    <a:pt x="1223" y="139"/>
                  </a:lnTo>
                  <a:lnTo>
                    <a:pt x="1473" y="52"/>
                  </a:lnTo>
                  <a:lnTo>
                    <a:pt x="158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6122880" y="2449440"/>
              <a:ext cx="949320" cy="93672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196" h="1181">
                  <a:moveTo>
                    <a:pt x="43" y="1181"/>
                  </a:moveTo>
                  <a:lnTo>
                    <a:pt x="186" y="1167"/>
                  </a:lnTo>
                  <a:lnTo>
                    <a:pt x="314" y="1098"/>
                  </a:lnTo>
                  <a:lnTo>
                    <a:pt x="430" y="947"/>
                  </a:lnTo>
                  <a:lnTo>
                    <a:pt x="456" y="796"/>
                  </a:lnTo>
                  <a:lnTo>
                    <a:pt x="642" y="767"/>
                  </a:lnTo>
                  <a:lnTo>
                    <a:pt x="842" y="605"/>
                  </a:lnTo>
                  <a:lnTo>
                    <a:pt x="1016" y="361"/>
                  </a:lnTo>
                  <a:lnTo>
                    <a:pt x="1041" y="309"/>
                  </a:lnTo>
                  <a:lnTo>
                    <a:pt x="1080" y="395"/>
                  </a:lnTo>
                  <a:lnTo>
                    <a:pt x="1105" y="214"/>
                  </a:lnTo>
                  <a:lnTo>
                    <a:pt x="1196" y="0"/>
                  </a:lnTo>
                  <a:lnTo>
                    <a:pt x="1053" y="175"/>
                  </a:lnTo>
                  <a:lnTo>
                    <a:pt x="861" y="331"/>
                  </a:lnTo>
                  <a:lnTo>
                    <a:pt x="952" y="314"/>
                  </a:lnTo>
                  <a:lnTo>
                    <a:pt x="874" y="493"/>
                  </a:lnTo>
                  <a:lnTo>
                    <a:pt x="727" y="598"/>
                  </a:lnTo>
                  <a:lnTo>
                    <a:pt x="770" y="610"/>
                  </a:lnTo>
                  <a:lnTo>
                    <a:pt x="584" y="715"/>
                  </a:lnTo>
                  <a:lnTo>
                    <a:pt x="514" y="715"/>
                  </a:lnTo>
                  <a:lnTo>
                    <a:pt x="462" y="610"/>
                  </a:lnTo>
                  <a:lnTo>
                    <a:pt x="359" y="732"/>
                  </a:lnTo>
                  <a:lnTo>
                    <a:pt x="250" y="784"/>
                  </a:lnTo>
                  <a:lnTo>
                    <a:pt x="198" y="895"/>
                  </a:lnTo>
                  <a:lnTo>
                    <a:pt x="295" y="830"/>
                  </a:lnTo>
                  <a:lnTo>
                    <a:pt x="359" y="830"/>
                  </a:lnTo>
                  <a:lnTo>
                    <a:pt x="347" y="964"/>
                  </a:lnTo>
                  <a:lnTo>
                    <a:pt x="173" y="1132"/>
                  </a:lnTo>
                  <a:lnTo>
                    <a:pt x="115" y="1068"/>
                  </a:lnTo>
                  <a:lnTo>
                    <a:pt x="70" y="1109"/>
                  </a:lnTo>
                  <a:lnTo>
                    <a:pt x="0" y="1011"/>
                  </a:lnTo>
                  <a:lnTo>
                    <a:pt x="43" y="1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918040" y="2660760"/>
              <a:ext cx="719280" cy="450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906" h="568">
                  <a:moveTo>
                    <a:pt x="888" y="0"/>
                  </a:moveTo>
                  <a:lnTo>
                    <a:pt x="900" y="75"/>
                  </a:lnTo>
                  <a:lnTo>
                    <a:pt x="906" y="192"/>
                  </a:lnTo>
                  <a:lnTo>
                    <a:pt x="745" y="324"/>
                  </a:lnTo>
                  <a:lnTo>
                    <a:pt x="663" y="464"/>
                  </a:lnTo>
                  <a:lnTo>
                    <a:pt x="541" y="534"/>
                  </a:lnTo>
                  <a:lnTo>
                    <a:pt x="489" y="521"/>
                  </a:lnTo>
                  <a:lnTo>
                    <a:pt x="359" y="568"/>
                  </a:lnTo>
                  <a:lnTo>
                    <a:pt x="283" y="568"/>
                  </a:lnTo>
                  <a:lnTo>
                    <a:pt x="251" y="521"/>
                  </a:lnTo>
                  <a:lnTo>
                    <a:pt x="148" y="557"/>
                  </a:lnTo>
                  <a:lnTo>
                    <a:pt x="76" y="551"/>
                  </a:lnTo>
                  <a:lnTo>
                    <a:pt x="0" y="505"/>
                  </a:lnTo>
                  <a:lnTo>
                    <a:pt x="122" y="488"/>
                  </a:lnTo>
                  <a:lnTo>
                    <a:pt x="341" y="412"/>
                  </a:lnTo>
                  <a:lnTo>
                    <a:pt x="328" y="488"/>
                  </a:lnTo>
                  <a:lnTo>
                    <a:pt x="386" y="510"/>
                  </a:lnTo>
                  <a:lnTo>
                    <a:pt x="553" y="412"/>
                  </a:lnTo>
                  <a:lnTo>
                    <a:pt x="553" y="469"/>
                  </a:lnTo>
                  <a:lnTo>
                    <a:pt x="630" y="435"/>
                  </a:lnTo>
                  <a:lnTo>
                    <a:pt x="675" y="302"/>
                  </a:lnTo>
                  <a:lnTo>
                    <a:pt x="830" y="197"/>
                  </a:lnTo>
                  <a:lnTo>
                    <a:pt x="836" y="5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5257800" y="2828880"/>
              <a:ext cx="1020600" cy="104148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285" h="1312">
                  <a:moveTo>
                    <a:pt x="1285" y="1288"/>
                  </a:moveTo>
                  <a:lnTo>
                    <a:pt x="1218" y="987"/>
                  </a:lnTo>
                  <a:lnTo>
                    <a:pt x="1115" y="616"/>
                  </a:lnTo>
                  <a:lnTo>
                    <a:pt x="1072" y="480"/>
                  </a:lnTo>
                  <a:lnTo>
                    <a:pt x="902" y="308"/>
                  </a:lnTo>
                  <a:lnTo>
                    <a:pt x="707" y="178"/>
                  </a:lnTo>
                  <a:lnTo>
                    <a:pt x="533" y="0"/>
                  </a:lnTo>
                  <a:lnTo>
                    <a:pt x="521" y="41"/>
                  </a:lnTo>
                  <a:lnTo>
                    <a:pt x="607" y="217"/>
                  </a:lnTo>
                  <a:lnTo>
                    <a:pt x="807" y="409"/>
                  </a:lnTo>
                  <a:lnTo>
                    <a:pt x="890" y="589"/>
                  </a:lnTo>
                  <a:lnTo>
                    <a:pt x="916" y="757"/>
                  </a:lnTo>
                  <a:lnTo>
                    <a:pt x="774" y="526"/>
                  </a:lnTo>
                  <a:lnTo>
                    <a:pt x="421" y="485"/>
                  </a:lnTo>
                  <a:lnTo>
                    <a:pt x="336" y="491"/>
                  </a:lnTo>
                  <a:lnTo>
                    <a:pt x="50" y="230"/>
                  </a:lnTo>
                  <a:lnTo>
                    <a:pt x="0" y="224"/>
                  </a:lnTo>
                  <a:lnTo>
                    <a:pt x="89" y="375"/>
                  </a:lnTo>
                  <a:lnTo>
                    <a:pt x="205" y="513"/>
                  </a:lnTo>
                  <a:lnTo>
                    <a:pt x="98" y="560"/>
                  </a:lnTo>
                  <a:lnTo>
                    <a:pt x="47" y="628"/>
                  </a:lnTo>
                  <a:lnTo>
                    <a:pt x="44" y="659"/>
                  </a:lnTo>
                  <a:lnTo>
                    <a:pt x="250" y="592"/>
                  </a:lnTo>
                  <a:lnTo>
                    <a:pt x="381" y="729"/>
                  </a:lnTo>
                  <a:lnTo>
                    <a:pt x="597" y="918"/>
                  </a:lnTo>
                  <a:lnTo>
                    <a:pt x="446" y="897"/>
                  </a:lnTo>
                  <a:lnTo>
                    <a:pt x="202" y="973"/>
                  </a:lnTo>
                  <a:lnTo>
                    <a:pt x="116" y="1069"/>
                  </a:lnTo>
                  <a:lnTo>
                    <a:pt x="119" y="1112"/>
                  </a:lnTo>
                  <a:lnTo>
                    <a:pt x="256" y="1033"/>
                  </a:lnTo>
                  <a:lnTo>
                    <a:pt x="452" y="981"/>
                  </a:lnTo>
                  <a:lnTo>
                    <a:pt x="749" y="1060"/>
                  </a:lnTo>
                  <a:lnTo>
                    <a:pt x="938" y="1312"/>
                  </a:lnTo>
                  <a:lnTo>
                    <a:pt x="968" y="1214"/>
                  </a:lnTo>
                  <a:lnTo>
                    <a:pt x="1112" y="1291"/>
                  </a:lnTo>
                  <a:lnTo>
                    <a:pt x="883" y="1094"/>
                  </a:lnTo>
                  <a:lnTo>
                    <a:pt x="710" y="981"/>
                  </a:lnTo>
                  <a:lnTo>
                    <a:pt x="886" y="1014"/>
                  </a:lnTo>
                  <a:lnTo>
                    <a:pt x="1157" y="1208"/>
                  </a:lnTo>
                  <a:lnTo>
                    <a:pt x="963" y="976"/>
                  </a:lnTo>
                  <a:lnTo>
                    <a:pt x="777" y="894"/>
                  </a:lnTo>
                  <a:lnTo>
                    <a:pt x="430" y="589"/>
                  </a:lnTo>
                  <a:lnTo>
                    <a:pt x="639" y="625"/>
                  </a:lnTo>
                  <a:lnTo>
                    <a:pt x="804" y="833"/>
                  </a:lnTo>
                  <a:lnTo>
                    <a:pt x="735" y="587"/>
                  </a:lnTo>
                  <a:lnTo>
                    <a:pt x="1018" y="956"/>
                  </a:lnTo>
                  <a:lnTo>
                    <a:pt x="977" y="628"/>
                  </a:lnTo>
                  <a:lnTo>
                    <a:pt x="816" y="370"/>
                  </a:lnTo>
                  <a:lnTo>
                    <a:pt x="655" y="198"/>
                  </a:lnTo>
                  <a:lnTo>
                    <a:pt x="865" y="310"/>
                  </a:lnTo>
                  <a:lnTo>
                    <a:pt x="1011" y="485"/>
                  </a:lnTo>
                  <a:lnTo>
                    <a:pt x="1083" y="671"/>
                  </a:lnTo>
                  <a:lnTo>
                    <a:pt x="1121" y="1001"/>
                  </a:lnTo>
                  <a:lnTo>
                    <a:pt x="1285" y="1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6192720" y="3351240"/>
              <a:ext cx="114480" cy="4586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2" h="577">
                  <a:moveTo>
                    <a:pt x="94" y="15"/>
                  </a:moveTo>
                  <a:lnTo>
                    <a:pt x="94" y="136"/>
                  </a:lnTo>
                  <a:lnTo>
                    <a:pt x="128" y="229"/>
                  </a:lnTo>
                  <a:lnTo>
                    <a:pt x="142" y="287"/>
                  </a:lnTo>
                  <a:lnTo>
                    <a:pt x="106" y="342"/>
                  </a:lnTo>
                  <a:lnTo>
                    <a:pt x="112" y="577"/>
                  </a:lnTo>
                  <a:lnTo>
                    <a:pt x="78" y="575"/>
                  </a:lnTo>
                  <a:lnTo>
                    <a:pt x="29" y="349"/>
                  </a:lnTo>
                  <a:lnTo>
                    <a:pt x="100" y="281"/>
                  </a:lnTo>
                  <a:lnTo>
                    <a:pt x="94" y="212"/>
                  </a:lnTo>
                  <a:lnTo>
                    <a:pt x="75" y="177"/>
                  </a:lnTo>
                  <a:lnTo>
                    <a:pt x="20" y="212"/>
                  </a:lnTo>
                  <a:lnTo>
                    <a:pt x="9" y="78"/>
                  </a:lnTo>
                  <a:lnTo>
                    <a:pt x="0" y="0"/>
                  </a:lnTo>
                  <a:lnTo>
                    <a:pt x="9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4472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8E7-ECEC-4349-BD25-5E9783575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8080" y="533520"/>
            <a:ext cx="20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8120" y="609480"/>
            <a:ext cx="1447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ŭ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410080" y="68580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350532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8120" y="3429000"/>
            <a:ext cx="213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715000" y="3657600"/>
            <a:ext cx="2133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38080" y="53352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i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181480" y="609480"/>
            <a:ext cx="144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895480" y="53352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62120" y="3429000"/>
            <a:ext cx="220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819520" y="3505320"/>
            <a:ext cx="167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800600" y="3505320"/>
            <a:ext cx="259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95280" y="2209680"/>
            <a:ext cx="784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我从树杈上取下两只鸟蛋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小的鸟蛋凉凉的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拿在手上真好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BJ_00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380880" y="1295280"/>
            <a:ext cx="87631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妈妈看见了，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只鸟蛋就是两只小鸟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鸟妈妈这会儿一定焦急不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599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11430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小心地捧着鸟蛋，连忙走到树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轻轻地把鸟蛋送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122"/>
          <p:cNvPicPr/>
          <p:nvPr/>
        </p:nvPicPr>
        <p:blipFill>
          <a:blip r:embed="rId1"/>
          <a:stretch/>
        </p:blipFill>
        <p:spPr>
          <a:xfrm>
            <a:off x="0" y="5086440"/>
            <a:ext cx="3978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28600" y="6858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仿佛听见鸟儿的欢唱，抬起头来，把目光投向高远的蓝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7"/>
          <p:cNvPicPr/>
          <p:nvPr/>
        </p:nvPicPr>
        <p:blipFill>
          <a:blip r:embed="rId2"/>
          <a:stretch/>
        </p:blipFill>
        <p:spPr>
          <a:xfrm>
            <a:off x="7458120" y="4605480"/>
            <a:ext cx="1685880" cy="225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2:15:38Z</dcterms:created>
  <dc:creator/>
  <dc:description/>
  <cp:keywords>幻灯片之家 http:/www.eeppt.com</cp:keywords>
  <dc:language>en-US</dc:language>
  <cp:lastModifiedBy/>
  <dcterms:modified xsi:type="dcterms:W3CDTF">2015-07-03T13:51:1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