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gif" ContentType="image/gif"/>
  <Override PartName="/ppt/media/image11.jpeg" ContentType="image/jpeg"/>
  <Override PartName="/ppt/media/image17.png" ContentType="image/png"/>
  <Override PartName="/ppt/media/image15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6.jpeg" ContentType="image/jpeg"/>
  <Override PartName="/ppt/media/chimes.wav" ContentType="audio/x-wav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67F0-B7A6-4A86-BE57-F69E3137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C79C-4B3F-4788-8FB0-4BA42AD5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ABFC-E2F9-44E3-8B55-B9BBF29A9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50AA-67D7-442C-B767-8D647D7DB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A2071-AFB1-403A-80B8-8133C2BC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1C7D5-E4EE-45B8-BFD6-B94979F7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37589-C054-43F5-A49F-4E889D7B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9825E-A5DD-4B96-9101-E94F54C7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8353-CBB0-4B89-867A-636ED0C3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8C65-3D99-4EC5-9265-9ED0F1895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8467-ACFB-4C1A-B1A7-ABCC86BD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193-AC51-4CF3-AFC0-A473E26F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CABA-AE11-405B-9866-BC2C7383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95D75-4F81-445B-9792-EEA448DD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0F11-4E52-4EDA-AD69-9E90F59D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25061-B1E9-41BE-A217-513B2F01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2925-E496-451C-BDB3-469F569B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719D-C4B7-4CF6-A7E7-3864F787D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9A2-AFAF-4D0F-A4CA-8D235A82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8169-24A7-4CD4-A1AC-F49736948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5D6B-9188-496A-A615-7423DF26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6679-1748-4FD6-BE28-796B661A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D426-9A41-4C53-82C9-4540E70C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16E6-591B-44C7-8FB4-7C10A1E38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960"/>
            <a:ext cx="2870280" cy="3276000"/>
            <a:chOff x="6273360" y="-21960"/>
            <a:chExt cx="2870280" cy="327600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92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52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960"/>
              <a:ext cx="2870280" cy="2269440"/>
              <a:chOff x="6273360" y="-21960"/>
              <a:chExt cx="2870280" cy="226944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960"/>
                <a:ext cx="2867400" cy="2269440"/>
                <a:chOff x="6273360" y="-21960"/>
                <a:chExt cx="2867400" cy="226944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3960" y="843120"/>
                  <a:ext cx="1064880" cy="1141200"/>
                  <a:chOff x="7833960" y="843120"/>
                  <a:chExt cx="106488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160" y="1133280"/>
                    <a:ext cx="8856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200" y="1600560"/>
                    <a:ext cx="47520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3000"/>
                  <a:chOff x="7844760" y="770760"/>
                  <a:chExt cx="1266120" cy="105300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560" y="142560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440" cy="828720"/>
                  <a:chOff x="784044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520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28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600"/>
                  <a:chOff x="783720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2920" cy="417600"/>
                  <a:chOff x="7852680" y="657720"/>
                  <a:chExt cx="122292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4960" y="796680"/>
                    <a:ext cx="4255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400" y="632880"/>
                  <a:ext cx="1107000" cy="184320"/>
                  <a:chOff x="7871400" y="632880"/>
                  <a:chExt cx="110700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48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160" cy="326880"/>
                  <a:chOff x="7845480" y="419760"/>
                  <a:chExt cx="98316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6120"/>
                  <a:ext cx="1065240" cy="1140840"/>
                  <a:chOff x="6537600" y="906120"/>
                  <a:chExt cx="10652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680" y="119664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3920"/>
                    <a:ext cx="474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680"/>
                  <a:ext cx="1303200" cy="668160"/>
                  <a:chOff x="6273360" y="787680"/>
                  <a:chExt cx="1303200" cy="66816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0400" y="916200"/>
                    <a:ext cx="86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120"/>
                  <a:ext cx="902520" cy="627480"/>
                  <a:chOff x="6751800" y="222120"/>
                  <a:chExt cx="90252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400" y="57276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2160" y="15840"/>
                  <a:ext cx="607320" cy="784800"/>
                  <a:chOff x="7112160" y="15840"/>
                  <a:chExt cx="60732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8880" y="476280"/>
                    <a:ext cx="5655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4320" y="103680"/>
                    <a:ext cx="303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840" y="-21960"/>
                  <a:ext cx="466200" cy="810000"/>
                  <a:chOff x="7287840" y="-21960"/>
                  <a:chExt cx="466200" cy="8100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1400" y="458640"/>
                    <a:ext cx="5450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5240" y="58680"/>
                    <a:ext cx="292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960"/>
                  <a:chOff x="7792920" y="272160"/>
                  <a:chExt cx="96408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760"/>
                    <a:ext cx="63252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480" cy="604800"/>
                  <a:chOff x="7737840" y="136080"/>
                  <a:chExt cx="91548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28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2960" y="213120"/>
                    <a:ext cx="339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6360" y="482400"/>
                  <a:ext cx="527040" cy="7488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32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32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160"/>
                  <a:ext cx="496800" cy="790920"/>
                  <a:chOff x="7665840" y="-11160"/>
                  <a:chExt cx="49680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240" y="466920"/>
                    <a:ext cx="54360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120"/>
                    <a:ext cx="29160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600" y="38160"/>
                  <a:ext cx="785880" cy="747720"/>
                  <a:chOff x="7662600" y="38160"/>
                  <a:chExt cx="785880" cy="74772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0840" y="454320"/>
                    <a:ext cx="5925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080" y="119160"/>
                    <a:ext cx="31788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280"/>
                  <a:chOff x="7708680" y="-1440"/>
                  <a:chExt cx="177840" cy="74628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480" y="478080"/>
                    <a:ext cx="48780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200" y="98280"/>
                    <a:ext cx="26172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680" cy="1249200"/>
                  <a:chOff x="6711120" y="929880"/>
                  <a:chExt cx="91368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440" y="125604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320" y="1001160"/>
                  <a:ext cx="363960" cy="1218240"/>
                  <a:chOff x="7312320" y="1001160"/>
                  <a:chExt cx="363960" cy="121824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8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4000" y="1876320"/>
                    <a:ext cx="421560" cy="22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000"/>
                  <a:ext cx="949680" cy="1230120"/>
                  <a:chOff x="7798680" y="909000"/>
                  <a:chExt cx="949680" cy="123012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240" y="1228320"/>
                    <a:ext cx="8856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5600" y="1747440"/>
                    <a:ext cx="47520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160"/>
                  <a:chOff x="7786800" y="956160"/>
                  <a:chExt cx="732600" cy="126216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7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79840" y="1839960"/>
                    <a:ext cx="453960" cy="24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560" y="1005120"/>
                  <a:ext cx="510840" cy="1242360"/>
                  <a:chOff x="7756560" y="1005120"/>
                  <a:chExt cx="51084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240" y="1351440"/>
                    <a:ext cx="82224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5400" cy="1131840"/>
                  <a:chOff x="7500960" y="1077480"/>
                  <a:chExt cx="275400" cy="113184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0960" y="1401840"/>
                    <a:ext cx="73872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000" y="1928520"/>
                    <a:ext cx="3963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32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600" y="950040"/>
                <a:ext cx="109044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196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0520" y="599400"/>
                <a:ext cx="121932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60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272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0760" y="1101960"/>
                <a:ext cx="22644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240" y="457920"/>
                <a:ext cx="3567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772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0888-67E6-4262-8C7E-548E98A86223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912C-4CF5-4558-85CB-9FEF1FA98D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hyperlink" Target="http://www.eeppt.com/moban/kejian/" TargetMode="External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8.png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5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ff33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Text Box 29"/>
          <p:cNvSpPr/>
          <p:nvPr/>
        </p:nvSpPr>
        <p:spPr>
          <a:xfrm>
            <a:off x="762120" y="167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19" name="Picture 41" descr="11GT1945030392E"/>
          <p:cNvPicPr/>
          <p:nvPr/>
        </p:nvPicPr>
        <p:blipFill>
          <a:blip r:embed="rId16"/>
          <a:stretch/>
        </p:blipFill>
        <p:spPr>
          <a:xfrm>
            <a:off x="0" y="90360"/>
            <a:ext cx="9144000" cy="67676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4"/>
          <p:cNvSpPr/>
          <p:nvPr/>
        </p:nvSpPr>
        <p:spPr>
          <a:xfrm>
            <a:off x="971640" y="692280"/>
            <a:ext cx="2622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 Black"/>
                <a:ea typeface="楷体_GB2312"/>
              </a:rPr>
              <a:t>我能组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1465560" y="227340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信（       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1465560" y="320976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言（       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5131800" y="227664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沿（        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5152680" y="32814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没（        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1465560" y="458136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抬（       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Text Box 11"/>
          <p:cNvSpPr/>
          <p:nvPr/>
        </p:nvSpPr>
        <p:spPr>
          <a:xfrm>
            <a:off x="1465560" y="551664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台（       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Text Box 12"/>
          <p:cNvSpPr/>
          <p:nvPr/>
        </p:nvSpPr>
        <p:spPr>
          <a:xfrm>
            <a:off x="5223960" y="458136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蛙（        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Text Box 13"/>
          <p:cNvSpPr/>
          <p:nvPr/>
        </p:nvSpPr>
        <p:spPr>
          <a:xfrm>
            <a:off x="5223960" y="551664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娃（        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AutoShape 14"/>
          <p:cNvSpPr/>
          <p:nvPr/>
        </p:nvSpPr>
        <p:spPr>
          <a:xfrm>
            <a:off x="971640" y="2419200"/>
            <a:ext cx="71280" cy="12970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AutoShape 15"/>
          <p:cNvSpPr/>
          <p:nvPr/>
        </p:nvSpPr>
        <p:spPr>
          <a:xfrm>
            <a:off x="4572000" y="2421000"/>
            <a:ext cx="71280" cy="12970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0" name="AutoShape 16"/>
          <p:cNvSpPr/>
          <p:nvPr/>
        </p:nvSpPr>
        <p:spPr>
          <a:xfrm>
            <a:off x="971640" y="4653000"/>
            <a:ext cx="71280" cy="12970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AutoShape 17"/>
          <p:cNvSpPr/>
          <p:nvPr/>
        </p:nvSpPr>
        <p:spPr>
          <a:xfrm>
            <a:off x="4572000" y="4724280"/>
            <a:ext cx="71280" cy="1297080"/>
          </a:xfrm>
          <a:custGeom>
            <a:avLst/>
            <a:gdLst>
              <a:gd name="textAreaLeft" fmla="*/ 45720 w 71280"/>
              <a:gd name="textAreaRight" fmla="*/ 71640 w 712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1908000" y="23446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3" name="Text Box 19"/>
          <p:cNvSpPr/>
          <p:nvPr/>
        </p:nvSpPr>
        <p:spPr>
          <a:xfrm>
            <a:off x="1908000" y="31082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2072160" y="2205000"/>
            <a:ext cx="668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信心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语言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Text Box 21"/>
          <p:cNvSpPr/>
          <p:nvPr/>
        </p:nvSpPr>
        <p:spPr>
          <a:xfrm>
            <a:off x="5744160" y="2276640"/>
            <a:ext cx="6685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边沿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没有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Text Box 22"/>
          <p:cNvSpPr/>
          <p:nvPr/>
        </p:nvSpPr>
        <p:spPr>
          <a:xfrm>
            <a:off x="2010600" y="4538520"/>
            <a:ext cx="66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抬头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上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Text Box 23"/>
          <p:cNvSpPr/>
          <p:nvPr/>
        </p:nvSpPr>
        <p:spPr>
          <a:xfrm>
            <a:off x="5888520" y="4508640"/>
            <a:ext cx="66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青蛙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Arial Black"/>
              </a:rPr>
              <a:t>娃娃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884160" y="1465200"/>
            <a:ext cx="8136000" cy="1267560"/>
            <a:chOff x="884160" y="1465200"/>
            <a:chExt cx="8136000" cy="1267560"/>
          </a:xfrm>
        </p:grpSpPr>
        <p:grpSp>
          <p:nvGrpSpPr>
            <p:cNvPr id="259" name="Group 3"/>
            <p:cNvGrpSpPr/>
            <p:nvPr/>
          </p:nvGrpSpPr>
          <p:grpSpPr>
            <a:xfrm>
              <a:off x="884160" y="1465200"/>
              <a:ext cx="2658960" cy="963720"/>
              <a:chOff x="884160" y="1465200"/>
              <a:chExt cx="2658960" cy="963720"/>
            </a:xfrm>
          </p:grpSpPr>
          <p:pic>
            <p:nvPicPr>
              <p:cNvPr id="260" name="Picture 4" descr="青蛙"/>
              <p:cNvPicPr/>
              <p:nvPr/>
            </p:nvPicPr>
            <p:blipFill>
              <a:blip r:embed="rId2"/>
              <a:stretch/>
            </p:blipFill>
            <p:spPr>
              <a:xfrm>
                <a:off x="884160" y="1465200"/>
                <a:ext cx="1000080" cy="9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Text Box 5"/>
              <p:cNvSpPr/>
              <p:nvPr/>
            </p:nvSpPr>
            <p:spPr>
              <a:xfrm>
                <a:off x="1974600" y="1517760"/>
                <a:ext cx="1568520" cy="73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6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2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说：</a:t>
                </a:r>
                <a:endParaRPr b="0" lang="en-US" sz="4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262" name="Text Box 6"/>
            <p:cNvSpPr/>
            <p:nvPr/>
          </p:nvSpPr>
          <p:spPr>
            <a:xfrm>
              <a:off x="2814480" y="1541520"/>
              <a:ext cx="620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“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你别说大话了！天不过井口那么大，还用飞那么远吗？”</a:t>
              </a:r>
              <a:endParaRPr b="0" lang="en-US" sz="36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grpSp>
        <p:nvGrpSpPr>
          <p:cNvPr id="263" name="Group 7"/>
          <p:cNvGrpSpPr/>
          <p:nvPr/>
        </p:nvGrpSpPr>
        <p:grpSpPr>
          <a:xfrm>
            <a:off x="554040" y="3330720"/>
            <a:ext cx="8186760" cy="939960"/>
            <a:chOff x="554040" y="3330720"/>
            <a:chExt cx="8186760" cy="939960"/>
          </a:xfrm>
        </p:grpSpPr>
        <p:grpSp>
          <p:nvGrpSpPr>
            <p:cNvPr id="264" name="Group 8"/>
            <p:cNvGrpSpPr/>
            <p:nvPr/>
          </p:nvGrpSpPr>
          <p:grpSpPr>
            <a:xfrm>
              <a:off x="554040" y="3330720"/>
              <a:ext cx="2836800" cy="939960"/>
              <a:chOff x="554040" y="3330720"/>
              <a:chExt cx="2836800" cy="939960"/>
            </a:xfrm>
          </p:grpSpPr>
          <p:pic>
            <p:nvPicPr>
              <p:cNvPr id="265" name="Picture 9" descr="小鸟"/>
              <p:cNvPicPr/>
              <p:nvPr/>
            </p:nvPicPr>
            <p:blipFill>
              <a:blip r:embed="rId3"/>
              <a:stretch/>
            </p:blipFill>
            <p:spPr>
              <a:xfrm>
                <a:off x="554040" y="3470400"/>
                <a:ext cx="1598760" cy="80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6" name="Text Box 10"/>
              <p:cNvSpPr/>
              <p:nvPr/>
            </p:nvSpPr>
            <p:spPr>
              <a:xfrm>
                <a:off x="2013120" y="3330720"/>
                <a:ext cx="1377720" cy="73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6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200" spc="-1" strike="noStrike">
                    <a:solidFill>
                      <a:srgbClr val="0000ff"/>
                    </a:solidFill>
                    <a:latin typeface="Arial"/>
                    <a:ea typeface="华文楷体"/>
                  </a:rPr>
                  <a:t>说：</a:t>
                </a:r>
                <a:endParaRPr b="0" lang="en-US" sz="4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sp>
          <p:nvSpPr>
            <p:cNvPr id="267" name="Text Box 11"/>
            <p:cNvSpPr/>
            <p:nvPr/>
          </p:nvSpPr>
          <p:spPr>
            <a:xfrm>
              <a:off x="2890800" y="3376800"/>
              <a:ext cx="585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“</a:t>
              </a:r>
              <a:r>
                <a:rPr b="1" lang="zh-CN" sz="36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你弄错了。天无边无际，大得很哪！”</a:t>
              </a:r>
              <a:endParaRPr b="0" lang="en-US" sz="36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765000" y="1352520"/>
            <a:ext cx="2746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0000ff"/>
                </a:solidFill>
                <a:latin typeface="黑体"/>
                <a:ea typeface="黑体"/>
              </a:rPr>
              <a:t>想象：</a:t>
            </a:r>
            <a:endParaRPr b="0" lang="en-US" sz="5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0" name="Text Box 3"/>
          <p:cNvSpPr/>
          <p:nvPr/>
        </p:nvSpPr>
        <p:spPr>
          <a:xfrm>
            <a:off x="1444680" y="2703600"/>
            <a:ext cx="75610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3300"/>
                </a:solidFill>
                <a:latin typeface="Arial"/>
                <a:ea typeface="楷体_GB2312"/>
              </a:rPr>
              <a:t>如果青蛙跳出了井口，它可能会看到些什么？</a:t>
            </a:r>
            <a:endParaRPr b="0" lang="en-US" sz="56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3392640" y="506520"/>
            <a:ext cx="1958760" cy="1820880"/>
            <a:chOff x="3392640" y="506520"/>
            <a:chExt cx="1958760" cy="1820880"/>
          </a:xfrm>
        </p:grpSpPr>
        <p:pic>
          <p:nvPicPr>
            <p:cNvPr id="272" name="Picture 5" descr="青蛙"/>
            <p:cNvPicPr/>
            <p:nvPr/>
          </p:nvPicPr>
          <p:blipFill>
            <a:blip r:embed="rId2"/>
            <a:stretch/>
          </p:blipFill>
          <p:spPr>
            <a:xfrm>
              <a:off x="3392640" y="1482840"/>
              <a:ext cx="794880" cy="8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6"/>
            <p:cNvSpPr/>
            <p:nvPr/>
          </p:nvSpPr>
          <p:spPr>
            <a:xfrm rot="798600">
              <a:off x="4187160" y="618840"/>
              <a:ext cx="1079280" cy="86364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?</a:t>
              </a:r>
              <a:endParaRPr b="0" lang="en-US" sz="4800" spc="-1" strike="noStrike">
                <a:solidFill>
                  <a:srgbClr val="ffcc00"/>
                </a:solidFill>
                <a:latin typeface="Arial Black"/>
              </a:endParaRPr>
            </a:p>
          </p:txBody>
        </p:sp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" descr="build00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75" name="Group 3"/>
          <p:cNvGrpSpPr/>
          <p:nvPr/>
        </p:nvGrpSpPr>
        <p:grpSpPr>
          <a:xfrm>
            <a:off x="7159680" y="2398680"/>
            <a:ext cx="1882800" cy="2297160"/>
            <a:chOff x="7159680" y="2398680"/>
            <a:chExt cx="1882800" cy="2297160"/>
          </a:xfrm>
        </p:grpSpPr>
        <p:grpSp>
          <p:nvGrpSpPr>
            <p:cNvPr id="276" name="Group 4"/>
            <p:cNvGrpSpPr/>
            <p:nvPr/>
          </p:nvGrpSpPr>
          <p:grpSpPr>
            <a:xfrm>
              <a:off x="8048520" y="3257640"/>
              <a:ext cx="557280" cy="1438200"/>
              <a:chOff x="8048520" y="3257640"/>
              <a:chExt cx="557280" cy="1438200"/>
            </a:xfrm>
          </p:grpSpPr>
          <p:sp>
            <p:nvSpPr>
              <p:cNvPr id="277" name="Line 5"/>
              <p:cNvSpPr/>
              <p:nvPr/>
            </p:nvSpPr>
            <p:spPr>
              <a:xfrm>
                <a:off x="8194680" y="3257640"/>
                <a:ext cx="0" cy="9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pic>
            <p:nvPicPr>
              <p:cNvPr id="278" name="Picture 6" descr="青蛙掉"/>
              <p:cNvPicPr/>
              <p:nvPr/>
            </p:nvPicPr>
            <p:blipFill>
              <a:blip r:embed="rId3"/>
              <a:stretch/>
            </p:blipFill>
            <p:spPr>
              <a:xfrm>
                <a:off x="8048520" y="4105440"/>
                <a:ext cx="557280" cy="590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79" name="Picture 7" descr="FLYING"/>
            <p:cNvPicPr/>
            <p:nvPr/>
          </p:nvPicPr>
          <p:blipFill>
            <a:blip r:embed="rId4"/>
            <a:stretch/>
          </p:blipFill>
          <p:spPr>
            <a:xfrm>
              <a:off x="7159680" y="2398680"/>
              <a:ext cx="1882800" cy="171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0844 C -0.01042 -0.11237 -0.01372 -0.12346 -0.0224 -0.12994 C -0.02292 -0.13318 -0.02674 -0.1563 -0.03108 -0.15722 C -0.04011 -0.15953 -0.04931 -0.15861 -0.05851 -0.1593 C -0.06841 -0.16208 -0.06702 -0.16485 -0.07396 -0.17271 C -0.0757 -0.17919 -0.079 -0.18196 -0.08091 -0.18844 C -0.07847 -0.19699 -0.07917 -0.20069 -0.08594 -0.20578 C -0.09254 -0.21687 -0.1 -0.22867 -0.11163 -0.23306 C -0.13681 -0.23237 -0.16216 -0.23375 -0.18733 -0.23121 C -0.18906 -0.23098 -0.18768 -0.22682 -0.18906 -0.22543 C -0.19479 -0.21872 -0.20504 -0.22104 -0.21302 -0.21942 C -0.22275 -0.21387 -0.22778 -0.203 -0.23698 -0.1963 C -0.24531 -0.1815 -0.26893 -0.17965 -0.28177 -0.17664 C -0.28976 -0.16739 -0.29549 -0.15607 -0.30226 -0.14566 C -0.30868 -0.13549 -0.31684 -0.12716 -0.32448 -0.11838 C -0.3283 -0.11398 -0.3349 -0.11445 -0.33993 -0.1126 C -0.35035 -0.11329 -0.36059 -0.11352 -0.37101 -0.11445 C -0.37344 -0.11468 -0.37604 -0.11468 -0.37795 -0.11653 C -0.37917 -0.11768 -0.3783 -0.12069 -0.37952 -0.12208 C -0.38125 -0.12439 -0.38403 -0.12485 -0.38646 -0.12624 C -0.38959 -0.13687 -0.39202 -0.1304 -0.39844 -0.1378 C -0.40591 -0.14612 -0.40851 -0.15907 -0.41563 -0.16716 C -0.41684 -0.17179 -0.41979 -0.17572 -0.42066 -0.18081 C -0.42622 -0.20809 -0.41788 -0.1926 -0.42622 -0.20578 C -0.43091 -0.22867 -0.45139 -0.25318 -0.46702 -0.2682 C -0.47136 -0.27213 -0.47847 -0.28208 -0.4842 -0.2837 C -0.49045 -0.28555 -0.4967 -0.28508 -0.50313 -0.28555 C -0.50972 -0.29063 -0.51441 -0.29641 -0.52205 -0.29919 C -0.54375 -0.31653 -0.5165 -0.30982 -0.5599 -0.31283 C -0.60382 -0.32508 -0.68021 -0.31768 -0.72118 -0.31699 C -0.73472 -0.3126 -0.74879 -0.31283 -0.7625 -0.30913 C -0.76563 -0.30543 -0.76979 -0.30312 -0.77257 -0.29919 C -0.77309 -0.29849 -0.77604 -0.28832 -0.77622 -0.28763 C -0.79566 -0.28809 -0.81511 -0.28832 -0.83455 -0.28971 C -0.83681 -0.28994 -0.83959 -0.28994 -0.84132 -0.29156 C -0.84757 -0.2978 -0.85226 -0.30959 -0.85851 -0.31699 E">
                                      <p:cBhvr>
                                        <p:cTn id="164" dur="5000" fill="hold"/>
                                        <p:tgtEl>
                                          <p:spTgt spid="2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风景07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1" name="Group 3"/>
          <p:cNvGrpSpPr/>
          <p:nvPr/>
        </p:nvGrpSpPr>
        <p:grpSpPr>
          <a:xfrm>
            <a:off x="7440480" y="1666800"/>
            <a:ext cx="1882800" cy="2297160"/>
            <a:chOff x="7440480" y="1666800"/>
            <a:chExt cx="1882800" cy="2297160"/>
          </a:xfrm>
        </p:grpSpPr>
        <p:grpSp>
          <p:nvGrpSpPr>
            <p:cNvPr id="282" name="Group 4"/>
            <p:cNvGrpSpPr/>
            <p:nvPr/>
          </p:nvGrpSpPr>
          <p:grpSpPr>
            <a:xfrm>
              <a:off x="8329320" y="2525760"/>
              <a:ext cx="557280" cy="1438200"/>
              <a:chOff x="8329320" y="2525760"/>
              <a:chExt cx="557280" cy="1438200"/>
            </a:xfrm>
          </p:grpSpPr>
          <p:sp>
            <p:nvSpPr>
              <p:cNvPr id="283" name="Line 5"/>
              <p:cNvSpPr/>
              <p:nvPr/>
            </p:nvSpPr>
            <p:spPr>
              <a:xfrm>
                <a:off x="8475480" y="2525760"/>
                <a:ext cx="0" cy="9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pic>
            <p:nvPicPr>
              <p:cNvPr id="284" name="Picture 6" descr="青蛙掉"/>
              <p:cNvPicPr/>
              <p:nvPr/>
            </p:nvPicPr>
            <p:blipFill>
              <a:blip r:embed="rId3"/>
              <a:stretch/>
            </p:blipFill>
            <p:spPr>
              <a:xfrm>
                <a:off x="8329320" y="3373560"/>
                <a:ext cx="557280" cy="590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5" name="Picture 7" descr="FLYING"/>
            <p:cNvPicPr/>
            <p:nvPr/>
          </p:nvPicPr>
          <p:blipFill>
            <a:blip r:embed="rId4"/>
            <a:stretch/>
          </p:blipFill>
          <p:spPr>
            <a:xfrm>
              <a:off x="7440480" y="1666800"/>
              <a:ext cx="1882800" cy="171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0844 C -0.01042 -0.11237 -0.01372 -0.12346 -0.0224 -0.12994 C -0.02292 -0.13318 -0.02674 -0.1563 -0.03108 -0.15722 C -0.04011 -0.15953 -0.04931 -0.15861 -0.05851 -0.1593 C -0.06841 -0.16208 -0.06702 -0.16485 -0.07396 -0.17271 C -0.0757 -0.17919 -0.079 -0.18196 -0.08091 -0.18844 C -0.07847 -0.19699 -0.07917 -0.20069 -0.08594 -0.20578 C -0.09254 -0.21687 -0.1 -0.22867 -0.11163 -0.23306 C -0.13681 -0.23237 -0.16216 -0.23375 -0.18733 -0.23121 C -0.18906 -0.23098 -0.18768 -0.22682 -0.18906 -0.22543 C -0.19479 -0.21872 -0.20504 -0.22104 -0.21302 -0.21942 C -0.22275 -0.21387 -0.22778 -0.203 -0.23698 -0.1963 C -0.24531 -0.1815 -0.26893 -0.17965 -0.28177 -0.17664 C -0.28976 -0.16739 -0.29549 -0.15607 -0.30226 -0.14566 C -0.30868 -0.13549 -0.31684 -0.12716 -0.32448 -0.11838 C -0.3283 -0.11398 -0.3349 -0.11445 -0.33993 -0.1126 C -0.35035 -0.11329 -0.36059 -0.11352 -0.37101 -0.11445 C -0.37344 -0.11468 -0.37604 -0.11468 -0.37795 -0.11653 C -0.37917 -0.11768 -0.3783 -0.12069 -0.37952 -0.12208 C -0.38125 -0.12439 -0.38403 -0.12485 -0.38646 -0.12624 C -0.38959 -0.13687 -0.39202 -0.1304 -0.39844 -0.1378 C -0.40591 -0.14612 -0.40851 -0.15907 -0.41563 -0.16716 C -0.41684 -0.17179 -0.41979 -0.17572 -0.42066 -0.18081 C -0.42622 -0.20809 -0.41788 -0.1926 -0.42622 -0.20578 C -0.43091 -0.22867 -0.45139 -0.25318 -0.46702 -0.2682 C -0.47136 -0.27213 -0.47847 -0.28208 -0.4842 -0.2837 C -0.49045 -0.28555 -0.4967 -0.28508 -0.50313 -0.28555 C -0.50972 -0.29063 -0.51441 -0.29641 -0.52205 -0.29919 C -0.54375 -0.31653 -0.5165 -0.30982 -0.5599 -0.31283 C -0.60382 -0.32508 -0.68021 -0.31768 -0.72118 -0.31699 C -0.73472 -0.3126 -0.74879 -0.31283 -0.7625 -0.30913 C -0.76563 -0.30543 -0.76979 -0.30312 -0.77257 -0.29919 C -0.77309 -0.29849 -0.77604 -0.28832 -0.77622 -0.28763 C -0.79566 -0.28809 -0.81511 -0.28832 -0.83455 -0.28971 C -0.83681 -0.28994 -0.83959 -0.28994 -0.84132 -0.29156 C -0.84757 -0.2978 -0.85226 -0.30959 -0.85851 -0.31699 E">
                                      <p:cBhvr>
                                        <p:cTn id="170" dur="50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Sight13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87" name="Group 3"/>
          <p:cNvGrpSpPr/>
          <p:nvPr/>
        </p:nvGrpSpPr>
        <p:grpSpPr>
          <a:xfrm>
            <a:off x="7440480" y="2324160"/>
            <a:ext cx="1882800" cy="2297160"/>
            <a:chOff x="7440480" y="2324160"/>
            <a:chExt cx="1882800" cy="2297160"/>
          </a:xfrm>
        </p:grpSpPr>
        <p:grpSp>
          <p:nvGrpSpPr>
            <p:cNvPr id="288" name="Group 4"/>
            <p:cNvGrpSpPr/>
            <p:nvPr/>
          </p:nvGrpSpPr>
          <p:grpSpPr>
            <a:xfrm>
              <a:off x="8329320" y="3183120"/>
              <a:ext cx="557280" cy="1438200"/>
              <a:chOff x="8329320" y="3183120"/>
              <a:chExt cx="557280" cy="1438200"/>
            </a:xfrm>
          </p:grpSpPr>
          <p:sp>
            <p:nvSpPr>
              <p:cNvPr id="289" name="Line 5"/>
              <p:cNvSpPr/>
              <p:nvPr/>
            </p:nvSpPr>
            <p:spPr>
              <a:xfrm>
                <a:off x="8475480" y="3183120"/>
                <a:ext cx="0" cy="9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pic>
            <p:nvPicPr>
              <p:cNvPr id="290" name="Picture 6" descr="青蛙掉"/>
              <p:cNvPicPr/>
              <p:nvPr/>
            </p:nvPicPr>
            <p:blipFill>
              <a:blip r:embed="rId3"/>
              <a:stretch/>
            </p:blipFill>
            <p:spPr>
              <a:xfrm>
                <a:off x="8329320" y="4030920"/>
                <a:ext cx="557280" cy="590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1" name="Picture 7" descr="FLYING"/>
            <p:cNvPicPr/>
            <p:nvPr/>
          </p:nvPicPr>
          <p:blipFill>
            <a:blip r:embed="rId4"/>
            <a:stretch/>
          </p:blipFill>
          <p:spPr>
            <a:xfrm>
              <a:off x="7440480" y="2324160"/>
              <a:ext cx="1882800" cy="1711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0844 C -0.01042 -0.11237 -0.01372 -0.12346 -0.0224 -0.12994 C -0.02292 -0.13318 -0.02674 -0.1563 -0.03108 -0.15722 C -0.04011 -0.15953 -0.04931 -0.15861 -0.05851 -0.1593 C -0.06841 -0.16208 -0.06702 -0.16485 -0.07396 -0.17271 C -0.0757 -0.17919 -0.079 -0.18196 -0.08091 -0.18844 C -0.07847 -0.19699 -0.07917 -0.20069 -0.08594 -0.20578 C -0.09254 -0.21687 -0.1 -0.22867 -0.11163 -0.23306 C -0.13681 -0.23237 -0.16216 -0.23375 -0.18733 -0.23121 C -0.18906 -0.23098 -0.18768 -0.22682 -0.18906 -0.22543 C -0.19479 -0.21872 -0.20504 -0.22104 -0.21302 -0.21942 C -0.22275 -0.21387 -0.22778 -0.203 -0.23698 -0.1963 C -0.24531 -0.1815 -0.26893 -0.17965 -0.28177 -0.17664 C -0.28976 -0.16739 -0.29549 -0.15607 -0.30226 -0.14566 C -0.30868 -0.13549 -0.31684 -0.12716 -0.32448 -0.11838 C -0.3283 -0.11398 -0.3349 -0.11445 -0.33993 -0.1126 C -0.35035 -0.11329 -0.36059 -0.11352 -0.37101 -0.11445 C -0.37344 -0.11468 -0.37604 -0.11468 -0.37795 -0.11653 C -0.37917 -0.11768 -0.3783 -0.12069 -0.37952 -0.12208 C -0.38125 -0.12439 -0.38403 -0.12485 -0.38646 -0.12624 C -0.38959 -0.13687 -0.39202 -0.1304 -0.39844 -0.1378 C -0.40591 -0.14612 -0.40851 -0.15907 -0.41563 -0.16716 C -0.41684 -0.17179 -0.41979 -0.17572 -0.42066 -0.18081 C -0.42622 -0.20809 -0.41788 -0.1926 -0.42622 -0.20578 C -0.43091 -0.22867 -0.45139 -0.25318 -0.46702 -0.2682 C -0.47136 -0.27213 -0.47847 -0.28208 -0.4842 -0.2837 C -0.49045 -0.28555 -0.4967 -0.28508 -0.50313 -0.28555 C -0.50972 -0.29063 -0.51441 -0.29641 -0.52205 -0.29919 C -0.54375 -0.31653 -0.5165 -0.30982 -0.5599 -0.31283 C -0.60382 -0.32508 -0.68021 -0.31768 -0.72118 -0.31699 C -0.73472 -0.3126 -0.74879 -0.31283 -0.7625 -0.30913 C -0.76563 -0.30543 -0.76979 -0.30312 -0.77257 -0.29919 C -0.77309 -0.29849 -0.77604 -0.28832 -0.77622 -0.28763 C -0.79566 -0.28809 -0.81511 -0.28832 -0.83455 -0.28971 C -0.83681 -0.28994 -0.83959 -0.28994 -0.84132 -0.29156 C -0.84757 -0.2978 -0.85226 -0.30959 -0.85851 -0.31699 E">
                                      <p:cBhvr>
                                        <p:cTn id="176" dur="5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风景1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93" name="Group 3"/>
          <p:cNvGrpSpPr/>
          <p:nvPr/>
        </p:nvGrpSpPr>
        <p:grpSpPr>
          <a:xfrm>
            <a:off x="7440480" y="2324160"/>
            <a:ext cx="1882800" cy="2297160"/>
            <a:chOff x="7440480" y="2324160"/>
            <a:chExt cx="1882800" cy="2297160"/>
          </a:xfrm>
        </p:grpSpPr>
        <p:grpSp>
          <p:nvGrpSpPr>
            <p:cNvPr id="294" name="Group 4"/>
            <p:cNvGrpSpPr/>
            <p:nvPr/>
          </p:nvGrpSpPr>
          <p:grpSpPr>
            <a:xfrm>
              <a:off x="8329320" y="3183120"/>
              <a:ext cx="557280" cy="1438200"/>
              <a:chOff x="8329320" y="3183120"/>
              <a:chExt cx="557280" cy="1438200"/>
            </a:xfrm>
          </p:grpSpPr>
          <p:sp>
            <p:nvSpPr>
              <p:cNvPr id="295" name="Line 5"/>
              <p:cNvSpPr/>
              <p:nvPr/>
            </p:nvSpPr>
            <p:spPr>
              <a:xfrm>
                <a:off x="8475480" y="3183120"/>
                <a:ext cx="0" cy="9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pic>
            <p:nvPicPr>
              <p:cNvPr id="296" name="Picture 6" descr="青蛙掉"/>
              <p:cNvPicPr/>
              <p:nvPr/>
            </p:nvPicPr>
            <p:blipFill>
              <a:blip r:embed="rId3"/>
              <a:stretch/>
            </p:blipFill>
            <p:spPr>
              <a:xfrm>
                <a:off x="8329320" y="4030920"/>
                <a:ext cx="557280" cy="590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7" name="Picture 7" descr="FLYING"/>
            <p:cNvPicPr/>
            <p:nvPr/>
          </p:nvPicPr>
          <p:blipFill>
            <a:blip r:embed="rId4"/>
            <a:stretch/>
          </p:blipFill>
          <p:spPr>
            <a:xfrm>
              <a:off x="7440480" y="2324160"/>
              <a:ext cx="1882800" cy="171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"/>
          <p:cNvSpPr/>
          <p:nvPr/>
        </p:nvSpPr>
        <p:spPr>
          <a:xfrm>
            <a:off x="3635280" y="1701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 Black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 Black"/>
              </a:rPr>
              <a:t>http://www.eeppt.com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"/>
          <p:cNvSpPr/>
          <p:nvPr/>
        </p:nvSpPr>
        <p:spPr>
          <a:xfrm>
            <a:off x="1580040" y="836640"/>
            <a:ext cx="21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99"/>
                </a:solidFill>
                <a:latin typeface="Arial Black"/>
              </a:rPr>
              <a:t>《坐井观天》</a:t>
            </a: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PPT</a:t>
            </a:r>
            <a:r>
              <a:rPr b="0" lang="zh-CN" sz="3600" spc="-1" strike="noStrike">
                <a:solidFill>
                  <a:srgbClr val="ff3399"/>
                </a:solidFill>
                <a:latin typeface="Arial Black"/>
              </a:rPr>
              <a:t>课件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0844 C -0.01042 -0.11237 -0.01372 -0.12346 -0.0224 -0.12994 C -0.02292 -0.13318 -0.02674 -0.1563 -0.03108 -0.15722 C -0.04011 -0.15953 -0.04931 -0.15861 -0.05851 -0.1593 C -0.06841 -0.16208 -0.06702 -0.16485 -0.07396 -0.17271 C -0.0757 -0.17919 -0.079 -0.18196 -0.08091 -0.18844 C -0.07847 -0.19699 -0.07917 -0.20069 -0.08594 -0.20578 C -0.09254 -0.21687 -0.1 -0.22867 -0.11163 -0.23306 C -0.13681 -0.23237 -0.16216 -0.23375 -0.18733 -0.23121 C -0.18906 -0.23098 -0.18768 -0.22682 -0.18906 -0.22543 C -0.19479 -0.21872 -0.20504 -0.22104 -0.21302 -0.21942 C -0.22275 -0.21387 -0.22778 -0.203 -0.23698 -0.1963 C -0.24531 -0.1815 -0.26893 -0.17965 -0.28177 -0.17664 C -0.28976 -0.16739 -0.29549 -0.15607 -0.30226 -0.14566 C -0.30868 -0.13549 -0.31684 -0.12716 -0.32448 -0.11838 C -0.3283 -0.11398 -0.3349 -0.11445 -0.33993 -0.1126 C -0.35035 -0.11329 -0.36059 -0.11352 -0.37101 -0.11445 C -0.37344 -0.11468 -0.37604 -0.11468 -0.37795 -0.11653 C -0.37917 -0.11768 -0.3783 -0.12069 -0.37952 -0.12208 C -0.38125 -0.12439 -0.38403 -0.12485 -0.38646 -0.12624 C -0.38959 -0.13687 -0.39202 -0.1304 -0.39844 -0.1378 C -0.40591 -0.14612 -0.40851 -0.15907 -0.41563 -0.16716 C -0.41684 -0.17179 -0.41979 -0.17572 -0.42066 -0.18081 C -0.42622 -0.20809 -0.41788 -0.1926 -0.42622 -0.20578 C -0.43091 -0.22867 -0.45139 -0.25318 -0.46702 -0.2682 C -0.47136 -0.27213 -0.47847 -0.28208 -0.4842 -0.2837 C -0.49045 -0.28555 -0.4967 -0.28508 -0.50313 -0.28555 C -0.50972 -0.29063 -0.51441 -0.29641 -0.52205 -0.29919 C -0.54375 -0.31653 -0.5165 -0.30982 -0.5599 -0.31283 C -0.60382 -0.32508 -0.68021 -0.31768 -0.72118 -0.31699 C -0.73472 -0.3126 -0.74879 -0.31283 -0.7625 -0.30913 C -0.76563 -0.30543 -0.76979 -0.30312 -0.77257 -0.29919 C -0.77309 -0.29849 -0.77604 -0.28832 -0.77622 -0.28763 C -0.79566 -0.28809 -0.81511 -0.28832 -0.83455 -0.28971 C -0.83681 -0.28994 -0.83959 -0.28994 -0.84132 -0.29156 C -0.84757 -0.2978 -0.85226 -0.30959 -0.85851 -0.31699 E">
                                      <p:cBhvr>
                                        <p:cTn id="182" dur="5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天堂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3"/>
          <p:cNvGrpSpPr/>
          <p:nvPr/>
        </p:nvGrpSpPr>
        <p:grpSpPr>
          <a:xfrm>
            <a:off x="7440480" y="2324160"/>
            <a:ext cx="1882800" cy="2297160"/>
            <a:chOff x="7440480" y="2324160"/>
            <a:chExt cx="1882800" cy="2297160"/>
          </a:xfrm>
        </p:grpSpPr>
        <p:grpSp>
          <p:nvGrpSpPr>
            <p:cNvPr id="302" name="Group 4"/>
            <p:cNvGrpSpPr/>
            <p:nvPr/>
          </p:nvGrpSpPr>
          <p:grpSpPr>
            <a:xfrm>
              <a:off x="8329320" y="3183120"/>
              <a:ext cx="557280" cy="1438200"/>
              <a:chOff x="8329320" y="3183120"/>
              <a:chExt cx="557280" cy="1438200"/>
            </a:xfrm>
          </p:grpSpPr>
          <p:sp>
            <p:nvSpPr>
              <p:cNvPr id="303" name="Line 5"/>
              <p:cNvSpPr/>
              <p:nvPr/>
            </p:nvSpPr>
            <p:spPr>
              <a:xfrm>
                <a:off x="8475480" y="3183120"/>
                <a:ext cx="0" cy="9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pic>
            <p:nvPicPr>
              <p:cNvPr id="304" name="Picture 6" descr="青蛙掉"/>
              <p:cNvPicPr/>
              <p:nvPr/>
            </p:nvPicPr>
            <p:blipFill>
              <a:blip r:embed="rId3"/>
              <a:stretch/>
            </p:blipFill>
            <p:spPr>
              <a:xfrm>
                <a:off x="8329320" y="4030920"/>
                <a:ext cx="557280" cy="590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05" name="Picture 7" descr="FLYING"/>
            <p:cNvPicPr/>
            <p:nvPr/>
          </p:nvPicPr>
          <p:blipFill>
            <a:blip r:embed="rId4"/>
            <a:stretch/>
          </p:blipFill>
          <p:spPr>
            <a:xfrm>
              <a:off x="7440480" y="2324160"/>
              <a:ext cx="1882800" cy="1711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 Black"/>
                <a:hlinkClick r:id="rId5"/>
              </a:rPr>
              <a:t>ppt课件模板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http://www.eeppt.com/moban/kejian/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0844 C -0.01042 -0.11237 -0.01372 -0.12346 -0.0224 -0.12994 C -0.02292 -0.13318 -0.02674 -0.1563 -0.03108 -0.15722 C -0.04011 -0.15953 -0.04931 -0.15861 -0.05851 -0.1593 C -0.06841 -0.16208 -0.06702 -0.16485 -0.07396 -0.17271 C -0.0757 -0.17919 -0.079 -0.18196 -0.08091 -0.18844 C -0.07847 -0.19699 -0.07917 -0.20069 -0.08594 -0.20578 C -0.09254 -0.21687 -0.1 -0.22867 -0.11163 -0.23306 C -0.13681 -0.23237 -0.16216 -0.23375 -0.18733 -0.23121 C -0.18906 -0.23098 -0.18768 -0.22682 -0.18906 -0.22543 C -0.19479 -0.21872 -0.20504 -0.22104 -0.21302 -0.21942 C -0.22275 -0.21387 -0.22778 -0.203 -0.23698 -0.1963 C -0.24531 -0.1815 -0.26893 -0.17965 -0.28177 -0.17664 C -0.28976 -0.16739 -0.29549 -0.15607 -0.30226 -0.14566 C -0.30868 -0.13549 -0.31684 -0.12716 -0.32448 -0.11838 C -0.3283 -0.11398 -0.3349 -0.11445 -0.33993 -0.1126 C -0.35035 -0.11329 -0.36059 -0.11352 -0.37101 -0.11445 C -0.37344 -0.11468 -0.37604 -0.11468 -0.37795 -0.11653 C -0.37917 -0.11768 -0.3783 -0.12069 -0.37952 -0.12208 C -0.38125 -0.12439 -0.38403 -0.12485 -0.38646 -0.12624 C -0.38959 -0.13687 -0.39202 -0.1304 -0.39844 -0.1378 C -0.40591 -0.14612 -0.40851 -0.15907 -0.41563 -0.16716 C -0.41684 -0.17179 -0.41979 -0.17572 -0.42066 -0.18081 C -0.42622 -0.20809 -0.41788 -0.1926 -0.42622 -0.20578 C -0.43091 -0.22867 -0.45139 -0.25318 -0.46702 -0.2682 C -0.47136 -0.27213 -0.47847 -0.28208 -0.4842 -0.2837 C -0.49045 -0.28555 -0.4967 -0.28508 -0.50313 -0.28555 C -0.50972 -0.29063 -0.51441 -0.29641 -0.52205 -0.29919 C -0.54375 -0.31653 -0.5165 -0.30982 -0.5599 -0.31283 C -0.60382 -0.32508 -0.68021 -0.31768 -0.72118 -0.31699 C -0.73472 -0.3126 -0.74879 -0.31283 -0.7625 -0.30913 C -0.76563 -0.30543 -0.76979 -0.30312 -0.77257 -0.29919 C -0.77309 -0.29849 -0.77604 -0.28832 -0.77622 -0.28763 C -0.79566 -0.28809 -0.81511 -0.28832 -0.83455 -0.28971 C -0.83681 -0.28994 -0.83959 -0.28994 -0.84132 -0.29156 C -0.84757 -0.2978 -0.85226 -0.30959 -0.85851 -0.31699 E">
                                      <p:cBhvr>
                                        <p:cTn id="188" dur="5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c00"/>
                </a:solidFill>
                <a:latin typeface="Arial Black"/>
              </a:rPr>
              <a:t>www.eeppt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A1D79-42CA-4F3B-9575-53B7DE0637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061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2" name="Group 3"/>
          <p:cNvGrpSpPr/>
          <p:nvPr/>
        </p:nvGrpSpPr>
        <p:grpSpPr>
          <a:xfrm>
            <a:off x="7440480" y="2324160"/>
            <a:ext cx="1882800" cy="2297160"/>
            <a:chOff x="7440480" y="2324160"/>
            <a:chExt cx="1882800" cy="2297160"/>
          </a:xfrm>
        </p:grpSpPr>
        <p:grpSp>
          <p:nvGrpSpPr>
            <p:cNvPr id="313" name="Group 4"/>
            <p:cNvGrpSpPr/>
            <p:nvPr/>
          </p:nvGrpSpPr>
          <p:grpSpPr>
            <a:xfrm>
              <a:off x="8329320" y="3183120"/>
              <a:ext cx="557280" cy="1438200"/>
              <a:chOff x="8329320" y="3183120"/>
              <a:chExt cx="557280" cy="1438200"/>
            </a:xfrm>
          </p:grpSpPr>
          <p:sp>
            <p:nvSpPr>
              <p:cNvPr id="314" name="Line 5"/>
              <p:cNvSpPr/>
              <p:nvPr/>
            </p:nvSpPr>
            <p:spPr>
              <a:xfrm>
                <a:off x="8475480" y="3183120"/>
                <a:ext cx="0" cy="97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pic>
            <p:nvPicPr>
              <p:cNvPr id="315" name="Picture 6" descr="青蛙掉"/>
              <p:cNvPicPr/>
              <p:nvPr/>
            </p:nvPicPr>
            <p:blipFill>
              <a:blip r:embed="rId3"/>
              <a:stretch/>
            </p:blipFill>
            <p:spPr>
              <a:xfrm>
                <a:off x="8329320" y="4030920"/>
                <a:ext cx="557280" cy="5904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16" name="Picture 7" descr="FLYING"/>
            <p:cNvPicPr/>
            <p:nvPr/>
          </p:nvPicPr>
          <p:blipFill>
            <a:blip r:embed="rId4"/>
            <a:stretch/>
          </p:blipFill>
          <p:spPr>
            <a:xfrm>
              <a:off x="7440480" y="2324160"/>
              <a:ext cx="1882800" cy="17114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10844 C -0.01042 -0.11237 -0.01372 -0.12346 -0.0224 -0.12994 C -0.02292 -0.13318 -0.02674 -0.1563 -0.03108 -0.15722 C -0.04011 -0.15953 -0.04931 -0.15861 -0.05851 -0.1593 C -0.06841 -0.16208 -0.06702 -0.16485 -0.07396 -0.17271 C -0.0757 -0.17919 -0.079 -0.18196 -0.08091 -0.18844 C -0.07847 -0.19699 -0.07917 -0.20069 -0.08594 -0.20578 C -0.09254 -0.21687 -0.1 -0.22867 -0.11163 -0.23306 C -0.13681 -0.23237 -0.16216 -0.23375 -0.18733 -0.23121 C -0.18906 -0.23098 -0.18768 -0.22682 -0.18906 -0.22543 C -0.19479 -0.21872 -0.20504 -0.22104 -0.21302 -0.21942 C -0.22275 -0.21387 -0.22778 -0.203 -0.23698 -0.1963 C -0.24531 -0.1815 -0.26893 -0.17965 -0.28177 -0.17664 C -0.28976 -0.16739 -0.29549 -0.15607 -0.30226 -0.14566 C -0.30868 -0.13549 -0.31684 -0.12716 -0.32448 -0.11838 C -0.3283 -0.11398 -0.3349 -0.11445 -0.33993 -0.1126 C -0.35035 -0.11329 -0.36059 -0.11352 -0.37101 -0.11445 C -0.37344 -0.11468 -0.37604 -0.11468 -0.37795 -0.11653 C -0.37917 -0.11768 -0.3783 -0.12069 -0.37952 -0.12208 C -0.38125 -0.12439 -0.38403 -0.12485 -0.38646 -0.12624 C -0.38959 -0.13687 -0.39202 -0.1304 -0.39844 -0.1378 C -0.40591 -0.14612 -0.40851 -0.15907 -0.41563 -0.16716 C -0.41684 -0.17179 -0.41979 -0.17572 -0.42066 -0.18081 C -0.42622 -0.20809 -0.41788 -0.1926 -0.42622 -0.20578 C -0.43091 -0.22867 -0.45139 -0.25318 -0.46702 -0.2682 C -0.47136 -0.27213 -0.47847 -0.28208 -0.4842 -0.2837 C -0.49045 -0.28555 -0.4967 -0.28508 -0.50313 -0.28555 C -0.50972 -0.29063 -0.51441 -0.29641 -0.52205 -0.29919 C -0.54375 -0.31653 -0.5165 -0.30982 -0.5599 -0.31283 C -0.60382 -0.32508 -0.68021 -0.31768 -0.72118 -0.31699 C -0.73472 -0.3126 -0.74879 -0.31283 -0.7625 -0.30913 C -0.76563 -0.30543 -0.76979 -0.30312 -0.77257 -0.29919 C -0.77309 -0.29849 -0.77604 -0.28832 -0.77622 -0.28763 C -0.79566 -0.28809 -0.81511 -0.28832 -0.83455 -0.28971 C -0.83681 -0.28994 -0.83959 -0.28994 -0.84132 -0.29156 C -0.84757 -0.2978 -0.85226 -0.30959 -0.85851 -0.31699 E">
                                      <p:cBhvr>
                                        <p:cTn id="194" dur="5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204156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1905120" y="1325520"/>
            <a:ext cx="3657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信</a:t>
            </a:r>
            <a:endParaRPr b="0" lang="en-US" sz="277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3014640" y="609480"/>
            <a:ext cx="213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050"/>
                </a:solidFill>
                <a:latin typeface="Times New Roman"/>
              </a:rPr>
              <a:t>xìn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2" descr="BJ1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8" name="WordArt 3" descr=""/>
          <p:cNvPicPr/>
          <p:nvPr/>
        </p:nvPicPr>
        <p:blipFill>
          <a:blip r:embed="rId2"/>
          <a:stretch/>
        </p:blipFill>
        <p:spPr>
          <a:xfrm>
            <a:off x="3048120" y="1116000"/>
            <a:ext cx="5121000" cy="17240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ff33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1905120" y="1325520"/>
            <a:ext cx="3657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沿</a:t>
            </a:r>
            <a:endParaRPr b="0" lang="en-US" sz="277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989440" y="609480"/>
            <a:ext cx="25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050"/>
                </a:solidFill>
                <a:latin typeface="Times New Roman"/>
              </a:rPr>
              <a:t>yán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1905120" y="1325520"/>
            <a:ext cx="3657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抬</a:t>
            </a:r>
            <a:endParaRPr b="0" lang="en-US" sz="277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3124080" y="609480"/>
            <a:ext cx="14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050"/>
                </a:solidFill>
                <a:latin typeface="Times New Roman"/>
              </a:rPr>
              <a:t>tái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4"/>
          <p:cNvSpPr/>
          <p:nvPr/>
        </p:nvSpPr>
        <p:spPr>
          <a:xfrm>
            <a:off x="1905120" y="1325520"/>
            <a:ext cx="3657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际</a:t>
            </a:r>
            <a:endParaRPr b="0" lang="en-US" sz="277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3425760" y="907920"/>
            <a:ext cx="1433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050"/>
                </a:solidFill>
                <a:latin typeface="Times New Roman"/>
              </a:rPr>
              <a:t>jì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1905120" y="1325520"/>
            <a:ext cx="3657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蛙</a:t>
            </a:r>
            <a:endParaRPr b="0" lang="en-US" sz="277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2997360" y="623880"/>
            <a:ext cx="2438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050"/>
                </a:solidFill>
                <a:latin typeface="Times New Roman"/>
              </a:rPr>
              <a:t>wā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4"/>
          <p:cNvSpPr/>
          <p:nvPr/>
        </p:nvSpPr>
        <p:spPr>
          <a:xfrm>
            <a:off x="1905120" y="1325520"/>
            <a:ext cx="3657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错</a:t>
            </a:r>
            <a:endParaRPr b="0" lang="en-US" sz="277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3048120" y="609480"/>
            <a:ext cx="1884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050"/>
                </a:solidFill>
                <a:latin typeface="Times New Roman"/>
              </a:rPr>
              <a:t>cuò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4"/>
          <p:cNvSpPr/>
          <p:nvPr/>
        </p:nvSpPr>
        <p:spPr>
          <a:xfrm>
            <a:off x="1905120" y="1325520"/>
            <a:ext cx="3657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答</a:t>
            </a:r>
            <a:endParaRPr b="0" lang="en-US" sz="277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098880" y="700200"/>
            <a:ext cx="1904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050"/>
                </a:solidFill>
                <a:latin typeface="Times New Roman"/>
              </a:rPr>
              <a:t>dá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4"/>
          <p:cNvSpPr/>
          <p:nvPr/>
        </p:nvSpPr>
        <p:spPr>
          <a:xfrm>
            <a:off x="1905120" y="1325520"/>
            <a:ext cx="365760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3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7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还</a:t>
            </a:r>
            <a:endParaRPr b="0" lang="en-US" sz="277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2933640" y="700200"/>
            <a:ext cx="2286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050"/>
                </a:solidFill>
                <a:latin typeface="Times New Roman"/>
              </a:rPr>
              <a:t>hái</a:t>
            </a:r>
            <a:r>
              <a:rPr b="0" lang="zh-CN" sz="8800" spc="-1" strike="noStrike">
                <a:solidFill>
                  <a:srgbClr val="ff5050"/>
                </a:solidFill>
                <a:latin typeface="Times New Roman"/>
              </a:rPr>
              <a:t>　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8:05:43Z</dcterms:created>
  <dc:creator/>
  <dc:description/>
  <cp:keywords>幻灯片之家 http:/www.eeppt.com</cp:keywords>
  <dc:language>en-US</dc:language>
  <cp:lastModifiedBy/>
  <dcterms:modified xsi:type="dcterms:W3CDTF">2015-07-04T11:06:22Z</dcterms:modified>
  <cp:revision>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