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85CE-C516-4B19-9FB7-36843CD3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6D2-04F5-4731-8EBD-3F1EA09E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FBD-ADCF-4772-9296-9C3E566D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307C-3937-4361-AD74-AA0485C7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5D8-010C-4BC8-8A41-94084B44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3E4D-C0F8-47B7-B93E-D6CA5A1A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0504-C937-41F4-9E30-F0413AD0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705-7D4B-4404-B4D7-70C3A4F9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21E-6A12-48FD-BBE1-D11E0841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B71-4314-4ED5-B531-5CDA9F8F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E3C-F460-45CA-B7DE-B2A1B56D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B182-F727-4978-B918-81303CDF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C033-C890-4213-9320-A3FF8A1BC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312;%B0%AE&amp;in=91&amp;cl=2&amp;cm=1&amp;sc=0&amp;lm=-1&amp;pn=90&amp;rn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312;%B0%AE&amp;in=16&amp;cl=2&amp;cm=1&amp;sc=0&amp;lm=-1&amp;pn=15&amp;rn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F:\ppt\705\人教版四年级语文上册《母鸡》PPT课件\6545510_194557375181_2.jpg"/>
          <p:cNvPicPr/>
          <p:nvPr/>
        </p:nvPicPr>
        <p:blipFill>
          <a:blip r:embed="rId1"/>
          <a:srcRect l="8396" t="0" r="3873" b="5289"/>
          <a:stretch/>
        </p:blipFill>
        <p:spPr>
          <a:xfrm>
            <a:off x="0" y="-17136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7721640" y="2930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7262640" y="53737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efefe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老舍</a:t>
            </a:r>
            <a:endParaRPr b="1" lang="en-US" sz="1800" spc="1" strike="noStrike">
              <a:ln w="19080">
                <a:solidFill>
                  <a:srgbClr val="fefefe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5" name=""/>
          <p:cNvSpPr/>
          <p:nvPr/>
        </p:nvSpPr>
        <p:spPr>
          <a:xfrm>
            <a:off x="1549440" y="90972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《母鸡》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F:\ppt\705\人教版四年级语文上册《母鸡》PPT课件\4181839_090019216599_2.jpg"/>
          <p:cNvPicPr/>
          <p:nvPr/>
        </p:nvPicPr>
        <p:blipFill>
          <a:blip r:embed="rId1"/>
          <a:srcRect l="2431" t="2897" r="10375" b="3675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i2_061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ji2_059"/>
          <p:cNvPicPr/>
          <p:nvPr/>
        </p:nvPicPr>
        <p:blipFill>
          <a:blip r:embed="rId1"/>
          <a:stretch/>
        </p:blipFill>
        <p:spPr>
          <a:xfrm>
            <a:off x="-304920" y="166680"/>
            <a:ext cx="9753840" cy="6524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FC66-0E87-442C-AC7C-C4931CB318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u=2392229512,1844039189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9197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"/>
          <p:cNvSpPr/>
          <p:nvPr/>
        </p:nvSpPr>
        <p:spPr>
          <a:xfrm>
            <a:off x="5003640" y="122400"/>
            <a:ext cx="4140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发生在一位游子与母亲之间。游子探亲期满离开故乡，母亲送他去车站。在车站，儿子放旅行包的拎带被挤断。眼看着就要到发车时间，母亲急忙从身上解下裤腰带，把旅行包扎好。解裤腰带时，由于心急又用力，她把脸都涨红了。儿子问母亲怎么回家呢？母亲说，不要紧，慢慢走。多少年来，儿子一直把母亲这根裤腰带珍藏在身边。多少年来，儿子一直在想，他母亲没有裤腰带是怎样走回几里外的家的。 另一个故事由发生在一个犯人同母亲之间，探监的日子，一位来自贫困山区的母亲，经过乘驴车、汽车和火车的辗转，探望服刑的儿子。在探监人五光十色的物品中，老母亲给儿子掏出用白布包着的葵花子。葵花子已经炒熟，老母亲全嗑好了。没有皮，白花花的像密密麻麻的雀舌头服刑的儿子接过这堆葵花子肉，手开始抖。母亲亦无言语，撩起衣襟拭泪。她千里迢迢探望儿子，卖掉了鸡蛋和小猪崽，还要节省许多开支才凑足路费，来之前，在白天的劳碌后，晚上在煤油灯下嗑瓜子。嗑好的瓜子肉放在一起，看它们像小山一点点增多，不舍得吃一粒。十多斤瓜子嗑了许多夜晚。在所有探监人当中，他母亲的衣着是最褴褛的。母亲一口一口嗑的瓜子，包含了千言万语。儿子“扑通”给母亲跪下，他忏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u=2011381153,2506338328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7"/>
          <p:cNvSpPr txBox="1"/>
          <p:nvPr/>
        </p:nvSpPr>
        <p:spPr>
          <a:xfrm>
            <a:off x="1116000" y="1989000"/>
            <a:ext cx="345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黑体"/>
              </a:rPr>
              <a:t>母爱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黑体"/>
              <a:ea typeface="黑体"/>
            </a:endParaRPr>
          </a:p>
        </p:txBody>
      </p:sp>
      <p:sp>
        <p:nvSpPr>
          <p:cNvPr id="58" name="WordArt 9"/>
          <p:cNvSpPr txBox="1"/>
          <p:nvPr/>
        </p:nvSpPr>
        <p:spPr>
          <a:xfrm>
            <a:off x="6084720" y="765000"/>
            <a:ext cx="15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宋体"/>
              </a:rPr>
              <a:t>无私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宋体"/>
              <a:ea typeface="宋体"/>
            </a:endParaRPr>
          </a:p>
        </p:txBody>
      </p:sp>
      <p:sp>
        <p:nvSpPr>
          <p:cNvPr id="59" name="WordArt 10"/>
          <p:cNvSpPr txBox="1"/>
          <p:nvPr/>
        </p:nvSpPr>
        <p:spPr>
          <a:xfrm>
            <a:off x="6156360" y="3789360"/>
            <a:ext cx="151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勇敢</a:t>
            </a:r>
            <a:endParaRPr b="0" lang="en-US" sz="1800" spc="-1" strike="noStrike">
              <a:ln w="9360">
                <a:solidFill>
                  <a:srgbClr val="808080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60" name="WordArt 11"/>
          <p:cNvSpPr txBox="1"/>
          <p:nvPr/>
        </p:nvSpPr>
        <p:spPr>
          <a:xfrm>
            <a:off x="6227640" y="4797360"/>
            <a:ext cx="15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宋体"/>
              </a:rPr>
              <a:t>辛苦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  <p:sp>
        <p:nvSpPr>
          <p:cNvPr id="61" name="WordArt 12"/>
          <p:cNvSpPr txBox="1"/>
          <p:nvPr/>
        </p:nvSpPr>
        <p:spPr>
          <a:xfrm>
            <a:off x="6156360" y="1773360"/>
            <a:ext cx="151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宋体"/>
              </a:rPr>
              <a:t>负责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62" name="WordArt 13"/>
          <p:cNvSpPr txBox="1"/>
          <p:nvPr/>
        </p:nvSpPr>
        <p:spPr>
          <a:xfrm>
            <a:off x="6156360" y="2781360"/>
            <a:ext cx="151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宋体"/>
              </a:rPr>
              <a:t>慈爱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宋体"/>
              <a:ea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2:37:50Z</dcterms:created>
  <dc:creator/>
  <dc:description/>
  <cp:keywords>幻灯片之家 http:/www.eeppt.com</cp:keywords>
  <dc:language>en-US</dc:language>
  <cp:lastModifiedBy/>
  <dcterms:modified xsi:type="dcterms:W3CDTF">2015-07-17T15:04:56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