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312-58CA-4DA2-B6D9-EDE86F9E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F14-A090-460D-A2C9-3BEFFC2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862-3A8E-42C6-98F5-41B19F76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C62-D846-41BB-BC5F-D0B526F2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9E9-E6C4-433C-8688-2AAC9909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D05-6804-4535-AE28-DCF2423F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9B1-432B-4A1A-B0B1-434896D6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3FE-7AC4-4CF8-867E-FFA5D830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119-9580-4092-8E8D-06B249CB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E73-1344-4AC0-B8FE-025C059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C8F-C098-424F-B254-DA1DA1F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BD7-C5BF-4807-B1BB-010856D1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672-2A54-4E9D-B7DC-7C3A606283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64980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5997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06400" y="-27000"/>
            <a:ext cx="702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萌笑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39488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19288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426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423320" y="2925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9488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78604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714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068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0695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a</cp:lastModifiedBy>
  <dcterms:modified xsi:type="dcterms:W3CDTF">2015-07-21T02:35:59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