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8.png" ContentType="image/png"/>
  <Override PartName="/ppt/media/image9.gif" ContentType="image/gi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DFB-087A-4494-A651-E6F7D77C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787-7464-4FCE-BFA5-DCDC796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60A-797D-4156-B14F-D622A833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03B-366C-4E43-B348-8531D5C2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9E3-064F-4AC2-826B-7E72D7BF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742-3955-40C5-93D3-A44D9523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1DD-C1CD-4866-ABD9-6D77F1A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8E5-51AF-4E03-8665-B9B1666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C2B-6218-4300-B624-EC1BCCC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05A-03BC-4FA5-A19E-A2DF913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2C6-3AF2-4433-972E-5DF5090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63B-CF4B-4CD4-BE27-E4698A6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4BD-69EC-40B9-9402-1E0AADE887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北师大版 三年级 语文 上册 第二单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09520" y="170172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你一定会听见的》精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24000" y="907920"/>
            <a:ext cx="8496000" cy="70344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你听过一大群小蚂蚁跑步的声音吗</a:t>
            </a:r>
            <a:r>
              <a:rPr b="1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听过雪花飘落的声音吗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风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ww911,2006012201720"/>
          <p:cNvPicPr/>
          <p:nvPr/>
        </p:nvPicPr>
        <p:blipFill>
          <a:blip r:embed="rId2"/>
          <a:stretch/>
        </p:blipFill>
        <p:spPr>
          <a:xfrm>
            <a:off x="4859280" y="2060640"/>
            <a:ext cx="3757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动物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水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8" descr="flower14"/>
          <p:cNvPicPr/>
          <p:nvPr/>
        </p:nvPicPr>
        <p:blipFill>
          <a:blip r:embed="rId2">
            <a:lum bright="24000"/>
          </a:blip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反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9280" y="762120"/>
            <a:ext cx="8640360" cy="1052280"/>
            <a:chOff x="179280" y="762120"/>
            <a:chExt cx="8640360" cy="1052280"/>
          </a:xfrm>
        </p:grpSpPr>
        <p:grpSp>
          <p:nvGrpSpPr>
            <p:cNvPr id="172" name="Group 4"/>
            <p:cNvGrpSpPr/>
            <p:nvPr/>
          </p:nvGrpSpPr>
          <p:grpSpPr>
            <a:xfrm>
              <a:off x="457920" y="869760"/>
              <a:ext cx="681840" cy="474120"/>
              <a:chOff x="457920" y="869760"/>
              <a:chExt cx="681840" cy="474120"/>
            </a:xfrm>
          </p:grpSpPr>
          <p:sp>
            <p:nvSpPr>
              <p:cNvPr id="173" name="Rectangle 5"/>
              <p:cNvSpPr/>
              <p:nvPr/>
            </p:nvSpPr>
            <p:spPr>
              <a:xfrm>
                <a:off x="457920" y="869760"/>
                <a:ext cx="419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6"/>
              <p:cNvSpPr/>
              <p:nvPr/>
            </p:nvSpPr>
            <p:spPr>
              <a:xfrm>
                <a:off x="825120" y="869760"/>
                <a:ext cx="314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7"/>
            <p:cNvGrpSpPr/>
            <p:nvPr/>
          </p:nvGrpSpPr>
          <p:grpSpPr>
            <a:xfrm>
              <a:off x="576360" y="1292040"/>
              <a:ext cx="707400" cy="474120"/>
              <a:chOff x="576360" y="1292040"/>
              <a:chExt cx="707400" cy="474120"/>
            </a:xfrm>
          </p:grpSpPr>
          <p:sp>
            <p:nvSpPr>
              <p:cNvPr id="176" name="Rectangle 8"/>
              <p:cNvSpPr/>
              <p:nvPr/>
            </p:nvSpPr>
            <p:spPr>
              <a:xfrm>
                <a:off x="576360" y="1292040"/>
                <a:ext cx="4042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9"/>
              <p:cNvSpPr/>
              <p:nvPr/>
            </p:nvSpPr>
            <p:spPr>
              <a:xfrm>
                <a:off x="930240" y="1292040"/>
                <a:ext cx="3535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0"/>
            <p:cNvSpPr/>
            <p:nvPr/>
          </p:nvSpPr>
          <p:spPr>
            <a:xfrm>
              <a:off x="179280" y="1218960"/>
              <a:ext cx="537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788040" y="7621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 flipV="1">
              <a:off x="482400" y="1583640"/>
              <a:ext cx="833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13"/>
          <p:cNvSpPr/>
          <p:nvPr/>
        </p:nvSpPr>
        <p:spPr>
          <a:xfrm>
            <a:off x="685800" y="1981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990720" y="2819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324000" y="170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从这篇文章当中，你明白了什么道理？有什么收获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ahoma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找出课文中你认为能给你深刻感悟的句子，并说说你对它的理解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258920" y="551664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  <a:ea typeface="华文行楷"/>
              </a:rPr>
              <a:t>有一个奇妙的世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7"/>
          <p:cNvSpPr txBox="1"/>
          <p:nvPr/>
        </p:nvSpPr>
        <p:spPr>
          <a:xfrm>
            <a:off x="1473120" y="4581360"/>
            <a:ext cx="4754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用心听，用心看，用心想</a:t>
            </a:r>
            <a:endParaRPr b="1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flower14"/>
          <p:cNvPicPr/>
          <p:nvPr/>
        </p:nvPicPr>
        <p:blipFill>
          <a:blip r:embed="rId2"/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695160" y="13255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2209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16000" y="1341360"/>
            <a:ext cx="762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品味重点句子或语段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26370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说一说你最喜欢本文哪些语句，想一想它们好在哪里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-755640" y="888840"/>
            <a:ext cx="237492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花开的声音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5843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066680" y="14479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你听过梅花怒放的声音吗？整整一个冬季，梅花都在聚集精华等待着。终于有一天，她达到了沸点，掀翻了花盖子，咕噜噜地一个个粉红色的泡泡全冒了出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8222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685800" y="106668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c3300"/>
                </a:solidFill>
                <a:latin typeface="华文行楷"/>
              </a:rPr>
              <a:t>你听到了落叶的声音吗？</a:t>
            </a:r>
            <a:endParaRPr b="1" lang="en-US" sz="2800" spc="-1" strike="noStrike">
              <a:ln w="9360">
                <a:solidFill>
                  <a:srgbClr val="ffcc00"/>
                </a:solidFill>
                <a:miter/>
              </a:ln>
              <a:solidFill>
                <a:srgbClr val="cc33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942840" y="11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flower7"/>
          <p:cNvPicPr/>
          <p:nvPr/>
        </p:nvPicPr>
        <p:blipFill>
          <a:blip r:embed="rId2"/>
          <a:srcRect l="0" t="0" r="35937" b="0"/>
          <a:stretch/>
        </p:blipFill>
        <p:spPr>
          <a:xfrm>
            <a:off x="179280" y="620640"/>
            <a:ext cx="8785440" cy="5999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684360" y="105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美国女作家海伦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凯勒自幼失明，发出了“假如给我三天光明</a:t>
            </a:r>
            <a:r>
              <a:rPr b="1" lang="en-US" sz="3600" spc="-1" strike="noStrike">
                <a:solidFill>
                  <a:srgbClr val="5335e9"/>
                </a:solidFill>
                <a:latin typeface="宋体"/>
                <a:ea typeface="宋体"/>
              </a:rPr>
              <a:t>……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的呼喊，可见视觉对于人类是多么重要！还有一种感觉对人类同样重要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那就是听觉。如泣如诉的二胡声，使瞎子阿炳的世界充满阳光；琅琅的读书声，使冬天的校园也充满了生机；妈妈的一句关心的话语，使你伤感的心不再失意</a:t>
            </a:r>
            <a:r>
              <a:rPr b="1" lang="en-US" sz="3600" spc="-1" strike="noStrike">
                <a:solidFill>
                  <a:srgbClr val="5335e9"/>
                </a:solidFill>
                <a:latin typeface="宋体"/>
                <a:ea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95160" y="13255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4360" y="177336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声音是物体振动时与空气相激荡所发出的声响。雪花轻轻飘落是有声音的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很轻微很轻微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324000" y="762120"/>
            <a:ext cx="8496000" cy="1052280"/>
            <a:chOff x="324000" y="762120"/>
            <a:chExt cx="8496000" cy="1052280"/>
          </a:xfrm>
        </p:grpSpPr>
        <p:grpSp>
          <p:nvGrpSpPr>
            <p:cNvPr id="206" name="Group 3"/>
            <p:cNvGrpSpPr/>
            <p:nvPr/>
          </p:nvGrpSpPr>
          <p:grpSpPr>
            <a:xfrm>
              <a:off x="597960" y="869760"/>
              <a:ext cx="670320" cy="474120"/>
              <a:chOff x="597960" y="869760"/>
              <a:chExt cx="670320" cy="47412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597960" y="869760"/>
                <a:ext cx="4125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5"/>
              <p:cNvSpPr/>
              <p:nvPr/>
            </p:nvSpPr>
            <p:spPr>
              <a:xfrm>
                <a:off x="959040" y="869760"/>
                <a:ext cx="3092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6"/>
            <p:cNvGrpSpPr/>
            <p:nvPr/>
          </p:nvGrpSpPr>
          <p:grpSpPr>
            <a:xfrm>
              <a:off x="714600" y="1292040"/>
              <a:ext cx="695880" cy="474120"/>
              <a:chOff x="714600" y="1292040"/>
              <a:chExt cx="695880" cy="474120"/>
            </a:xfrm>
          </p:grpSpPr>
          <p:sp>
            <p:nvSpPr>
              <p:cNvPr id="210" name="Rectangle 7"/>
              <p:cNvSpPr/>
              <p:nvPr/>
            </p:nvSpPr>
            <p:spPr>
              <a:xfrm>
                <a:off x="714600" y="1292040"/>
                <a:ext cx="39744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8"/>
              <p:cNvSpPr/>
              <p:nvPr/>
            </p:nvSpPr>
            <p:spPr>
              <a:xfrm>
                <a:off x="1062720" y="1292040"/>
                <a:ext cx="3477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9"/>
            <p:cNvSpPr/>
            <p:nvPr/>
          </p:nvSpPr>
          <p:spPr>
            <a:xfrm>
              <a:off x="324000" y="1218960"/>
              <a:ext cx="528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922680" y="762120"/>
              <a:ext cx="2952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 flipV="1">
              <a:off x="622080" y="1583640"/>
              <a:ext cx="8197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3"/>
          <p:cNvSpPr/>
          <p:nvPr/>
        </p:nvSpPr>
        <p:spPr>
          <a:xfrm>
            <a:off x="990720" y="2819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887120" y="67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质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124080" y="838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</a:rPr>
              <a:t>（合作探究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4403880" y="205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279440" y="3044880"/>
            <a:ext cx="603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609480" y="3124080"/>
            <a:ext cx="74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黑体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 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你觉得文中还有哪些句子有不明白的地方吗？ 提出来，说不定我们能帮助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WordArt 19"/>
          <p:cNvSpPr txBox="1"/>
          <p:nvPr/>
        </p:nvSpPr>
        <p:spPr>
          <a:xfrm>
            <a:off x="4724280" y="1981080"/>
            <a:ext cx="320040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想一想 帮一帮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"/>
                            </p:stCondLst>
                            <p:childTnLst>
                              <p:par>
                                <p:cTn id="5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19320" y="685800"/>
            <a:ext cx="693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课外延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79280" y="762120"/>
            <a:ext cx="8758080" cy="1052280"/>
            <a:chOff x="179280" y="762120"/>
            <a:chExt cx="8758080" cy="1052280"/>
          </a:xfrm>
        </p:grpSpPr>
        <p:grpSp>
          <p:nvGrpSpPr>
            <p:cNvPr id="225" name="Group 4"/>
            <p:cNvGrpSpPr/>
            <p:nvPr/>
          </p:nvGrpSpPr>
          <p:grpSpPr>
            <a:xfrm>
              <a:off x="461520" y="869760"/>
              <a:ext cx="691200" cy="474120"/>
              <a:chOff x="461520" y="869760"/>
              <a:chExt cx="691200" cy="474120"/>
            </a:xfrm>
          </p:grpSpPr>
          <p:sp>
            <p:nvSpPr>
              <p:cNvPr id="226" name="Rectangle 5"/>
              <p:cNvSpPr/>
              <p:nvPr/>
            </p:nvSpPr>
            <p:spPr>
              <a:xfrm>
                <a:off x="461520" y="869760"/>
                <a:ext cx="4251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6"/>
              <p:cNvSpPr/>
              <p:nvPr/>
            </p:nvSpPr>
            <p:spPr>
              <a:xfrm>
                <a:off x="833760" y="869760"/>
                <a:ext cx="3189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"/>
            <p:cNvGrpSpPr/>
            <p:nvPr/>
          </p:nvGrpSpPr>
          <p:grpSpPr>
            <a:xfrm>
              <a:off x="581760" y="1292040"/>
              <a:ext cx="716760" cy="474120"/>
              <a:chOff x="581760" y="1292040"/>
              <a:chExt cx="716760" cy="474120"/>
            </a:xfrm>
          </p:grpSpPr>
          <p:sp>
            <p:nvSpPr>
              <p:cNvPr id="229" name="Rectangle 8"/>
              <p:cNvSpPr/>
              <p:nvPr/>
            </p:nvSpPr>
            <p:spPr>
              <a:xfrm>
                <a:off x="581760" y="1292040"/>
                <a:ext cx="4096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9"/>
              <p:cNvSpPr/>
              <p:nvPr/>
            </p:nvSpPr>
            <p:spPr>
              <a:xfrm>
                <a:off x="940320" y="1292040"/>
                <a:ext cx="35820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Rectangle 10"/>
            <p:cNvSpPr/>
            <p:nvPr/>
          </p:nvSpPr>
          <p:spPr>
            <a:xfrm>
              <a:off x="179280" y="1218960"/>
              <a:ext cx="5446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796320" y="762120"/>
              <a:ext cx="3060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 flipV="1">
              <a:off x="486360" y="1583640"/>
              <a:ext cx="845100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13"/>
          <p:cNvSpPr/>
          <p:nvPr/>
        </p:nvSpPr>
        <p:spPr>
          <a:xfrm>
            <a:off x="3886200" y="8380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</a:rPr>
              <a:t>（合作探究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032280" y="479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15"/>
          <p:cNvSpPr txBox="1"/>
          <p:nvPr/>
        </p:nvSpPr>
        <p:spPr>
          <a:xfrm>
            <a:off x="4495680" y="2057400"/>
            <a:ext cx="3124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行楷"/>
              </a:rPr>
              <a:t>请你想一想</a:t>
            </a:r>
            <a:endParaRPr b="1" lang="en-US" sz="6600" spc="-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行楷"/>
              <a:ea typeface="华文行楷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90720" y="327672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黑体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 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除了本文外，你还知道哪些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关写声音的文段和诗句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1"/>
                            </p:stCondLst>
                            <p:childTnLst>
                              <p:par>
                                <p:cTn id="5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拓展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体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79280" y="762120"/>
            <a:ext cx="8640360" cy="1052280"/>
            <a:chOff x="179280" y="762120"/>
            <a:chExt cx="8640360" cy="1052280"/>
          </a:xfrm>
        </p:grpSpPr>
        <p:grpSp>
          <p:nvGrpSpPr>
            <p:cNvPr id="240" name="Group 4"/>
            <p:cNvGrpSpPr/>
            <p:nvPr/>
          </p:nvGrpSpPr>
          <p:grpSpPr>
            <a:xfrm>
              <a:off x="457920" y="869760"/>
              <a:ext cx="681840" cy="474120"/>
              <a:chOff x="457920" y="869760"/>
              <a:chExt cx="681840" cy="4741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57920" y="869760"/>
                <a:ext cx="419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6"/>
              <p:cNvSpPr/>
              <p:nvPr/>
            </p:nvSpPr>
            <p:spPr>
              <a:xfrm>
                <a:off x="825120" y="869760"/>
                <a:ext cx="314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7"/>
            <p:cNvGrpSpPr/>
            <p:nvPr/>
          </p:nvGrpSpPr>
          <p:grpSpPr>
            <a:xfrm>
              <a:off x="576360" y="1292040"/>
              <a:ext cx="707400" cy="474120"/>
              <a:chOff x="576360" y="1292040"/>
              <a:chExt cx="707400" cy="474120"/>
            </a:xfrm>
          </p:grpSpPr>
          <p:sp>
            <p:nvSpPr>
              <p:cNvPr id="244" name="Rectangle 8"/>
              <p:cNvSpPr/>
              <p:nvPr/>
            </p:nvSpPr>
            <p:spPr>
              <a:xfrm>
                <a:off x="576360" y="1292040"/>
                <a:ext cx="4042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9"/>
              <p:cNvSpPr/>
              <p:nvPr/>
            </p:nvSpPr>
            <p:spPr>
              <a:xfrm>
                <a:off x="930240" y="1292040"/>
                <a:ext cx="3535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Rectangle 10"/>
            <p:cNvSpPr/>
            <p:nvPr/>
          </p:nvSpPr>
          <p:spPr>
            <a:xfrm>
              <a:off x="179280" y="1218960"/>
              <a:ext cx="537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788040" y="7621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 flipV="1">
              <a:off x="482400" y="1583640"/>
              <a:ext cx="833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Rectangle 13"/>
          <p:cNvSpPr/>
          <p:nvPr/>
        </p:nvSpPr>
        <p:spPr>
          <a:xfrm>
            <a:off x="685800" y="1981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1066680" y="2743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15"/>
          <p:cNvSpPr txBox="1"/>
          <p:nvPr/>
        </p:nvSpPr>
        <p:spPr>
          <a:xfrm>
            <a:off x="1258920" y="1916280"/>
            <a:ext cx="460836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声音中心的世界</a:t>
            </a:r>
            <a:endParaRPr b="1" lang="en-US" sz="6600" spc="-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826920" y="306864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006600"/>
                </a:solidFill>
                <a:latin typeface="Tahoma"/>
                <a:ea typeface="华文行楷"/>
              </a:rPr>
              <a:t>从现在开始，请你用心聆听一段音乐，并发挥你丰富的想象，用语言讲出你心中的画面</a:t>
            </a:r>
            <a:r>
              <a:rPr b="1" lang="zh-CN" sz="4800" spc="-1" strike="noStrike">
                <a:solidFill>
                  <a:srgbClr val="006600"/>
                </a:solidFill>
                <a:latin typeface="Tahoma"/>
                <a:ea typeface="华文行楷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7" descr="小姑娘与月亮（动画）"/>
          <p:cNvPicPr/>
          <p:nvPr/>
        </p:nvPicPr>
        <p:blipFill>
          <a:blip r:embed="rId2"/>
          <a:stretch/>
        </p:blipFill>
        <p:spPr>
          <a:xfrm>
            <a:off x="7380360" y="5229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mei-1"/>
          <p:cNvPicPr/>
          <p:nvPr/>
        </p:nvPicPr>
        <p:blipFill>
          <a:blip r:embed="rId2"/>
          <a:stretch/>
        </p:blipFill>
        <p:spPr>
          <a:xfrm>
            <a:off x="1692360" y="1557360"/>
            <a:ext cx="5688000" cy="3781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04920" y="765000"/>
            <a:ext cx="85341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用心倾听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                        </a:t>
            </a: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用心感受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-208440" y="981000"/>
            <a:ext cx="182628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隶书"/>
                <a:ea typeface="隶书"/>
              </a:rPr>
              <a:t>用心听</a:t>
            </a:r>
            <a:r>
              <a:rPr b="1" lang="en-US" sz="5400" spc="-1" strike="noStrike">
                <a:solidFill>
                  <a:srgbClr val="00ffff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ffff"/>
                </a:solidFill>
                <a:latin typeface="隶书"/>
                <a:ea typeface="隶书"/>
              </a:rPr>
              <a:t>用心想象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Object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879640" y="911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79160" y="67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隶书"/>
              </a:rPr>
              <a:t>课外作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68360" y="162864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．模仿课文前三段的写法，写一组排比句，描摹细微的声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．听一首喜爱的乐曲，把它编成一个故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Tahoma"/>
              </a:rPr>
              <a:t>（提示：由乐声得到启发，展开联想和想象，写成一段有较强抒情色彩的文字。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UF2004111824311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395280" y="2637000"/>
            <a:ext cx="82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把心放在哪里，哪里就会开花。用心去听，去看，去表达，让美丽的世界在我心中，相信你一定会做到的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3564000" y="155736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4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寄语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"/>
                            </p:stCondLst>
                            <p:childTnLst>
                              <p:par>
                                <p:cTn id="5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UF2004111821012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886360"/>
          </a:xfrm>
          <a:prstGeom prst="rect">
            <a:avLst/>
          </a:prstGeom>
          <a:ln w="0">
            <a:noFill/>
          </a:ln>
        </p:spPr>
      </p:pic>
      <p:sp>
        <p:nvSpPr>
          <p:cNvPr id="271" name="WordArt 5"/>
          <p:cNvSpPr txBox="1"/>
          <p:nvPr/>
        </p:nvSpPr>
        <p:spPr>
          <a:xfrm rot="5400000">
            <a:off x="-1080" y="2529360"/>
            <a:ext cx="337032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送你一首小诗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987640" y="549360"/>
            <a:ext cx="56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夏天的飞鸟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到我窗前唱歌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又飞回去了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秋天的黄叶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他们没有什么可唱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只叹息一声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落在那里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现在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这小小的别离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让我们心头的那只小鸟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有了吟唱不完的歌儿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泰戈尔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鸟集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2124000" y="2349360"/>
            <a:ext cx="4411800" cy="26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4000" spc="-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24B-68EB-4DFB-B43E-E0EFB6A4B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848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通过学习，能认识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能够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懂得平时要注意去关注身边的点点滴滴，去倾听身边的一切声音，从而更加热爱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82692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梳               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拂               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狂               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拨               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292720" y="18414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lü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93800" y="184140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sh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989440" y="18414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梳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43640" y="18414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掠过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835280" y="2849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f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89440" y="2849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吹拂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4836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443640" y="28494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呼啸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148360" y="3860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u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547640" y="386064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ku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133800" y="386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狂风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443640" y="386064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卷起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908000" y="4869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2720" y="48657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059280" y="486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拨弄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443640" y="4865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麻雀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8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啃               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寂               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饼               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92720" y="1773360"/>
            <a:ext cx="13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t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92360" y="177336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kě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989440" y="1773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啃咬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300720" y="17733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梯田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908000" y="2849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989440" y="2849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寂静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221440" y="28494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300720" y="27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闲暇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21964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ē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61928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ǐ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989440" y="386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饼干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372360" y="386064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水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619280" y="486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2987640" y="486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奇妙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2701800" y="2060640"/>
            <a:ext cx="1224000" cy="1224000"/>
            <a:chOff x="2701800" y="2060640"/>
            <a:chExt cx="1224000" cy="1224000"/>
          </a:xfrm>
        </p:grpSpPr>
        <p:sp>
          <p:nvSpPr>
            <p:cNvPr id="96" name="Rectangle 4"/>
            <p:cNvSpPr/>
            <p:nvPr/>
          </p:nvSpPr>
          <p:spPr>
            <a:xfrm>
              <a:off x="2701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H="1">
              <a:off x="2701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3314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3925800" y="2060640"/>
            <a:ext cx="1224000" cy="1224000"/>
            <a:chOff x="3925800" y="2060640"/>
            <a:chExt cx="1224000" cy="1224000"/>
          </a:xfrm>
        </p:grpSpPr>
        <p:sp>
          <p:nvSpPr>
            <p:cNvPr id="100" name="Rectangle 8"/>
            <p:cNvSpPr/>
            <p:nvPr/>
          </p:nvSpPr>
          <p:spPr>
            <a:xfrm>
              <a:off x="3925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 flipH="1">
              <a:off x="3925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>
              <a:off x="4538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5149800" y="2060640"/>
            <a:ext cx="1224000" cy="1224000"/>
            <a:chOff x="5149800" y="2060640"/>
            <a:chExt cx="1224000" cy="1224000"/>
          </a:xfrm>
        </p:grpSpPr>
        <p:sp>
          <p:nvSpPr>
            <p:cNvPr id="104" name="Rectangle 12"/>
            <p:cNvSpPr/>
            <p:nvPr/>
          </p:nvSpPr>
          <p:spPr>
            <a:xfrm>
              <a:off x="5149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5149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5762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1476360" y="2060640"/>
            <a:ext cx="1224000" cy="1224000"/>
            <a:chOff x="1476360" y="2060640"/>
            <a:chExt cx="1224000" cy="1224000"/>
          </a:xfrm>
        </p:grpSpPr>
        <p:sp>
          <p:nvSpPr>
            <p:cNvPr id="108" name="Rectangle 16"/>
            <p:cNvSpPr/>
            <p:nvPr/>
          </p:nvSpPr>
          <p:spPr>
            <a:xfrm>
              <a:off x="147636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 flipH="1">
              <a:off x="147636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>
              <a:off x="208872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1"/>
          <p:cNvGrpSpPr/>
          <p:nvPr/>
        </p:nvGrpSpPr>
        <p:grpSpPr>
          <a:xfrm>
            <a:off x="2700360" y="3716280"/>
            <a:ext cx="1224000" cy="1224000"/>
            <a:chOff x="2700360" y="3716280"/>
            <a:chExt cx="1224000" cy="1224000"/>
          </a:xfrm>
        </p:grpSpPr>
        <p:sp>
          <p:nvSpPr>
            <p:cNvPr id="112" name="Rectangle 42"/>
            <p:cNvSpPr/>
            <p:nvPr/>
          </p:nvSpPr>
          <p:spPr>
            <a:xfrm>
              <a:off x="2700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3"/>
            <p:cNvSpPr/>
            <p:nvPr/>
          </p:nvSpPr>
          <p:spPr>
            <a:xfrm flipH="1">
              <a:off x="2700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44"/>
            <p:cNvSpPr/>
            <p:nvPr/>
          </p:nvSpPr>
          <p:spPr>
            <a:xfrm>
              <a:off x="3312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45"/>
          <p:cNvGrpSpPr/>
          <p:nvPr/>
        </p:nvGrpSpPr>
        <p:grpSpPr>
          <a:xfrm>
            <a:off x="1474920" y="3716280"/>
            <a:ext cx="1224000" cy="1224000"/>
            <a:chOff x="1474920" y="3716280"/>
            <a:chExt cx="1224000" cy="1224000"/>
          </a:xfrm>
        </p:grpSpPr>
        <p:sp>
          <p:nvSpPr>
            <p:cNvPr id="116" name="Rectangle 46"/>
            <p:cNvSpPr/>
            <p:nvPr/>
          </p:nvSpPr>
          <p:spPr>
            <a:xfrm>
              <a:off x="14749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7"/>
            <p:cNvSpPr/>
            <p:nvPr/>
          </p:nvSpPr>
          <p:spPr>
            <a:xfrm flipH="1">
              <a:off x="14749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8"/>
            <p:cNvSpPr/>
            <p:nvPr/>
          </p:nvSpPr>
          <p:spPr>
            <a:xfrm>
              <a:off x="208728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49"/>
          <p:cNvGrpSpPr/>
          <p:nvPr/>
        </p:nvGrpSpPr>
        <p:grpSpPr>
          <a:xfrm>
            <a:off x="5148360" y="3716280"/>
            <a:ext cx="1224000" cy="1224000"/>
            <a:chOff x="5148360" y="3716280"/>
            <a:chExt cx="1224000" cy="1224000"/>
          </a:xfrm>
        </p:grpSpPr>
        <p:sp>
          <p:nvSpPr>
            <p:cNvPr id="120" name="Rectangle 50"/>
            <p:cNvSpPr/>
            <p:nvPr/>
          </p:nvSpPr>
          <p:spPr>
            <a:xfrm>
              <a:off x="5148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51"/>
            <p:cNvSpPr/>
            <p:nvPr/>
          </p:nvSpPr>
          <p:spPr>
            <a:xfrm flipH="1">
              <a:off x="5148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52"/>
            <p:cNvSpPr/>
            <p:nvPr/>
          </p:nvSpPr>
          <p:spPr>
            <a:xfrm>
              <a:off x="5760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3"/>
          <p:cNvGrpSpPr/>
          <p:nvPr/>
        </p:nvGrpSpPr>
        <p:grpSpPr>
          <a:xfrm>
            <a:off x="3924360" y="3716280"/>
            <a:ext cx="1224000" cy="1224000"/>
            <a:chOff x="3924360" y="3716280"/>
            <a:chExt cx="1224000" cy="1224000"/>
          </a:xfrm>
        </p:grpSpPr>
        <p:sp>
          <p:nvSpPr>
            <p:cNvPr id="124" name="Rectangle 54"/>
            <p:cNvSpPr/>
            <p:nvPr/>
          </p:nvSpPr>
          <p:spPr>
            <a:xfrm>
              <a:off x="3924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55"/>
            <p:cNvSpPr/>
            <p:nvPr/>
          </p:nvSpPr>
          <p:spPr>
            <a:xfrm flipH="1">
              <a:off x="3924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56"/>
            <p:cNvSpPr/>
            <p:nvPr/>
          </p:nvSpPr>
          <p:spPr>
            <a:xfrm>
              <a:off x="4536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63"/>
          <p:cNvGrpSpPr/>
          <p:nvPr/>
        </p:nvGrpSpPr>
        <p:grpSpPr>
          <a:xfrm>
            <a:off x="6372360" y="3716280"/>
            <a:ext cx="1224000" cy="1224000"/>
            <a:chOff x="6372360" y="3716280"/>
            <a:chExt cx="1224000" cy="1224000"/>
          </a:xfrm>
        </p:grpSpPr>
        <p:sp>
          <p:nvSpPr>
            <p:cNvPr id="128" name="Rectangle 64"/>
            <p:cNvSpPr/>
            <p:nvPr/>
          </p:nvSpPr>
          <p:spPr>
            <a:xfrm>
              <a:off x="6372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65"/>
            <p:cNvSpPr/>
            <p:nvPr/>
          </p:nvSpPr>
          <p:spPr>
            <a:xfrm flipH="1">
              <a:off x="6372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66"/>
            <p:cNvSpPr/>
            <p:nvPr/>
          </p:nvSpPr>
          <p:spPr>
            <a:xfrm>
              <a:off x="6984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61"/>
          <p:cNvSpPr/>
          <p:nvPr/>
        </p:nvSpPr>
        <p:spPr>
          <a:xfrm>
            <a:off x="1476360" y="3716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脆渐饼杯妙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67"/>
          <p:cNvGrpSpPr/>
          <p:nvPr/>
        </p:nvGrpSpPr>
        <p:grpSpPr>
          <a:xfrm>
            <a:off x="6373800" y="2060640"/>
            <a:ext cx="1224000" cy="1224000"/>
            <a:chOff x="6373800" y="2060640"/>
            <a:chExt cx="1224000" cy="1224000"/>
          </a:xfrm>
        </p:grpSpPr>
        <p:sp>
          <p:nvSpPr>
            <p:cNvPr id="133" name="Rectangle 68"/>
            <p:cNvSpPr/>
            <p:nvPr/>
          </p:nvSpPr>
          <p:spPr>
            <a:xfrm>
              <a:off x="6373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9"/>
            <p:cNvSpPr/>
            <p:nvPr/>
          </p:nvSpPr>
          <p:spPr>
            <a:xfrm flipH="1">
              <a:off x="6373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0"/>
            <p:cNvSpPr/>
            <p:nvPr/>
          </p:nvSpPr>
          <p:spPr>
            <a:xfrm>
              <a:off x="6986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1476360" y="206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雪狂卷拨麻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9" descr="flower14"/>
          <p:cNvPicPr/>
          <p:nvPr/>
        </p:nvPicPr>
        <p:blipFill>
          <a:blip r:embed="rId2">
            <a:lum bright="24000"/>
          </a:blip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课题导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179280" y="762120"/>
            <a:ext cx="8496360" cy="1052280"/>
            <a:chOff x="179280" y="762120"/>
            <a:chExt cx="8496360" cy="1052280"/>
          </a:xfrm>
        </p:grpSpPr>
        <p:grpSp>
          <p:nvGrpSpPr>
            <p:cNvPr id="141" name="Group 4"/>
            <p:cNvGrpSpPr/>
            <p:nvPr/>
          </p:nvGrpSpPr>
          <p:grpSpPr>
            <a:xfrm>
              <a:off x="453240" y="869760"/>
              <a:ext cx="670320" cy="474120"/>
              <a:chOff x="453240" y="869760"/>
              <a:chExt cx="670320" cy="474120"/>
            </a:xfrm>
          </p:grpSpPr>
          <p:sp>
            <p:nvSpPr>
              <p:cNvPr id="142" name="Rectangle 5"/>
              <p:cNvSpPr/>
              <p:nvPr/>
            </p:nvSpPr>
            <p:spPr>
              <a:xfrm>
                <a:off x="453240" y="869760"/>
                <a:ext cx="4125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814320" y="869760"/>
                <a:ext cx="3092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7"/>
            <p:cNvGrpSpPr/>
            <p:nvPr/>
          </p:nvGrpSpPr>
          <p:grpSpPr>
            <a:xfrm>
              <a:off x="569880" y="1292040"/>
              <a:ext cx="695880" cy="474120"/>
              <a:chOff x="569880" y="1292040"/>
              <a:chExt cx="695880" cy="474120"/>
            </a:xfrm>
          </p:grpSpPr>
          <p:sp>
            <p:nvSpPr>
              <p:cNvPr id="145" name="Rectangle 8"/>
              <p:cNvSpPr/>
              <p:nvPr/>
            </p:nvSpPr>
            <p:spPr>
              <a:xfrm>
                <a:off x="569880" y="1292040"/>
                <a:ext cx="39744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9"/>
              <p:cNvSpPr/>
              <p:nvPr/>
            </p:nvSpPr>
            <p:spPr>
              <a:xfrm>
                <a:off x="918000" y="1292040"/>
                <a:ext cx="3477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10"/>
            <p:cNvSpPr/>
            <p:nvPr/>
          </p:nvSpPr>
          <p:spPr>
            <a:xfrm>
              <a:off x="179280" y="1218960"/>
              <a:ext cx="528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777960" y="762120"/>
              <a:ext cx="2952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V="1">
              <a:off x="477360" y="1583640"/>
              <a:ext cx="819828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685800" y="198108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684360" y="3068640"/>
            <a:ext cx="79246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0bf5"/>
                </a:solidFill>
                <a:latin typeface="黑体"/>
              </a:rPr>
              <a:t> ★</a:t>
            </a:r>
            <a:r>
              <a:rPr b="1" lang="zh-CN" sz="4000" spc="-1" strike="noStrike">
                <a:solidFill>
                  <a:srgbClr val="270bf5"/>
                </a:solidFill>
                <a:latin typeface="黑体"/>
              </a:rPr>
              <a:t>请你用心去听一段音乐，试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0bf5"/>
                </a:solidFill>
                <a:latin typeface="黑体"/>
              </a:rPr>
              <a:t>看，你能听到多少种声音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16"/>
          <p:cNvSpPr txBox="1"/>
          <p:nvPr/>
        </p:nvSpPr>
        <p:spPr>
          <a:xfrm>
            <a:off x="1763640" y="1620720"/>
            <a:ext cx="3886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倾听世界的声音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95280" y="4724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华文行楷"/>
              </a:rPr>
              <a:t>鼓声、笛声、鸟声、蟋蟀声、鹅声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华文行楷"/>
              </a:rPr>
              <a:t>蛙声、流水声、风声、雷声、雨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87280" y="5516640"/>
            <a:ext cx="748836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听过柳树梳头的声音吗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17T14:54:53Z</dcterms:modified>
  <cp:revision>8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