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6EB-91D0-4A66-AA9A-889A595C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05A-6989-45B8-A75F-0ADD1F1B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A85-FE4A-4298-A8E4-631EBD4A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6C9-9853-4C84-A8AB-C01592BA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32CF-422C-4D8A-8325-2D72D111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D3E-2BD3-4296-8220-27DAA645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927-091C-4C55-A96D-2369EB4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A21D-4A3C-4411-AB10-E1ED309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E187-837F-415E-9F8A-DE2A501D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9A6D-382C-4FEB-BBF1-DACA6FEF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FAE6-B9C7-4751-8B8D-033C9DD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FC3-F11D-4A5E-9C22-EBC72E5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550-DBF9-42BF-9D6C-B6AB94A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D7E-39B7-4326-A6BD-7C438320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4793-5C10-4CE3-9D65-9421249F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C8C0-485B-4D96-9CF8-E6ABF92D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78D0-8C07-42E8-83CD-921079DB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5C2-3045-46CB-9BA1-E7E9C966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862-1CE3-4184-AB3B-62AA2740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84C-8B3E-4F13-AA70-97CA8C03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986-1D53-4ED2-9782-A52A11C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DDD-DD11-4175-B7DE-4805430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0CC-ABC1-4044-B261-99CB4D3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01F-D217-4F26-AE90-AFD8932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B62-203C-465C-A0FB-AE334BCBF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ABE-9BBB-4C9D-BE18-08EF3C11B1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祁黄羊"/>
          <p:cNvPicPr/>
          <p:nvPr/>
        </p:nvPicPr>
        <p:blipFill>
          <a:blip r:embed="rId1"/>
          <a:srcRect l="0" t="0" r="0" b="12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835280" y="198432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630520" y="21337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祁黄羊教学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82800" y="1125360"/>
            <a:ext cx="7334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宋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因为年老，所以主动请求辞职，他时刻惦挂的是国家的安危，一心为国、一心为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Xc803006"/>
          <p:cNvPicPr/>
          <p:nvPr/>
        </p:nvPicPr>
        <p:blipFill>
          <a:blip r:embed="rId1"/>
          <a:stretch/>
        </p:blipFill>
        <p:spPr>
          <a:xfrm>
            <a:off x="5435640" y="4149720"/>
            <a:ext cx="2681280" cy="1758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活动二：再识祁黄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默读课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然段。思考：“外举不避仇” “内举不避亲”各说的是怎么一回事？解狐和祁午听到祁黄羊的举荐，他们会怎么想，怎么说，怎么做？想一想，在有关自然段旁写下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组内把相关内容读一读，互相说说自己的体会，试着分角色演一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全班展示小组学习成果： 读出相关内容，推选一个小组分角色表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探究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外举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课文哪几个自然段写了“外举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3——7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分角色朗读课文，思考：“外举不避仇”说的是怎么一回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1640" y="836640"/>
            <a:ext cx="756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悼公说 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中军尉职责重大，决定人选的事关系着国家的兴亡。你在军中多年，心目中一定有合适的人选。你觉得谁能替代你呢？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87280" y="836640"/>
            <a:ext cx="7272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我看解狐就很不错。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想了想，郑重地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悼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深感意外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，说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解狐不是杀你父亲的仇人吗？你怎么会举荐他呢？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42920" y="1268280"/>
            <a:ext cx="720108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主公问我谁可以担此重任，并没有问他是不是我的仇人哪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!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好吧，我相信你，就照你的意见办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!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想像对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据说，解狐在听到祁黄羊举荐他的时候，与晋悼公的使者也说了这样的话。请你想像象一下，解狐与使者的对话，写一段人物对话。其中解狐有一句是这样的：“祁黄羊真是一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我不如他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学生写对话，然后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Xc803008"/>
          <p:cNvPicPr/>
          <p:nvPr/>
        </p:nvPicPr>
        <p:blipFill>
          <a:blip r:embed="rId1"/>
          <a:stretch/>
        </p:blipFill>
        <p:spPr>
          <a:xfrm>
            <a:off x="6156360" y="4797360"/>
            <a:ext cx="1944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971640" y="1773360"/>
            <a:ext cx="70866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宋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黑体"/>
              </a:rPr>
              <a:t>请同学们小组分工，合作演好祁黄羊与悼公的这段对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838080" y="1419120"/>
            <a:ext cx="754380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外举不避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Verdana"/>
                <a:ea typeface="黑体"/>
              </a:rPr>
              <a:t>     </a:t>
            </a:r>
            <a:r>
              <a:rPr b="0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就是推荐外人不回避与自己结过仇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活动一：初读课文，学习生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自由读一读课文，画出生字词及不理解的词语。查工具书或联系上下文理解练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词语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组内轮读课文，交流对词语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展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探究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内举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课文哪几个自然段写了“内举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8——11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自读课文，思考：“内举不避亲”说的又是怎么一回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16000" y="836640"/>
            <a:ext cx="7272360" cy="29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看来只有祁午能担当此任了。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想了想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郑重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地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悼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十分惊讶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祁午不是你的儿子吗？你举荐他，难道不怕人家说你偏心眼儿？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066680" y="981000"/>
            <a:ext cx="716292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如果祁午知道祁黄羊举荐他，会怎么想，怎么说，怎么做？嫉恨祁黄羊的小人又会说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想好之后在小组内相互说说看。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925560" y="1619280"/>
            <a:ext cx="739152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内举不避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Verdana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就是推荐自己人不回避他是自己的亲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17640" y="1719360"/>
            <a:ext cx="754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Verdana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举荐仇人和亲人，目的都是                ，标准只有一个：        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419640" y="263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为了国家的利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788000" y="335772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是才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990720" y="1844640"/>
            <a:ext cx="746748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祁黄羊为什么不先举荐自己的儿子祁午来接替他呢？小组内讨论讨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990720" y="1413000"/>
            <a:ext cx="732636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祁黄羊从大局出发，考虑到的是为国家出力的能人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在他的心中，解狐比祁午更胜一筹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更适合担任中军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3"/>
          <p:cNvSpPr txBox="1"/>
          <p:nvPr/>
        </p:nvSpPr>
        <p:spPr>
          <a:xfrm>
            <a:off x="1600200" y="1143000"/>
            <a:ext cx="14000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小练笔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3" name="Picture 4" descr="笔筒"/>
          <p:cNvPicPr/>
          <p:nvPr/>
        </p:nvPicPr>
        <p:blipFill>
          <a:blip r:embed="rId3"/>
          <a:stretch/>
        </p:blipFill>
        <p:spPr>
          <a:xfrm>
            <a:off x="304920" y="838080"/>
            <a:ext cx="1041120" cy="1086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33520" y="2362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09480" y="312408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悼公称赞祁黄羊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外举不避仇，内举不避亲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是指祁黄羊举荐了　　　解狐和　　　祁午。从中可以看出祁黄羊做事确实是出于　　　为　　　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5867280" y="41148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66680" y="45720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666880" y="51055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343400" y="5105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019920" y="3581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仇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219320" y="403848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819520" y="4572000"/>
            <a:ext cx="10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公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495680" y="45720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468360" y="17733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课文学到这里，你觉得祁黄羊是个怎样的人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457200" y="11430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说一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7" name="Picture 5" descr="女孩"/>
          <p:cNvPicPr/>
          <p:nvPr/>
        </p:nvPicPr>
        <p:blipFill>
          <a:blip r:embed="rId1"/>
          <a:stretch/>
        </p:blipFill>
        <p:spPr>
          <a:xfrm>
            <a:off x="2068560" y="762120"/>
            <a:ext cx="903240" cy="990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468360" y="3429000"/>
            <a:ext cx="8359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祁黄羊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是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572000" y="5229360"/>
            <a:ext cx="3429000" cy="1066680"/>
          </a:xfrm>
          <a:prstGeom prst="irregularSeal1">
            <a:avLst/>
          </a:prstGeom>
          <a:gradFill rotWithShape="0">
            <a:gsLst>
              <a:gs pos="0">
                <a:srgbClr val="bbe0e3"/>
              </a:gs>
              <a:gs pos="50000">
                <a:srgbClr val="ffcc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朗读全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27280" y="3500280"/>
            <a:ext cx="391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公无私　一身正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心为国　光明磊落 正大光明　公私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838080" y="2209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祁黄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故事讲给小朋友听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35812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搜集“出以公心”的故事，举行一次故事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1600200" y="1324080"/>
            <a:ext cx="186696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课外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4" name="Picture 6" descr="书"/>
          <p:cNvPicPr/>
          <p:nvPr/>
        </p:nvPicPr>
        <p:blipFill>
          <a:blip r:embed="rId1"/>
          <a:stretch/>
        </p:blipFill>
        <p:spPr>
          <a:xfrm>
            <a:off x="533520" y="990720"/>
            <a:ext cx="811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47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霸     伐     晋     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荐     召     慎     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祁     尉     解     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835280" y="5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276720" y="5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716360" y="5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j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ì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15636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619280" y="2205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j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132000" y="2205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643280" y="2133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300720" y="21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83528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34800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71636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30072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26"/>
          <p:cNvPicPr/>
          <p:nvPr/>
        </p:nvPicPr>
        <p:blipFill>
          <a:blip r:embed="rId1"/>
          <a:stretch/>
        </p:blipFill>
        <p:spPr>
          <a:xfrm>
            <a:off x="5508720" y="5589720"/>
            <a:ext cx="907920" cy="946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7"/>
          <p:cNvSpPr txBox="1"/>
          <p:nvPr/>
        </p:nvSpPr>
        <p:spPr>
          <a:xfrm>
            <a:off x="6659640" y="5950080"/>
            <a:ext cx="18000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读一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检测反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若你是晋国的一名百姓，或是晋国的官员，或是祁府家丁，或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听了祁黄羊的故事，你会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假如我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我会说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26"/>
          <p:cNvPicPr/>
          <p:nvPr/>
        </p:nvPicPr>
        <p:blipFill>
          <a:blip r:embed="rId1"/>
          <a:stretch/>
        </p:blipFill>
        <p:spPr>
          <a:xfrm>
            <a:off x="1066680" y="914400"/>
            <a:ext cx="1114560" cy="11620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666880" y="1447920"/>
            <a:ext cx="19764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读一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2193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推荐　准许　辞职　合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219320" y="387036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接替　慎重　安危　意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读通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悼公立即派使者去召解狐，没想到解狐大病在身，卧床不起，不久就去世了。悼公只好让祁黄羊再举荐一位能接替他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我只是想，朝中的人哪个有军事才能，可以担此重任，我压根儿就没去想他是不是我的仇人或亲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外举不避仇，内举不避亲，你做事如此出以公心，真是难得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活动二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再读课文，理清结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祁黄羊为什么要辞职？他先后向晋悼公举荐了谁？思考这两个问题，试着给课文划分段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因病辞职　   外举解狐，内举祁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第一段：（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—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：祁黄羊因病辞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第二段：（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—1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：祁黄羊两度荐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组内交流以上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展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检测反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用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画出下列词语中带点字的正确读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晋国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ìn  jìng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  落下了毛病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ào luò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统帅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uài suài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 兴亡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īng xìng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狐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è jiè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       慎重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èng shèn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出下列词语的近义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荐（   ）    慎重（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才能（   ）    重任（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温故知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按课文内容填空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    悼公称赞祁黄羊“外举不避仇，内举不避亲“，是指祁黄羊举荐了（  ）解狐和（   ）祁午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活动一：初识祁黄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．自主朗读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～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自然段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用“因为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所以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……”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的句式说说祁黄羊辞职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．小组内互相说一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．全班交流、完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Xc803005"/>
          <p:cNvPicPr/>
          <p:nvPr/>
        </p:nvPicPr>
        <p:blipFill>
          <a:blip r:embed="rId1"/>
          <a:stretch/>
        </p:blipFill>
        <p:spPr>
          <a:xfrm>
            <a:off x="6227640" y="4508640"/>
            <a:ext cx="20574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1:05:38Z</dcterms:created>
  <dc:creator/>
  <dc:description/>
  <cp:keywords>幻灯片之家 http:/www.eeppt.com</cp:keywords>
  <dc:language>en-US</dc:language>
  <cp:lastModifiedBy/>
  <dcterms:modified xsi:type="dcterms:W3CDTF">2015-07-20T06:39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