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615-C7DC-4B5A-98A1-8505A45A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CBC-1387-4CDE-AE62-259DCE5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DFC-8D43-4749-8C2A-19BD815C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B1B-0F86-48CF-9A2F-89DD2414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D68-463E-49AB-97AE-3FD32D4B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8AD-F0B7-424D-9DCA-20543B9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C51-E54E-4526-935D-F9976234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5CF-37E4-48CD-8E3C-B2200E4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1A2-9B37-47CB-8C51-0C41FAC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DD5-A8EC-4B70-A85F-9DF0622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966-0F2A-4B28-A35D-F329298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C80-B5A4-42D3-BE15-F21B74E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D7B1-6C7F-4B72-AA5E-D37FA37A0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插图"/>
          <p:cNvPicPr/>
          <p:nvPr/>
        </p:nvPicPr>
        <p:blipFill>
          <a:blip r:embed="rId2"/>
          <a:stretch/>
        </p:blipFill>
        <p:spPr>
          <a:xfrm>
            <a:off x="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540320" y="1557360"/>
            <a:ext cx="42796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4191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4284720" y="333360"/>
            <a:ext cx="453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（北师大版）六年级语文上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42280" y="1701720"/>
            <a:ext cx="27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穷人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学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258920" y="1773360"/>
            <a:ext cx="60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课文中多处运用了省略号，你知道它们有什么作用吗？跟大家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276720" y="1905120"/>
            <a:ext cx="5029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交流一下：怎样才能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好桑娜忐忑不安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描写和她与渔夫的对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971800" y="5335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6"/>
          <p:cNvGrpSpPr/>
          <p:nvPr/>
        </p:nvGrpSpPr>
        <p:grpSpPr>
          <a:xfrm>
            <a:off x="380880" y="3048120"/>
            <a:ext cx="8077320" cy="642600"/>
            <a:chOff x="380880" y="3048120"/>
            <a:chExt cx="8077320" cy="642600"/>
          </a:xfrm>
        </p:grpSpPr>
        <p:sp>
          <p:nvSpPr>
            <p:cNvPr id="86" name="Text Box 7"/>
            <p:cNvSpPr/>
            <p:nvPr/>
          </p:nvSpPr>
          <p:spPr>
            <a:xfrm>
              <a:off x="38088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桑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731520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渔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7"/>
          <p:cNvGrpSpPr/>
          <p:nvPr/>
        </p:nvGrpSpPr>
        <p:grpSpPr>
          <a:xfrm>
            <a:off x="914400" y="2590920"/>
            <a:ext cx="2666880" cy="1525320"/>
            <a:chOff x="914400" y="2590920"/>
            <a:chExt cx="2666880" cy="1525320"/>
          </a:xfrm>
        </p:grpSpPr>
        <p:sp>
          <p:nvSpPr>
            <p:cNvPr id="89" name="Text Box 9"/>
            <p:cNvSpPr/>
            <p:nvPr/>
          </p:nvSpPr>
          <p:spPr>
            <a:xfrm>
              <a:off x="182880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等待丈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182880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心惊肉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 flipV="1">
              <a:off x="914400" y="3733200"/>
              <a:ext cx="914400" cy="228600"/>
            </a:xfrm>
            <a:custGeom>
              <a:avLst/>
              <a:gdLst>
                <a:gd name="textAreaLeft" fmla="*/ 525600 w 914400"/>
                <a:gd name="textAreaRight" fmla="*/ 771480 w 914400"/>
                <a:gd name="textAreaTop" fmla="*/ 29520 h 228600"/>
                <a:gd name="textAreaBottom" fmla="*/ 979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50" y="0"/>
                  </a:lnTo>
                  <a:lnTo>
                    <a:pt x="15150" y="2899"/>
                  </a:lnTo>
                  <a:lnTo>
                    <a:pt x="12427" y="2899"/>
                  </a:lnTo>
                  <a:cubicBezTo>
                    <a:pt x="5564" y="2899"/>
                    <a:pt x="0" y="7044"/>
                    <a:pt x="0" y="12158"/>
                  </a:cubicBezTo>
                  <a:lnTo>
                    <a:pt x="0" y="21600"/>
                  </a:lnTo>
                  <a:lnTo>
                    <a:pt x="6501" y="21600"/>
                  </a:lnTo>
                  <a:lnTo>
                    <a:pt x="6501" y="12158"/>
                  </a:lnTo>
                  <a:cubicBezTo>
                    <a:pt x="6501" y="10557"/>
                    <a:pt x="9154" y="9259"/>
                    <a:pt x="12427" y="9259"/>
                  </a:cubicBezTo>
                  <a:lnTo>
                    <a:pt x="15150" y="9259"/>
                  </a:lnTo>
                  <a:lnTo>
                    <a:pt x="1515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914400" y="2819520"/>
              <a:ext cx="914400" cy="228600"/>
            </a:xfrm>
            <a:custGeom>
              <a:avLst/>
              <a:gdLst>
                <a:gd name="textAreaLeft" fmla="*/ 525600 w 914400"/>
                <a:gd name="textAreaRight" fmla="*/ 771480 w 914400"/>
                <a:gd name="textAreaTop" fmla="*/ 29880 h 228600"/>
                <a:gd name="textAreaBottom" fmla="*/ 98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28"/>
          <p:cNvGrpSpPr/>
          <p:nvPr/>
        </p:nvGrpSpPr>
        <p:grpSpPr>
          <a:xfrm>
            <a:off x="3429000" y="2590920"/>
            <a:ext cx="2057400" cy="1525320"/>
            <a:chOff x="3429000" y="2590920"/>
            <a:chExt cx="2057400" cy="1525320"/>
          </a:xfrm>
        </p:grpSpPr>
        <p:sp>
          <p:nvSpPr>
            <p:cNvPr id="94" name="Text Box 11"/>
            <p:cNvSpPr/>
            <p:nvPr/>
          </p:nvSpPr>
          <p:spPr>
            <a:xfrm>
              <a:off x="373392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抱回孩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73392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忐忑不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17"/>
            <p:cNvSpPr/>
            <p:nvPr/>
          </p:nvSpPr>
          <p:spPr>
            <a:xfrm>
              <a:off x="3429000" y="28195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>
              <a:off x="3429000" y="381024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5334120" y="2590920"/>
            <a:ext cx="2666880" cy="1525320"/>
            <a:chOff x="5334120" y="2590920"/>
            <a:chExt cx="2666880" cy="1525320"/>
          </a:xfrm>
        </p:grpSpPr>
        <p:sp>
          <p:nvSpPr>
            <p:cNvPr id="99" name="Text Box 13"/>
            <p:cNvSpPr/>
            <p:nvPr/>
          </p:nvSpPr>
          <p:spPr>
            <a:xfrm>
              <a:off x="563904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催促桑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563904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平静下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21"/>
            <p:cNvSpPr/>
            <p:nvPr/>
          </p:nvSpPr>
          <p:spPr>
            <a:xfrm>
              <a:off x="5334120" y="281952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5334120" y="381024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23"/>
            <p:cNvSpPr/>
            <p:nvPr/>
          </p:nvSpPr>
          <p:spPr>
            <a:xfrm flipH="1">
              <a:off x="7239240" y="2743200"/>
              <a:ext cx="761760" cy="304920"/>
            </a:xfrm>
            <a:custGeom>
              <a:avLst/>
              <a:gdLst>
                <a:gd name="textAreaLeft" fmla="*/ 438480 w 761760"/>
                <a:gd name="textAreaRight" fmla="*/ 643320 w 761760"/>
                <a:gd name="textAreaTop" fmla="*/ 41040 h 304920"/>
                <a:gd name="textAreaBottom" fmla="*/ 1303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 flipH="1" flipV="1">
              <a:off x="7239240" y="3733200"/>
              <a:ext cx="761760" cy="228600"/>
            </a:xfrm>
            <a:custGeom>
              <a:avLst/>
              <a:gdLst>
                <a:gd name="textAreaLeft" fmla="*/ 438480 w 761760"/>
                <a:gd name="textAreaRight" fmla="*/ 643320 w 761760"/>
                <a:gd name="textAreaTop" fmla="*/ 29520 h 228600"/>
                <a:gd name="textAreaBottom" fmla="*/ 979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25"/>
          <p:cNvSpPr/>
          <p:nvPr/>
        </p:nvSpPr>
        <p:spPr>
          <a:xfrm>
            <a:off x="2209680" y="489096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善良   乐于助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9818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ff"/>
                </a:solidFill>
                <a:latin typeface="Times New Roman"/>
              </a:rPr>
              <a:t>       </a:t>
            </a:r>
            <a:r>
              <a:rPr b="1" lang="zh-CN" sz="8800" spc="-1" strike="noStrike">
                <a:solidFill>
                  <a:srgbClr val="cc00ff"/>
                </a:solidFill>
                <a:latin typeface="Times New Roman"/>
              </a:rPr>
              <a:t>再    见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托尔斯泰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-7632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943600" y="1111320"/>
            <a:ext cx="29718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俄国著名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629400" y="281952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629400" y="423540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穷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721-3746-40F1-A55F-9587F8118D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08000" y="1052640"/>
            <a:ext cx="611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文写了几个穷人？写了穷人的什么事？你感觉这些穷人这么样？你还读懂了什么？本文是按什么顺序叙述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9640" y="765000"/>
            <a:ext cx="783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她的心跳得很厉害，自己也不知道为什么要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样做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但是觉得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非这样做不可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55640" y="4581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9640" y="765000"/>
            <a:ext cx="783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她忐忑不安地想：“他会说什么呢？这是闹着玩的吗？自己的五个孩子已经够他受的了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是他来啦？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，还没来！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什么把他们抱过来啊？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他会揍我的！那也活该，我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作自受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嗯，揍我一顿也好！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600200" y="4508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9640" y="765000"/>
            <a:ext cx="806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两个人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沉默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了一阵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桑娜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沉默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了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55640" y="4581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76500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渔夫皱起眉，他的脸变得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严肃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忧虑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“嗯，是个问题！”他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搔搔后脑勺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说，“嗯，你看怎么办？得把他们抱来，同死人呆在一起怎么行！哦，我们，我们总能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熬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过去的！快去！别等他们醒来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55640" y="4581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9640" y="765000"/>
            <a:ext cx="820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但桑娜坐着一动不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怎么啦？不愿意吗？你怎么啦，桑娜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瞧，他们在这里啦。”桑娜拉开了帐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55640" y="4581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14:51Z</dcterms:created>
  <dc:creator/>
  <dc:description/>
  <cp:keywords>幻灯片之家 http:/www.eeppt.com</cp:keywords>
  <dc:language>en-US</dc:language>
  <cp:lastModifiedBy/>
  <dcterms:modified xsi:type="dcterms:W3CDTF">2015-07-17T14:57:4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