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68C-4C7F-43A4-82CD-6E932BA9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E09-99E1-4F96-ACA1-EBA433F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DDB-E88D-4297-86C4-E2BE0767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012-C50F-47F0-995B-3BACCE8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14E-7C73-49DF-A980-0F2D7A6F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F42-3F9B-4C8C-AD13-18BDE1E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8AF-B593-4E60-AE75-4195AD68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B1A-9610-4D33-BF7F-D672BCCA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B78-7E0D-47AF-BF8E-3D36A35B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C46-66C0-40E2-A478-B4473FF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212-E0E4-466E-A859-C39BE64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622-94F6-4CF7-BBD5-7B90EDF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D25C-CCED-4366-800B-6FDE6C2532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A84-AFCB-43D1-BA29-67B52A5C0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-47520"/>
            <a:ext cx="9086760" cy="69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440" y="65232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6680" y="-475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480" y="14400"/>
            <a:ext cx="90532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9123480" cy="681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0" y="11160"/>
            <a:ext cx="91090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240" y="1440"/>
            <a:ext cx="909792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9AB-646A-495A-AB53-E6A8D044B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2:10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