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type.wav" ContentType="audio/x-wav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6689-207C-409B-9AF2-98F20191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559-D06F-467E-A484-4F01DE7D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73B-DDBB-4AD8-A785-5C673D52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4D9-7695-4ABC-BF85-1FAC3465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C11-114B-487A-B099-77FB4075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57B-E2FF-4633-9757-AFE39BFD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2D2-988C-439D-9EB5-E6B3A7E4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B77E-1C0F-4C7F-AB2C-8FA62884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208-F969-4BE9-BFF4-ADD0D21E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F82-11E4-4D51-AC39-B1A859C4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CDC4-50A4-49A3-915A-03D56013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CD7-7BE8-42D7-B6C5-1C82B5F0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ABAC-B1A2-455A-BD84-ABB2495DC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audio" Target="../media/type.wav"/><Relationship Id="rId2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http://www.eeppt.com/moban/kejian/" TargetMode="External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5.wm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36360" y="-98280"/>
            <a:ext cx="9144000" cy="684828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539640" y="404640"/>
            <a:ext cx="648036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31044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549360"/>
            <a:ext cx="716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《日月潭的传说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教学课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  <p:sndAc>
      <p:stSnd>
        <p:snd r:embed="rId3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05A-0BEA-4E8D-B071-A669007DBF30}" type="slidenum">
              <a:t>10</a:t>
            </a:fld>
          </a:p>
        </p:txBody>
      </p:sp>
    </p:spTree>
  </p:cSld>
  <p:transition spd="med">
    <p:checker dir="vert"/>
    <p:sndAc>
      <p:stSnd>
        <p:snd r:embed="rId27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838080" y="28195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漆黑一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生字新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838080" y="1905120"/>
            <a:ext cx="12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505320" y="1828800"/>
            <a:ext cx="1904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hě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505320" y="1828800"/>
            <a:ext cx="30477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hě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拯  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858000" y="1905120"/>
            <a:ext cx="3352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ì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5867280" y="1905120"/>
            <a:ext cx="2133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ì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水  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304920" y="3657600"/>
            <a:ext cx="2514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ó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685800" y="3657600"/>
            <a:ext cx="2362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ó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筹莫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3429000" y="3657600"/>
            <a:ext cx="2286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īng  j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荆　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3429000" y="3657600"/>
            <a:ext cx="2743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īng  j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披荆斩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6477120" y="3581280"/>
            <a:ext cx="1371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ò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6477120" y="3581280"/>
            <a:ext cx="27432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ò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纵　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21">
            <a:hlinkClick r:id="rId2"/>
          </p:cNvPr>
          <p:cNvSpPr/>
          <p:nvPr/>
        </p:nvSpPr>
        <p:spPr>
          <a:xfrm>
            <a:off x="6553080" y="6019920"/>
            <a:ext cx="609840" cy="457200"/>
          </a:xfrm>
          <a:custGeom>
            <a:avLst/>
            <a:gdLst>
              <a:gd name="textAreaLeft" fmla="*/ 28440 w 609840"/>
              <a:gd name="textAreaRight" fmla="*/ 581400 w 60984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56" y="1350"/>
                </a:lnTo>
                <a:lnTo>
                  <a:pt x="1350" y="135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56" y="20250"/>
                </a:lnTo>
                <a:lnTo>
                  <a:pt x="27456" y="135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56" y="2025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2" descr="C:\Program Files\Common Files\Microsoft Shared\Clipart\themes1\Bullets\BD14565_.GIF"/>
          <p:cNvPicPr/>
          <p:nvPr/>
        </p:nvPicPr>
        <p:blipFill>
          <a:blip r:embed="rId3"/>
          <a:stretch/>
        </p:blipFill>
        <p:spPr>
          <a:xfrm>
            <a:off x="8001000" y="59436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5734080"/>
            <a:ext cx="6112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  <p:sndAc>
      <p:stSnd>
        <p:snd r:embed="rId5" name="type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371600" y="1295280"/>
            <a:ext cx="2133720" cy="190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286000" y="1295280"/>
            <a:ext cx="0" cy="1905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2438280" y="1295280"/>
            <a:ext cx="0" cy="190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1371600" y="2209680"/>
            <a:ext cx="2133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1371600" y="1295280"/>
            <a:ext cx="2133720" cy="190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0"/>
          <p:cNvSpPr/>
          <p:nvPr/>
        </p:nvSpPr>
        <p:spPr>
          <a:xfrm flipV="1">
            <a:off x="1371600" y="1295280"/>
            <a:ext cx="2057400" cy="190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962520" y="1295280"/>
            <a:ext cx="2133360" cy="198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5029200" y="1295280"/>
            <a:ext cx="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3962520" y="1295280"/>
            <a:ext cx="213336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 flipH="1">
            <a:off x="3962520" y="1295280"/>
            <a:ext cx="213336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3962520" y="2286000"/>
            <a:ext cx="2133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6781680" y="1295280"/>
            <a:ext cx="2133720" cy="198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7848720" y="1295280"/>
            <a:ext cx="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6781680" y="2286000"/>
            <a:ext cx="2133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6781680" y="1295280"/>
            <a:ext cx="213372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2"/>
          <p:cNvSpPr/>
          <p:nvPr/>
        </p:nvSpPr>
        <p:spPr>
          <a:xfrm flipH="1">
            <a:off x="6781320" y="1295280"/>
            <a:ext cx="213372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2590920" y="4114800"/>
            <a:ext cx="2133360" cy="1981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4"/>
          <p:cNvSpPr/>
          <p:nvPr/>
        </p:nvSpPr>
        <p:spPr>
          <a:xfrm>
            <a:off x="3657600" y="4114800"/>
            <a:ext cx="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25"/>
          <p:cNvSpPr/>
          <p:nvPr/>
        </p:nvSpPr>
        <p:spPr>
          <a:xfrm flipH="1">
            <a:off x="2590920" y="4114800"/>
            <a:ext cx="213336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26"/>
          <p:cNvSpPr/>
          <p:nvPr/>
        </p:nvSpPr>
        <p:spPr>
          <a:xfrm>
            <a:off x="2590920" y="4114800"/>
            <a:ext cx="213336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7"/>
          <p:cNvSpPr/>
          <p:nvPr/>
        </p:nvSpPr>
        <p:spPr>
          <a:xfrm>
            <a:off x="2590920" y="5105520"/>
            <a:ext cx="2133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5867280" y="4114800"/>
            <a:ext cx="2133720" cy="1981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5867280" y="4114800"/>
            <a:ext cx="213372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2"/>
          <p:cNvSpPr/>
          <p:nvPr/>
        </p:nvSpPr>
        <p:spPr>
          <a:xfrm flipH="1">
            <a:off x="5866920" y="4114800"/>
            <a:ext cx="213372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3"/>
          <p:cNvSpPr/>
          <p:nvPr/>
        </p:nvSpPr>
        <p:spPr>
          <a:xfrm>
            <a:off x="6934320" y="4114800"/>
            <a:ext cx="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4"/>
          <p:cNvSpPr/>
          <p:nvPr/>
        </p:nvSpPr>
        <p:spPr>
          <a:xfrm>
            <a:off x="5867280" y="5105520"/>
            <a:ext cx="2133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5"/>
          <p:cNvSpPr/>
          <p:nvPr/>
        </p:nvSpPr>
        <p:spPr>
          <a:xfrm>
            <a:off x="1752480" y="137160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6"/>
          <p:cNvSpPr/>
          <p:nvPr/>
        </p:nvSpPr>
        <p:spPr>
          <a:xfrm>
            <a:off x="4267080" y="137160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7"/>
          <p:cNvSpPr/>
          <p:nvPr/>
        </p:nvSpPr>
        <p:spPr>
          <a:xfrm>
            <a:off x="7162920" y="144792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筹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2971800" y="419112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莫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9"/>
          <p:cNvSpPr/>
          <p:nvPr/>
        </p:nvSpPr>
        <p:spPr>
          <a:xfrm>
            <a:off x="6172200" y="42670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0">
            <a:hlinkClick r:id="rId2"/>
          </p:cNvPr>
          <p:cNvSpPr/>
          <p:nvPr/>
        </p:nvSpPr>
        <p:spPr>
          <a:xfrm>
            <a:off x="8305920" y="6248520"/>
            <a:ext cx="457200" cy="380880"/>
          </a:xfrm>
          <a:custGeom>
            <a:avLst/>
            <a:gdLst>
              <a:gd name="textAreaLeft" fmla="*/ 23760 w 457200"/>
              <a:gd name="textAreaRight" fmla="*/ 433440 w 45720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74" y="1350"/>
                </a:lnTo>
                <a:lnTo>
                  <a:pt x="1350" y="135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74" y="20250"/>
                </a:lnTo>
                <a:lnTo>
                  <a:pt x="24574" y="135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74" y="2025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  <p:sndAc>
      <p:stSnd>
        <p:snd r:embed="rId4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95280" y="189000"/>
            <a:ext cx="8077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　　　　日月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日月潭是我国台湾省最大的湖泊。位于台湾省中部的南投县鱼池乡，又称双潭，过去称水社湖或龙湖。潭中有一小岛，犹如珠走玉盘，故名珠子岛，又称玉岛。此岛以北，湖形如日轮，面积较大，称日潭；月潭在南，形如新月，面积较小。日月潭四周为高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米的苍山环抱，林木葱郁，湖光山色，相映如画，被誉为“岛内仙境”，是台湾省著名的旅游胜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  <p:sndAc>
      <p:stSnd>
        <p:snd r:embed="rId2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838080" y="9907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　　日月潭是我国台湾省最大的一个湖泊。那里青山环抱，树木葱茏，是个著名的风景区。说起日月潭，还有一个动人的传说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  <p:sndAc>
      <p:stSnd>
        <p:snd r:embed="rId2" name="type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3203640" y="1773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C:\My Documents\scan\ryt11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2362320" y="3429000"/>
            <a:ext cx="449568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日月潭的传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">
            <a:hlinkClick r:id="" action="ppaction://hlinkshowjump?jump=endshow"/>
          </p:cNvPr>
          <p:cNvSpPr/>
          <p:nvPr/>
        </p:nvSpPr>
        <p:spPr>
          <a:xfrm>
            <a:off x="7543800" y="6019920"/>
            <a:ext cx="457200" cy="304560"/>
          </a:xfrm>
          <a:custGeom>
            <a:avLst/>
            <a:gdLst>
              <a:gd name="textAreaLeft" fmla="*/ 18720 w 457200"/>
              <a:gd name="textAreaRight" fmla="*/ 438480 w 45720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63" y="1350"/>
                </a:lnTo>
                <a:lnTo>
                  <a:pt x="1350" y="135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63" y="20250"/>
                </a:lnTo>
                <a:lnTo>
                  <a:pt x="31063" y="135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63" y="2025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413" h="21600">
                <a:moveTo>
                  <a:pt x="19724" y="10800"/>
                </a:moveTo>
                <a:lnTo>
                  <a:pt x="9163" y="17844"/>
                </a:lnTo>
                <a:lnTo>
                  <a:pt x="9163" y="3756"/>
                </a:lnTo>
                <a:close/>
              </a:path>
              <a:path fill="darken" w="32413" h="21600">
                <a:moveTo>
                  <a:pt x="21579" y="3756"/>
                </a:moveTo>
                <a:lnTo>
                  <a:pt x="21579" y="17844"/>
                </a:lnTo>
                <a:lnTo>
                  <a:pt x="23250" y="17844"/>
                </a:lnTo>
                <a:lnTo>
                  <a:pt x="23250" y="375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>
            <a:hlinkClick r:id="" action="ppaction://hlinkshowjump?jump=nextslide"/>
            <a:hlinkClick r:id="rId4"/>
          </p:cNvPr>
          <p:cNvSpPr/>
          <p:nvPr/>
        </p:nvSpPr>
        <p:spPr>
          <a:xfrm>
            <a:off x="6400800" y="5867280"/>
            <a:ext cx="609480" cy="533520"/>
          </a:xfrm>
          <a:custGeom>
            <a:avLst/>
            <a:gdLst>
              <a:gd name="textAreaLeft" fmla="*/ 33120 w 609480"/>
              <a:gd name="textAreaRight" fmla="*/ 576360 w 60948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323" y="1350"/>
                </a:lnTo>
                <a:lnTo>
                  <a:pt x="1350" y="135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323" y="20250"/>
                </a:lnTo>
                <a:lnTo>
                  <a:pt x="23323" y="135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323" y="2025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673" h="21600">
                <a:moveTo>
                  <a:pt x="5293" y="3756"/>
                </a:moveTo>
                <a:lnTo>
                  <a:pt x="19380" y="10800"/>
                </a:lnTo>
                <a:lnTo>
                  <a:pt x="5293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  <p:sndAc>
      <p:stSnd>
        <p:snd r:embed="rId5" name="typ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1371600" y="91440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为什么叫“日月潭” 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371600" y="2287440"/>
            <a:ext cx="7162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日月潭的传说是怎样的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9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1219320"/>
            <a:ext cx="457200" cy="380880"/>
          </a:xfrm>
          <a:custGeom>
            <a:avLst/>
            <a:gdLst>
              <a:gd name="textAreaLeft" fmla="*/ 23760 w 457200"/>
              <a:gd name="textAreaRight" fmla="*/ 433440 w 45720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74" y="1350"/>
                </a:lnTo>
                <a:lnTo>
                  <a:pt x="1350" y="135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74" y="20250"/>
                </a:lnTo>
                <a:lnTo>
                  <a:pt x="24574" y="135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74" y="2025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">
            <a:hlinkClick r:id="rId3"/>
          </p:cNvPr>
          <p:cNvSpPr/>
          <p:nvPr/>
        </p:nvSpPr>
        <p:spPr>
          <a:xfrm>
            <a:off x="8001000" y="3581280"/>
            <a:ext cx="685800" cy="381240"/>
          </a:xfrm>
          <a:custGeom>
            <a:avLst/>
            <a:gdLst>
              <a:gd name="textAreaLeft" fmla="*/ 23760 w 685800"/>
              <a:gd name="textAreaRight" fmla="*/ 662040 w 685800"/>
              <a:gd name="textAreaTop" fmla="*/ 23760 h 381240"/>
              <a:gd name="textAreaBottom" fmla="*/ 35748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89" y="1350"/>
                </a:lnTo>
                <a:lnTo>
                  <a:pt x="1350" y="135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89" y="20250"/>
                </a:lnTo>
                <a:lnTo>
                  <a:pt x="37489" y="135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489" y="2025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5" descr="C:\Program Files\Common Files\Microsoft Shared\Clipart\cagcat50\AN02097_.wmf"/>
          <p:cNvPicPr/>
          <p:nvPr/>
        </p:nvPicPr>
        <p:blipFill>
          <a:blip r:embed="rId4"/>
          <a:stretch/>
        </p:blipFill>
        <p:spPr>
          <a:xfrm>
            <a:off x="0" y="0"/>
            <a:ext cx="1238400" cy="144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C:\Program Files\Common Files\Microsoft Shared\Clipart\cagcat50\AN02542_.wmf"/>
          <p:cNvPicPr/>
          <p:nvPr/>
        </p:nvPicPr>
        <p:blipFill>
          <a:blip r:embed="rId5"/>
          <a:stretch/>
        </p:blipFill>
        <p:spPr>
          <a:xfrm>
            <a:off x="7772400" y="5532480"/>
            <a:ext cx="1371600" cy="1325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  <p:sndAc>
      <p:stSnd>
        <p:snd r:embed="rId6" name="type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026"/>
          <p:cNvSpPr/>
          <p:nvPr/>
        </p:nvSpPr>
        <p:spPr>
          <a:xfrm>
            <a:off x="1143000" y="167652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27"/>
          <p:cNvSpPr/>
          <p:nvPr/>
        </p:nvSpPr>
        <p:spPr>
          <a:xfrm>
            <a:off x="1371600" y="9144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为什么叫“日月潭” ？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28"/>
          <p:cNvSpPr/>
          <p:nvPr/>
        </p:nvSpPr>
        <p:spPr>
          <a:xfrm>
            <a:off x="1371600" y="2286000"/>
            <a:ext cx="7162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日月潭的传说是怎样的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029">
            <a:hlinkClick r:id="" action="ppaction://hlinkshowjump?jump=nextslide"/>
            <a:hlinkClick r:id="rId2"/>
          </p:cNvPr>
          <p:cNvSpPr/>
          <p:nvPr/>
        </p:nvSpPr>
        <p:spPr>
          <a:xfrm>
            <a:off x="7696080" y="3809880"/>
            <a:ext cx="914400" cy="609840"/>
          </a:xfrm>
          <a:custGeom>
            <a:avLst/>
            <a:gdLst>
              <a:gd name="textAreaLeft" fmla="*/ 37800 w 914400"/>
              <a:gd name="textAreaRight" fmla="*/ 876600 w 91440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1031" y="1350"/>
                </a:lnTo>
                <a:lnTo>
                  <a:pt x="1350" y="135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1031" y="20250"/>
                </a:lnTo>
                <a:lnTo>
                  <a:pt x="31031" y="135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31" y="2025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30" descr="C:\Program Files\Common Files\Microsoft Shared\Clipart\cagcat50\AN02097_.wmf"/>
          <p:cNvPicPr/>
          <p:nvPr/>
        </p:nvPicPr>
        <p:blipFill>
          <a:blip r:embed="rId3"/>
          <a:stretch/>
        </p:blipFill>
        <p:spPr>
          <a:xfrm>
            <a:off x="0" y="0"/>
            <a:ext cx="123840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  <p:sndAc>
      <p:stSnd>
        <p:snd r:embed="rId4" name="type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371600" y="9144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为什么叫“日月潭” ？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371600" y="2287440"/>
            <a:ext cx="74674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日月潭的传说是怎样的？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8305920" y="5638680"/>
            <a:ext cx="304560" cy="45720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457200"/>
              <a:gd name="textAreaBottom" fmla="*/ 438480 h 457200"/>
            </a:gdLst>
            <a:ahLst/>
            <a:rect l="textAreaLeft" t="textAreaTop" r="textAreaRight" b="textAreaBottom"/>
            <a:pathLst>
              <a:path w="21600" h="32413">
                <a:moveTo>
                  <a:pt x="0" y="0"/>
                </a:moveTo>
                <a:lnTo>
                  <a:pt x="21600" y="0"/>
                </a:lnTo>
                <a:lnTo>
                  <a:pt x="21600" y="32413"/>
                </a:lnTo>
                <a:lnTo>
                  <a:pt x="0" y="32413"/>
                </a:lnTo>
                <a:close/>
              </a:path>
              <a:path fill="lightenLess" w="21600" h="3241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2413">
                <a:moveTo>
                  <a:pt x="21600" y="0"/>
                </a:moveTo>
                <a:lnTo>
                  <a:pt x="21600" y="32413"/>
                </a:lnTo>
                <a:lnTo>
                  <a:pt x="20250" y="31063"/>
                </a:lnTo>
                <a:lnTo>
                  <a:pt x="20250" y="1350"/>
                </a:lnTo>
                <a:close/>
              </a:path>
              <a:path fill="darkenLess" w="21600" h="32413">
                <a:moveTo>
                  <a:pt x="21600" y="32413"/>
                </a:moveTo>
                <a:lnTo>
                  <a:pt x="0" y="32413"/>
                </a:lnTo>
                <a:lnTo>
                  <a:pt x="1350" y="31063"/>
                </a:lnTo>
                <a:lnTo>
                  <a:pt x="20250" y="31063"/>
                </a:lnTo>
                <a:close/>
              </a:path>
              <a:path fill="lighten" w="21600" h="32413">
                <a:moveTo>
                  <a:pt x="0" y="32413"/>
                </a:moveTo>
                <a:lnTo>
                  <a:pt x="0" y="0"/>
                </a:lnTo>
                <a:lnTo>
                  <a:pt x="1350" y="1350"/>
                </a:lnTo>
                <a:lnTo>
                  <a:pt x="1350" y="31063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C:\Program Files\Common Files\Microsoft Shared\Clipart\cagcat50\AN02097_.wmf"/>
          <p:cNvPicPr/>
          <p:nvPr/>
        </p:nvPicPr>
        <p:blipFill>
          <a:blip r:embed="rId2"/>
          <a:stretch/>
        </p:blipFill>
        <p:spPr>
          <a:xfrm>
            <a:off x="0" y="0"/>
            <a:ext cx="123840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  <p:sndAc>
      <p:stSnd>
        <p:snd r:embed="rId3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762120" y="13716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533520"/>
            <a:ext cx="7848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借助拼音读准字音，划出生字组成的词，查字典或联系课文理解。读顺句子，读通课文；了解故事的大意，并能用自己的话简要说出故事的经过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自学要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  <p:sndAc>
      <p:stSnd>
        <p:snd r:embed="rId2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33520" y="1066680"/>
            <a:ext cx="807696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日月潭是一个（　　     ），是一个（　　　）它还有一个（　　　　　　　）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752480" y="320040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湖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3880" y="41911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风景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286000" y="51055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动人的传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填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  <p:sndAc>
      <p:stSnd>
        <p:snd r:embed="rId2" name="type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12:36:38Z</dcterms:created>
  <dc:creator/>
  <dc:description/>
  <cp:keywords>幻灯片之家 http:/www.eeppt.com</cp:keywords>
  <dc:language>en-US</dc:language>
  <cp:lastModifiedBy/>
  <dcterms:modified xsi:type="dcterms:W3CDTF">2015-07-18T13:46:23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