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874-AE2E-4BD1-A45E-B838DA16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5A2D-01A8-4BE0-A3AB-B91CC120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935-71EC-4E55-B103-11CEBE9C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787-93A4-4372-B1EC-3B6AE4F9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4C6E-4F56-4CF0-988A-584C09B3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DC00-6158-4EA7-85F8-FF4B9AAC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975-CD31-4EB8-AEAC-562E19E3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F35-0635-4038-BEEA-382C60CF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0A7-8079-490F-BF2C-7CA8DD0A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AF2A-28E9-417B-873E-FB49B851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F2E-FE09-447B-8C87-5AE8DB55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B0B-51D4-46B5-BAC1-54368A9C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44BB-17C3-47B4-8500-D39243BDA2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4915080"/>
            <a:ext cx="9144000" cy="1942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tretch/>
        </p:blipFill>
        <p:spPr>
          <a:xfrm>
            <a:off x="2411280" y="2884320"/>
            <a:ext cx="4321440" cy="3713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1763640" y="503280"/>
            <a:ext cx="5257800" cy="234936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2545200" y="13240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释放压力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239760"/>
            <a:ext cx="9144000" cy="6618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98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0" y="4929120"/>
            <a:ext cx="9144000" cy="1928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6372360" y="447840"/>
            <a:ext cx="2539800" cy="2044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692360" y="623736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1T02:43:42Z</dcterms:modified>
  <cp:revision>1</cp:revision>
  <dc:subject/>
  <dc:title>PowerPoint 演示文稿</dc:title>
</cp:coreProperties>
</file>