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355-2287-4550-B40B-28FBF34E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305-7C33-4760-960B-B874C581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B1D-F0CE-43F8-995B-6F07D813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72D-37FA-4225-BDC6-7A05101B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2E1-EA8E-4F21-8782-E0FB8D09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C54-E06C-44C3-B544-F985656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10B-F7BF-4B4A-BA3A-5119D86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BFD-F962-41C6-BD3E-F8DA6E6C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60F-4864-453E-8E1E-421239F7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33D-B35B-4E64-8FCF-EC4BC3C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A67-9C16-4CDD-8CE1-068EDD2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FA0-06DE-4CD1-B348-8E12267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4A4-C4A1-4CE1-AA64-1B4FCE856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3.jpeg"/><Relationship Id="rId20" Type="http://schemas.openxmlformats.org/officeDocument/2006/relationships/hyperlink" Target="&#25152;&#35265;.swf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《所见》插图"/>
          <p:cNvPicPr/>
          <p:nvPr/>
        </p:nvPicPr>
        <p:blipFill>
          <a:blip r:embed="rId2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447920" y="11430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所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14400" y="19810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牧  童  骑   黄    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90720" y="27432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歌  声     振   林 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990720" y="358128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意  欲  捕   鸣    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90720" y="441972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忽  然   闭   口  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600200" y="838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su% ji4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90720" y="1676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m) t$ng q0 hu2ng n0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990720" y="24382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g5 sh5ng zh8n l0n yu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99072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y@  y)  b(  m0ng ch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990720" y="411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ypyyb"/>
                <a:ea typeface="zypyyb"/>
              </a:rPr>
              <a:t>h&amp;  r2n  b@  k%u l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6629400" y="1523880"/>
            <a:ext cx="1447920" cy="60984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6629400" y="2590920"/>
            <a:ext cx="1447920" cy="60948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629400" y="3657600"/>
            <a:ext cx="1447920" cy="609480"/>
          </a:xfrm>
          <a:prstGeom prst="horizontalScroll">
            <a:avLst>
              <a:gd name="adj" fmla="val 125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" action="ppaction://hlinkshowjump?jump=endshow"/>
          </p:cNvPr>
          <p:cNvSpPr/>
          <p:nvPr/>
        </p:nvSpPr>
        <p:spPr>
          <a:xfrm>
            <a:off x="6629400" y="5029200"/>
            <a:ext cx="1447920" cy="380880"/>
          </a:xfrm>
          <a:custGeom>
            <a:avLst/>
            <a:gdLst>
              <a:gd name="textAreaLeft" fmla="*/ 23760 w 1447920"/>
              <a:gd name="textAreaRight" fmla="*/ 1424160 w 14479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706" y="1350"/>
                </a:lnTo>
                <a:lnTo>
                  <a:pt x="1350" y="135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706" y="20250"/>
                </a:lnTo>
                <a:lnTo>
                  <a:pt x="80706" y="135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80706" y="2025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82056" h="21600">
                <a:moveTo>
                  <a:pt x="44545" y="10800"/>
                </a:moveTo>
                <a:lnTo>
                  <a:pt x="33984" y="17844"/>
                </a:lnTo>
                <a:lnTo>
                  <a:pt x="33984" y="3756"/>
                </a:lnTo>
                <a:close/>
              </a:path>
              <a:path fill="darken" w="82056" h="21600">
                <a:moveTo>
                  <a:pt x="46400" y="3756"/>
                </a:moveTo>
                <a:lnTo>
                  <a:pt x="46400" y="17844"/>
                </a:lnTo>
                <a:lnTo>
                  <a:pt x="48072" y="17844"/>
                </a:lnTo>
                <a:lnTo>
                  <a:pt x="48072" y="375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6381720"/>
            <a:ext cx="21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51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9"/>
          <p:cNvSpPr/>
          <p:nvPr/>
        </p:nvSpPr>
        <p:spPr>
          <a:xfrm>
            <a:off x="611280" y="25034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E:\wendang\My Pictures\背景\PM_001.jpg"/>
          <p:cNvPicPr/>
          <p:nvPr/>
        </p:nvPicPr>
        <p:blipFill>
          <a:blip r:embed="rId19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>
            <a:hlinkClick r:id="rId20"/>
          </p:cNvPr>
          <p:cNvSpPr/>
          <p:nvPr/>
        </p:nvSpPr>
        <p:spPr>
          <a:xfrm>
            <a:off x="1828800" y="1905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生字学习与朗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828800" y="2743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诗意解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8077320" y="5943600"/>
            <a:ext cx="609480" cy="53352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323" y="1350"/>
                </a:lnTo>
                <a:lnTo>
                  <a:pt x="1350" y="135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323" y="20250"/>
                </a:lnTo>
                <a:lnTo>
                  <a:pt x="23323" y="135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23" y="2025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73" h="21600">
                <a:moveTo>
                  <a:pt x="5293" y="10800"/>
                </a:moveTo>
                <a:lnTo>
                  <a:pt x="19380" y="3756"/>
                </a:lnTo>
                <a:lnTo>
                  <a:pt x="19380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E:\wendang\My Pictures\背景\PM_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514600" y="167652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牧童骑在黄牛背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歌声在树林中回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心想捕捉鸣叫的知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马上站在树下一声不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76520" y="914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诗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8305920" y="6019920"/>
            <a:ext cx="585720" cy="509400"/>
          </a:xfrm>
          <a:custGeom>
            <a:avLst/>
            <a:gdLst>
              <a:gd name="textAreaLeft" fmla="*/ 31680 w 585720"/>
              <a:gd name="textAreaRight" fmla="*/ 554040 w 585720"/>
              <a:gd name="textAreaTop" fmla="*/ 31680 h 509400"/>
              <a:gd name="textAreaBottom" fmla="*/ 477720 h 509400"/>
            </a:gdLst>
            <a:ahLst/>
            <a:rect l="textAreaLeft" t="textAreaTop" r="textAreaRight" b="textAreaBottom"/>
            <a:pathLst>
              <a:path w="24834" h="21600">
                <a:moveTo>
                  <a:pt x="0" y="0"/>
                </a:moveTo>
                <a:lnTo>
                  <a:pt x="24834" y="0"/>
                </a:lnTo>
                <a:lnTo>
                  <a:pt x="24834" y="21600"/>
                </a:lnTo>
                <a:lnTo>
                  <a:pt x="0" y="21600"/>
                </a:lnTo>
                <a:close/>
              </a:path>
              <a:path fill="lightenLess" w="24834" h="21600">
                <a:moveTo>
                  <a:pt x="0" y="0"/>
                </a:moveTo>
                <a:lnTo>
                  <a:pt x="24834" y="0"/>
                </a:lnTo>
                <a:lnTo>
                  <a:pt x="23484" y="1350"/>
                </a:lnTo>
                <a:lnTo>
                  <a:pt x="1350" y="1350"/>
                </a:lnTo>
                <a:close/>
              </a:path>
              <a:path fill="darken" w="24834" h="21600">
                <a:moveTo>
                  <a:pt x="24834" y="0"/>
                </a:moveTo>
                <a:lnTo>
                  <a:pt x="24834" y="21600"/>
                </a:lnTo>
                <a:lnTo>
                  <a:pt x="23484" y="20250"/>
                </a:lnTo>
                <a:lnTo>
                  <a:pt x="23484" y="1350"/>
                </a:lnTo>
                <a:close/>
              </a:path>
              <a:path fill="darkenLess" w="24834" h="21600">
                <a:moveTo>
                  <a:pt x="248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484" y="20250"/>
                </a:lnTo>
                <a:close/>
              </a:path>
              <a:path fill="lighten" w="248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834" h="21600">
                <a:moveTo>
                  <a:pt x="5373" y="10800"/>
                </a:moveTo>
                <a:lnTo>
                  <a:pt x="19461" y="3756"/>
                </a:lnTo>
                <a:lnTo>
                  <a:pt x="19461" y="1784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E:\wendang\My Pictures\背景\PM_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3581280" y="15238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581280" y="25909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诗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81280" y="3657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诗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7848720" y="5943600"/>
            <a:ext cx="533160" cy="457200"/>
          </a:xfrm>
          <a:custGeom>
            <a:avLst/>
            <a:gdLst>
              <a:gd name="textAreaLeft" fmla="*/ 28440 w 533160"/>
              <a:gd name="textAreaRight" fmla="*/ 504720 w 53316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836" y="1350"/>
                </a:lnTo>
                <a:lnTo>
                  <a:pt x="1350" y="135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836" y="20250"/>
                </a:lnTo>
                <a:lnTo>
                  <a:pt x="23836" y="135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36" y="2025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186" h="21600">
                <a:moveTo>
                  <a:pt x="5549" y="10800"/>
                </a:moveTo>
                <a:lnTo>
                  <a:pt x="19637" y="3756"/>
                </a:lnTo>
                <a:lnTo>
                  <a:pt x="19637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袁枚简介.wav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E:\wendang\My Pictures\背景\PM_015.jpg"/>
          <p:cNvPicPr/>
          <p:nvPr/>
        </p:nvPicPr>
        <p:blipFill>
          <a:blip r:embed="rId1"/>
          <a:stretch/>
        </p:blipFill>
        <p:spPr>
          <a:xfrm>
            <a:off x="-380880" y="0"/>
            <a:ext cx="9905760" cy="72057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277880" y="1523880"/>
            <a:ext cx="29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993300"/>
                </a:solidFill>
                <a:latin typeface="楷体_GB2312"/>
              </a:rPr>
              <a:t>袁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养鸡纵鸡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鸡肥乃烹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主人计固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</a:rPr>
              <a:t>不可与鸡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8153280" y="571500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198360" y="665640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A79-29CB-4C93-8EF7-1F16D2D909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E:\wendang\My Pictures\背景\PM_001.jpg"/>
          <p:cNvPicPr/>
          <p:nvPr/>
        </p:nvPicPr>
        <p:blipFill>
          <a:blip r:embed="rId1"/>
          <a:stretch/>
        </p:blipFill>
        <p:spPr>
          <a:xfrm>
            <a:off x="533520" y="173160"/>
            <a:ext cx="8610480" cy="6529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990720" y="1371600"/>
            <a:ext cx="65530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箴作诗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袁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倚马休夸速藻佳，相如终竟压邹枚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物须见少方为贵，诗到能迟转是才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清角声高非易奏，优昙花好不轻开。</a:t>
            </a:r>
            <a:br>
              <a:rPr sz="2800"/>
            </a:b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须知极乐神仙境，修炼多从苦处来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7351" y="10800"/>
                </a:moveTo>
                <a:lnTo>
                  <a:pt x="21438" y="3756"/>
                </a:lnTo>
                <a:lnTo>
                  <a:pt x="21438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E:\wendang\My Pictures\背景\PM_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133720" y="1219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一想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牧童是怎样捉蝉的呢？他捉到了蝉吗？把这些编成一个故事，讲给大家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8077320" y="601992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65200" y="633420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6:44:16Z</dcterms:created>
  <dc:creator/>
  <dc:description/>
  <cp:keywords>幻灯片之家 http:/www.eeppt.com</cp:keywords>
  <dc:language>en-US</dc:language>
  <cp:lastModifiedBy/>
  <dcterms:modified xsi:type="dcterms:W3CDTF">2015-07-11T02:51:5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