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4D94-8031-4C7B-B2D5-F0018FC22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BE3C-3689-44FC-AB22-AAF25820A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B440-11F4-4C90-8E77-4967F3E86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ED71-5657-4BED-A936-05338D911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46785-4C9D-46F5-9855-52BFBA00C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DFD71-CF68-4918-B792-6E6E1D33D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815E0-5739-41FB-BDD0-27A8CEB7D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A7A19-4C94-4E76-BCC7-4EA9FB645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57B2B-F623-4097-AEA4-181A9FC1D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A7299-B38B-40CB-B2CA-5760E481D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E5FAD-8F28-4702-B7B7-F11F49E42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AE57-BCFC-42FB-ABFF-3B4B87026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EFD56-9994-433E-8822-7EF407295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F684E-A8A6-411D-93EB-900D26CCF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2780B-876B-4E8E-A236-58F9EB77A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BF468-BA3E-46FE-AFA8-BC0919BA2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BE913-EA3D-486B-8521-BBB39000C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3508-0CE5-4976-A0DF-C401930C5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3084-92C0-4C96-A13A-8831491D9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DC8D-D8D2-4262-AD7A-39154C210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2FBC-F772-409B-BEFE-3BA71C3D7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7FB4-7583-4BBE-8B25-1ECA10341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7336-0E4A-42CF-AA26-6375D340F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2997-62E6-431C-BFE0-90B628FEA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63F27-2F72-44E3-9576-EE156A7BDF4D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D9A3A-5EE8-4829-855A-C163B54BBDA6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B77DB-2B03-42F2-A4C2-1A6EBF65520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5"/>
          <p:cNvSpPr/>
          <p:nvPr/>
        </p:nvSpPr>
        <p:spPr>
          <a:xfrm>
            <a:off x="5986440" y="282600"/>
            <a:ext cx="362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1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7"/>
          <p:cNvSpPr/>
          <p:nvPr/>
        </p:nvSpPr>
        <p:spPr>
          <a:xfrm>
            <a:off x="-23400" y="257040"/>
            <a:ext cx="504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『第一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』— 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免费下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4"/>
          <p:cNvSpPr/>
          <p:nvPr/>
        </p:nvSpPr>
        <p:spPr>
          <a:xfrm>
            <a:off x="155520" y="663480"/>
            <a:ext cx="8809200" cy="600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6"/>
          <p:cNvSpPr/>
          <p:nvPr/>
        </p:nvSpPr>
        <p:spPr>
          <a:xfrm>
            <a:off x="2771640" y="9837720"/>
            <a:ext cx="4032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一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网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下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1ppt.com/sucai/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8" descr="办公室职员,发狂的,手插入头发,男商人,白领_a388eea0a_创意图片_Getty Images China"/>
          <p:cNvPicPr/>
          <p:nvPr/>
        </p:nvPicPr>
        <p:blipFill>
          <a:blip r:embed="rId1"/>
          <a:srcRect l="0" t="9598" r="402" b="12913"/>
          <a:stretch/>
        </p:blipFill>
        <p:spPr>
          <a:xfrm>
            <a:off x="2576520" y="928800"/>
            <a:ext cx="3159000" cy="36892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大拇指"/>
          <p:cNvPicPr/>
          <p:nvPr/>
        </p:nvPicPr>
        <p:blipFill>
          <a:blip r:embed="rId2"/>
          <a:srcRect l="0" t="5335" r="20760" b="0"/>
          <a:stretch/>
        </p:blipFill>
        <p:spPr>
          <a:xfrm>
            <a:off x="6083280" y="2773440"/>
            <a:ext cx="2718000" cy="38894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男商人,沉思,商务,职业,专业人员_gic5471166_创意图片_Getty Images China"/>
          <p:cNvPicPr/>
          <p:nvPr/>
        </p:nvPicPr>
        <p:blipFill>
          <a:blip r:embed="rId3"/>
          <a:srcRect l="31134" t="5356" r="30205" b="0"/>
          <a:stretch/>
        </p:blipFill>
        <p:spPr>
          <a:xfrm>
            <a:off x="179280" y="3214800"/>
            <a:ext cx="2103480" cy="3429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08000" y="64533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908720" y="260280"/>
            <a:ext cx="5585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思考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素材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CEA85-2E91-4D45-B362-3A616541338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05:37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2:33:45Z</dcterms:modified>
  <cp:revision>100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  <property fmtid="{D5CDD505-2E9C-101B-9397-08002B2CF9AE}" pid="3" name="Presentation">
    <vt:lpwstr>锐普图表</vt:lpwstr>
  </property>
</Properties>
</file>