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314-093B-4383-9F1D-A9EF11A9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0D9-6540-4ACC-8364-B3B9DEF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634-1DB4-40EF-A308-E817D957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BB8-8744-446B-8A84-C877FF2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991-7BC8-4ACD-BA41-57F992B5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BACF-8AED-4C87-B992-607F98ED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3D42-2F13-4A05-B77C-CE265BC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9B9-1A79-47C4-BDF3-BABC256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DEB-89EE-48DC-9297-2332AB9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01A9-CA98-41DE-9CFF-534ED998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4B44-5AB3-487E-A76A-2501C113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D09-BDE5-4A65-953B-47EE975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5C8-30B2-487C-B161-17F605F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E94-FB4F-4215-8C97-71ACF66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1F5-9765-4275-9BE1-FE65680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CBA-9A36-4B4E-964F-F58C549A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2A4-8B92-4354-832D-4B13A82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BAC-1D30-495C-8105-2329061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A82-84A3-4419-8738-EC77058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878-92FC-49AF-8781-D367985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365-124E-4BDB-AA73-669F0C2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288-B12D-4C3E-B248-BC1B0BE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AB0-D4A2-43DD-81A8-367BD58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506-3232-40B5-BA8C-6EF62A6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60E-3B00-4A57-88FB-172C82F3D5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E1F-7A09-4415-AC37-11F9256A3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565-E46B-45C5-A56F-7BB1C8BC5A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A73D-0513-4691-A5EB-17531165BD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6a2d8d69c9aecdf77411603a9e941d9" descr=""/>
          <p:cNvPicPr/>
          <p:nvPr/>
        </p:nvPicPr>
        <p:blipFill>
          <a:blip r:embed="rId1"/>
          <a:stretch/>
        </p:blipFill>
        <p:spPr>
          <a:xfrm>
            <a:off x="720720" y="-14400"/>
            <a:ext cx="68565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43280" y="412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透明泡泡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216-F0CD-41C4-B654-6C5DB1D7C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