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57C-9189-41D0-AF0B-5AF5C1E3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649-1AAE-490E-BAE1-9717FF5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59F44-1DDE-49C2-9718-784BEA1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4920D-F10F-4BC9-9A19-CAA5B11D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998E-BD88-41C1-9F45-5EFA3CF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70CA2-9517-43D2-BC80-B1E245A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0A999-E70D-4134-ABAA-C8D3589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C8039-9BFA-49B6-AE13-DB5350F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4BEFD-6B2F-4963-9B0B-37F571E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B355-73A3-4B1D-B106-56685DED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DBA9D-156D-42F0-8FB3-B71330E8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AB397-FEA6-4141-BD46-CC00739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BA1-71CC-40CE-8D31-02BFA206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A9CA-465C-4E04-8C9A-28A4374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4FA31-875D-4559-B8EC-CF7C58A9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7BCED-E776-469F-9BBE-E1F0187D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D9610-0865-4B52-84BE-36D3A78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39037-D8D2-4481-99CD-5403FBA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FBF4-5ED6-4777-BE73-9DF8C06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0E39B-2380-4043-8FAC-85B4E9E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EAD2D-A8CA-4889-A2C9-B867989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6B5C1-8118-486F-B8CB-863781C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2DC2E-893C-46C8-8942-D62F656E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630-8168-440D-ACEC-C46DC9A2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39DFF-99F5-4616-828F-92BA47C3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C453-8366-4A26-8D64-71046029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D2827-3F8B-499B-8820-307032C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45B8-C2FE-4DB2-878F-875FF63F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E7AA-B174-4DCC-8D5D-D85964D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0E0A-DB36-4533-BCAA-07B8BD75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FAE99-61B3-4021-870F-2D11A867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C8009-A092-4636-9612-E0426C4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5A9D-45BC-454D-A025-467E81C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35D3-5D20-4E80-B39C-76E5744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F09-C1EE-4C1F-9E13-6F5E0E86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11A1-47B5-4A83-9003-03850008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61C7E-F7F2-4B6B-A9B6-6D0E1EBE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A00FD-0F21-43C5-AE60-7328E875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F9142-87CE-47C7-B180-03AA456B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585D3-FED5-4480-AA00-C1F19B5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39E8F-C93D-4082-9AB9-A6BA6F03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8984-311C-4C77-A702-2B38512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72276-3A57-4728-B980-A2D1C78B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31366-3A9C-4537-9CB9-E089522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EC3E1-DC8B-4A53-8BF9-90D1247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EE6-2B49-4B8D-9BC4-CC4027E6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23B1-C83D-4BAB-8079-6DCF72F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522D1-A01D-4763-8C11-59FCA97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909DE-956E-4F73-97E0-38F38EC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5DAEF-950C-450F-BD7B-8D3808D8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768F7-6620-4203-AA3B-840D82EF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1F2A1-D9E0-4449-98D1-8FED09C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77B81-1B41-4237-A48B-99ABC22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3688A-C6BD-4B21-9758-69F5F561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345FD-969D-4546-BED0-E5148F84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C5E06-1C90-4BDD-AD9A-2C57967B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994A-0BBD-4611-91A3-02CFDE3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7E3D5-BF09-41BD-8AFC-9563100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D7D8C-7601-4743-880E-343893A9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0E87E-65DA-4873-84CA-9006F7C6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AAFEB-2FDF-4BDE-8236-0101062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3497C-ABFD-427C-B4E6-2D997BE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E2809-A9E1-4E6D-ACAC-4C51A2A9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D1D7B-2A5D-4B86-A984-2FF4B3B4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F9AC0-5E19-45F5-96D1-B831B26D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F761F-CA76-4C67-9BD8-8FDD27B0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C85DF-F5AA-4B22-9B9F-A0022EB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88E-5225-443D-AA3E-FEFEA5FB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1FDFE-A79C-4122-A0D0-F8400B3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82012-40F5-4089-A615-EA289B1F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F942E-3617-4962-98D1-7C23061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5194E-19E5-4600-9777-A5F9CC4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1D876-9D3C-43C8-9726-458D876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60527-44A7-4795-ABFF-CDF635B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54BB1-16E2-44EE-9E5B-B1DB127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07392-93CD-4489-BBBF-C25FB782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D2C17-7700-407C-B4D1-341E6BE7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36F2BD-BA36-4B49-8973-7A67C9FF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69D5-47BD-4D5E-BAF3-2826CB3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4146BB-5B7C-460C-A41D-6DAD2AB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DC8910-5997-4969-BDA2-EDD479A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7CAB9D-1B47-4AEA-B464-58786F5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A2F5B1-A609-4971-9F78-02E98FE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0EF92F-9B38-4486-AEF9-E50E392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6D55F9-E475-4D92-BE0B-336B5FD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DDF85A-BC6D-4E77-A45F-5732A90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E40D86-27B1-42C9-A7AB-BA8AE46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4BD571-8D5B-40EB-9CCF-2ADCBBA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177BAC-2873-4CCB-B6CA-E675A605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0B55-1878-4E8E-9939-6A6A888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685862-057D-4894-B4BF-40EF676A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F7683-020B-4689-ABF1-AC7CB077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7D178-152D-4A40-9D84-8511D996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BECC2-8618-4098-8655-D5D8CECB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3D6FE-56EF-4D2D-9FB0-928F1B0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9F868-2606-46BE-90A2-7E9B7CDB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50E0A-7BA7-43E9-A6DF-DD479604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ADC3E-2BA2-4DBD-81E5-6187804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0F9AA-55A4-4373-A218-E2C231D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3A8B4-F12A-4893-A976-F9E3940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C108-CC36-4E0E-B952-D65C9BC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3B192-CBFF-4823-A256-8EC1C37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43B80-2F3A-4875-8C20-23DB584B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49493-CAEB-4969-86F5-762CC7C6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9A268-0396-48E0-8F5E-DE3463A3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3E148-1864-46E2-A078-0DAF018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20449-8A90-432C-9785-2E0E6883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F79B2-EB06-4B7D-886D-BF39926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AE938-9F66-49CD-883B-9C2F99C1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AB62B-0214-4314-9DB9-321EAE7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08327-3A81-46A9-91BF-602A36D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8A4-9A82-4AF0-B814-4F7A11F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6E36-B114-461E-9C4B-F7FBF468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ADE3F-2ADC-43EA-BD8B-CEC6190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DDB39-928B-465F-A849-F61CF10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6F133-1390-4DB2-8058-FA5F300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F36DE-A408-4554-80C4-99392FA5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C51A6-7B67-4031-996A-04B47CAA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C970F-D9D3-4D3A-8492-AFB2CBB6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CD614-B683-4FDB-A8A8-297AE97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20EEF-A517-40D4-BDEC-DA13CA94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3B383-70B9-4DFA-9512-284873F6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D1324-6EE7-416B-98A1-974636BD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E272-46D3-49CD-B04C-EE2FE45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1A2DC-4CBE-49ED-8445-F419192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18739-2555-4875-9D97-E1CC781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CADE8-956B-4332-9093-EC8BA0D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41CA6-0AA9-4C2B-8B87-91DC079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E449F-34E1-4A6B-A947-C04ADC1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0EBEA-D874-4EAF-99EA-5167DDF3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AC837-6EF4-4304-AADE-8E14C489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1A709-FFD3-4E66-8404-1DD1F449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F48B8-4CB1-4AB8-81F4-A7DBFB67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155D0-C3A2-4D16-9E5C-01F04F5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64F-B427-4BD7-82ED-C55A3358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22BD9-72B9-4C7A-A501-05B9F29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C215C-78E6-4E86-85B2-6CBD237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15E24-CA24-4E67-ADA3-A760FC2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833AE-5DCB-4CB0-8ADD-AFDC9F0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42A20-5925-4868-96DD-405709A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924AF-28BE-4616-8012-BFB3C18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07EF2-CAB9-41C4-8FC6-D5F6B33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EB6D1-5DEF-402E-B77F-F95A2367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9A340-0558-4B3D-91C1-4FA2363B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F0A3-0A6D-490A-832D-1DBB6453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C4E0-D1C4-4027-A5C1-17917921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CF4E-48AE-44BB-BF5B-5E49C4DD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1513-CB68-4D5A-AF92-60B27473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22BD-9707-4630-B4A8-BECA70A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9AA7-7892-4A85-8F9C-3E6B826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BC42-A1AB-4DFC-816A-A02632C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D59-35B3-4E0A-844B-A5D9A76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62E6-D96D-4CC4-8196-BE67028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E8A7-D454-4E22-9553-3B19DB8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22AA-619A-458A-9B07-6C2717B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8428-FB87-478B-8227-AF3A959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523F-9DA0-4AAD-8B20-C4804AD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F574-0F9E-4E6B-83FF-F6A4DC25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227B-706C-4D0D-B295-46562027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4D2D-A63C-48C0-A5D9-E357428E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F3C2-07A5-4837-8E25-C56EC49D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F8A7-1D9E-4E39-8BCD-EDA4E11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CB3-5E56-43E7-A7D5-85A5D9E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7A9C-9783-4AFF-B9A6-AF8F0BEA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021F-F660-47E4-878B-A88A798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9410-E99E-4373-BD9C-87E347A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8003-EF8A-47E1-A427-A942EB1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A9E5-68B6-4A59-A506-2FC6808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7CF8-BAC0-4A40-AA10-4299AC0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2280-FE09-4297-B953-B090E56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8F61-35EE-43CE-B740-B55BB539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A74E-8197-494A-A10B-069E637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7405-235D-4718-A5CE-0090C001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7D8-3040-4E99-A8FD-FC230BCE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3394-91C6-4B88-B884-66462AB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F1F0-108D-4AB7-A10B-7D28562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CE2F-40B9-46B7-B7CD-62BCEE8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DCC3-E196-4AC8-B8D6-94E22D3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35C2-3A6C-4FEB-B3C5-F4DE7B8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7196-4E0F-488B-BD1A-F8CD53B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3FC6-692B-48DB-9E15-2A01E46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34DB-505E-4060-AFF3-659C4BC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BFD7-A3A2-436D-AE9C-268D0F2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A1E0-6099-4147-B8C6-4E15682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C64-D0AE-4F37-B807-A759106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594A-61B8-4CF0-B5B0-6AA9433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0ACE-6F2D-4462-9D7D-55F24AD4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0482-9C52-4BDD-98E7-2B1A7F4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54F4-86F7-43C8-942F-4CB56C3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DDF11-1B38-419A-8EC8-370FE7B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B7200-A03B-47D0-B1BC-6E956CC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8866-9720-4756-BBD7-1F8CB53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67DDC-C938-4CE9-826B-F914444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DFBC-E779-4A8B-AE0A-1321A87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5890-72F3-4EC2-8669-F24E2FC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469-47FE-49C5-91CD-C86DAFA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0A72-44F4-4B75-91D8-C5255D7A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5E34-CFDD-4B82-AB0D-A991A6DB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EA45-5678-4948-8E98-061BF9C5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01C9-DFB9-4DDB-AAAC-6D9E43C7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6FC73-470D-4914-9E4B-E8CE4BC9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46E64-C1D0-4F79-9C62-50BFA59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DAA32-85C6-4C55-9258-CA45AA6E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2056-025C-48FB-8DE5-9BF57A4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CB07-25AD-4AA5-9154-94F57FC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F453-325E-41E3-89F8-0705EB8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186-DD6E-4C92-B58E-AC31933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27A7C-6E39-4D51-95D4-6591FDB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B59A-86A8-4297-AEBC-E20C227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11797-242C-4F3C-9634-958375B9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C5F4-EED2-400F-8FC1-10C3FE28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2104-B318-4890-ADC8-59364697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D5369-BD0A-4483-97B9-99EFBBE2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79F8-F6BE-405B-851B-F24E45C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9B47A-F500-4527-B115-4AFA553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E475-7183-4A5E-838C-E17921F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5762-4D6E-4789-978D-9620D0D8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AFC-D017-4B22-8899-3C7AFEA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57463-8411-4257-B2C9-1F73E7A4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568C-D2F7-4559-AF7C-1A08C8F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E7FA-8B9D-4099-ABF9-AF3A7A6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21BE-9E69-4A6B-86B4-35D8BDE7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FBD1-5EF7-4A13-AB71-61BBFD98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A30BF-0A0C-4CA6-9C4E-C6E7175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B3C1-FE09-4358-BEE8-F551A88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324E-DFAC-4043-8680-0FA717E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512FB-87D3-4E86-8CB1-DE0A54E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95BE9-E57B-499A-8C35-BABE85E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5F6-891A-4A29-A3D6-F4E6AF06FD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66CE-07E6-48C9-A543-35384CAE30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731-FA84-4C3F-8020-098DE758F9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FE2-8AF8-4C2C-BA7A-D04ADBE510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5D4-EC07-4CE0-9FAF-2C982C5CF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77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91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037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AF51-C9E2-4521-8567-367B46C76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F87-97DA-4128-BF77-E9AB816C7B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421-7175-470C-B2A4-3D76AD1FCC6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182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7FD-459D-4FDB-94FE-0E78DA448F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7EF1-F4C5-427B-B617-8B0E4448EE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5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09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315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319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D518-1878-424A-A0B9-CA2EF936514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F4B-B3AF-406B-A374-7B4B911C31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979E-BD52-4FC6-B5C4-E3F0FAE50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7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3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7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01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5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9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3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357" name="Freeform 233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359" name="Freeform 235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36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37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38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39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0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41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42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4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45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47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847-1BA4-4D09-9385-C980BE9D6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E156-4FEA-43A4-B949-B5E3893941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5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5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B92-003E-4735-8679-24B2AE52809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A98-3114-4FBD-92E7-7DB654196A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577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CDB-4210-4178-85D8-C0B8FCE74A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653-35F4-4097-9C1C-B5A5C1E0830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2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43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662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663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665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Text Box 2"/>
          <p:cNvSpPr/>
          <p:nvPr/>
        </p:nvSpPr>
        <p:spPr>
          <a:xfrm>
            <a:off x="2050920" y="692280"/>
            <a:ext cx="56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唐雎不辱使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Text Box 3"/>
          <p:cNvSpPr/>
          <p:nvPr/>
        </p:nvSpPr>
        <p:spPr>
          <a:xfrm>
            <a:off x="468360" y="22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义务教育课程标准实验教科书   语文  九年级上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2771640" y="2997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</a:rPr>
              <a:t>执教：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靳元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5"/>
          <p:cNvSpPr/>
          <p:nvPr/>
        </p:nvSpPr>
        <p:spPr>
          <a:xfrm>
            <a:off x="2771640" y="4005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设计：靳元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1" name="永远是朋友.MP3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2" name="矩形 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1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42796" fill="hold"/>
                                        <p:tgtEl>
                                          <p:spTgt spid="1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"/>
          <p:cNvSpPr/>
          <p:nvPr/>
        </p:nvSpPr>
        <p:spPr>
          <a:xfrm>
            <a:off x="7236000" y="29235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3"/>
          <p:cNvSpPr/>
          <p:nvPr/>
        </p:nvSpPr>
        <p:spPr>
          <a:xfrm>
            <a:off x="511920" y="27806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AutoShape 4"/>
          <p:cNvSpPr/>
          <p:nvPr/>
        </p:nvSpPr>
        <p:spPr>
          <a:xfrm>
            <a:off x="1332000" y="1125360"/>
            <a:ext cx="152280" cy="396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5"/>
          <p:cNvSpPr/>
          <p:nvPr/>
        </p:nvSpPr>
        <p:spPr>
          <a:xfrm>
            <a:off x="6877080" y="1052640"/>
            <a:ext cx="358920" cy="4392360"/>
          </a:xfrm>
          <a:custGeom>
            <a:avLst/>
            <a:gdLst>
              <a:gd name="textAreaLeft" fmla="*/ 0 w 358920"/>
              <a:gd name="textAreaRight" fmla="*/ 129600 w 35892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"/>
          <p:cNvSpPr/>
          <p:nvPr/>
        </p:nvSpPr>
        <p:spPr>
          <a:xfrm>
            <a:off x="1547640" y="83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狡诈专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7"/>
          <p:cNvSpPr/>
          <p:nvPr/>
        </p:nvSpPr>
        <p:spPr>
          <a:xfrm>
            <a:off x="1833840" y="155664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虚与委蛇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Text Box 8"/>
          <p:cNvSpPr/>
          <p:nvPr/>
        </p:nvSpPr>
        <p:spPr>
          <a:xfrm>
            <a:off x="1725480" y="2276640"/>
            <a:ext cx="15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骄横狂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9"/>
          <p:cNvSpPr/>
          <p:nvPr/>
        </p:nvSpPr>
        <p:spPr>
          <a:xfrm>
            <a:off x="2070720" y="292428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可一世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10"/>
          <p:cNvSpPr/>
          <p:nvPr/>
        </p:nvSpPr>
        <p:spPr>
          <a:xfrm>
            <a:off x="5160600" y="3860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恭后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11"/>
          <p:cNvSpPr/>
          <p:nvPr/>
        </p:nvSpPr>
        <p:spPr>
          <a:xfrm>
            <a:off x="1476360" y="4652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强中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12"/>
          <p:cNvSpPr/>
          <p:nvPr/>
        </p:nvSpPr>
        <p:spPr>
          <a:xfrm>
            <a:off x="4500720" y="119628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 Box 13"/>
          <p:cNvSpPr/>
          <p:nvPr/>
        </p:nvSpPr>
        <p:spPr>
          <a:xfrm>
            <a:off x="4990680" y="1557360"/>
            <a:ext cx="14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卑不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14"/>
          <p:cNvSpPr/>
          <p:nvPr/>
        </p:nvSpPr>
        <p:spPr>
          <a:xfrm>
            <a:off x="4643280" y="227592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畏强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15"/>
          <p:cNvSpPr/>
          <p:nvPr/>
        </p:nvSpPr>
        <p:spPr>
          <a:xfrm>
            <a:off x="4893840" y="2923560"/>
            <a:ext cx="15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宁死不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16"/>
          <p:cNvSpPr/>
          <p:nvPr/>
        </p:nvSpPr>
        <p:spPr>
          <a:xfrm>
            <a:off x="1547640" y="38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倨后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17"/>
          <p:cNvSpPr/>
          <p:nvPr/>
        </p:nvSpPr>
        <p:spPr>
          <a:xfrm>
            <a:off x="5056200" y="509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Text Box 18"/>
          <p:cNvSpPr/>
          <p:nvPr/>
        </p:nvSpPr>
        <p:spPr>
          <a:xfrm>
            <a:off x="4479840" y="437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19"/>
          <p:cNvSpPr/>
          <p:nvPr/>
        </p:nvSpPr>
        <p:spPr>
          <a:xfrm>
            <a:off x="5451480" y="5451480"/>
            <a:ext cx="21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20"/>
          <p:cNvSpPr/>
          <p:nvPr/>
        </p:nvSpPr>
        <p:spPr>
          <a:xfrm>
            <a:off x="3348000" y="623736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21"/>
          <p:cNvSpPr/>
          <p:nvPr/>
        </p:nvSpPr>
        <p:spPr>
          <a:xfrm>
            <a:off x="4643280" y="83664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立场坚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 Box 22"/>
          <p:cNvSpPr/>
          <p:nvPr/>
        </p:nvSpPr>
        <p:spPr>
          <a:xfrm>
            <a:off x="4788000" y="4653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智勇双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23"/>
          <p:cNvSpPr/>
          <p:nvPr/>
        </p:nvSpPr>
        <p:spPr>
          <a:xfrm>
            <a:off x="3936960" y="1150920"/>
            <a:ext cx="459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 Box 24"/>
          <p:cNvSpPr/>
          <p:nvPr/>
        </p:nvSpPr>
        <p:spPr>
          <a:xfrm>
            <a:off x="3212280" y="1222200"/>
            <a:ext cx="139932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语言描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5"/>
          <p:cNvSpPr/>
          <p:nvPr/>
        </p:nvSpPr>
        <p:spPr>
          <a:xfrm>
            <a:off x="3245760" y="4005360"/>
            <a:ext cx="139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隶书"/>
              </a:rPr>
              <a:t>对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Line 26"/>
          <p:cNvSpPr/>
          <p:nvPr/>
        </p:nvSpPr>
        <p:spPr>
          <a:xfrm>
            <a:off x="1547640" y="3716280"/>
            <a:ext cx="2232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Line 27"/>
          <p:cNvSpPr/>
          <p:nvPr/>
        </p:nvSpPr>
        <p:spPr>
          <a:xfrm flipH="1">
            <a:off x="4500720" y="3716280"/>
            <a:ext cx="2303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260820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29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Text Box 2"/>
          <p:cNvSpPr/>
          <p:nvPr/>
        </p:nvSpPr>
        <p:spPr>
          <a:xfrm>
            <a:off x="2824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 Box 3"/>
          <p:cNvSpPr/>
          <p:nvPr/>
        </p:nvSpPr>
        <p:spPr>
          <a:xfrm>
            <a:off x="5461920" y="404640"/>
            <a:ext cx="22834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隶书"/>
              </a:rPr>
              <a:t>标新立异读课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 Box 4"/>
          <p:cNvSpPr/>
          <p:nvPr/>
        </p:nvSpPr>
        <p:spPr>
          <a:xfrm>
            <a:off x="1325880" y="333360"/>
            <a:ext cx="3105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针对课文提出自己独特的观点或对课文进行质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Text Box 2"/>
          <p:cNvSpPr/>
          <p:nvPr/>
        </p:nvSpPr>
        <p:spPr>
          <a:xfrm>
            <a:off x="755640" y="26028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课堂检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611280" y="14130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唐雎所说的“士之怒”的句子是：（         　　　　     ），这个句子运用了（       ）的修辞手法，其作用是（　　 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Text Box 2"/>
          <p:cNvSpPr/>
          <p:nvPr/>
        </p:nvSpPr>
        <p:spPr>
          <a:xfrm>
            <a:off x="539640" y="17604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、请说说下边两句话的言外之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3"/>
          <p:cNvSpPr/>
          <p:nvPr/>
        </p:nvSpPr>
        <p:spPr>
          <a:xfrm>
            <a:off x="692280" y="2276640"/>
            <a:ext cx="81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公亦尝闻天子之怒乎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3146400" y="407664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②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与臣而将四矣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Text Box 2"/>
          <p:cNvSpPr/>
          <p:nvPr/>
        </p:nvSpPr>
        <p:spPr>
          <a:xfrm flipV="1" rot="10800000">
            <a:off x="608040" y="1218240"/>
            <a:ext cx="778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祲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”的征兆是相对而言的，对专诸、聂政、要离而言是（  ）的征兆，对王僚、韩傀、庆忌而言是（    ）的征兆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Text Box 2"/>
          <p:cNvSpPr/>
          <p:nvPr/>
        </p:nvSpPr>
        <p:spPr>
          <a:xfrm>
            <a:off x="395280" y="692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公元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到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，靠近秦国的韩、魏相继被秦灭亡，其余山东六国的赵、燕、齐、楚在连年战争中早以不堪一击，又过了几年，秦就统一了天下。安陵国是魏的附庸小国，在宗主国魏国灭亡之后，一度还保持着独立的地位。秦国想用诈骗手段吞并安陵，于是安陵君派唐雎到秦国谈判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2"/>
          <p:cNvSpPr/>
          <p:nvPr/>
        </p:nvSpPr>
        <p:spPr>
          <a:xfrm>
            <a:off x="826920" y="692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唐雎不辱使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3"/>
          <p:cNvSpPr/>
          <p:nvPr/>
        </p:nvSpPr>
        <p:spPr>
          <a:xfrm>
            <a:off x="3859560" y="2492280"/>
            <a:ext cx="111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《战国策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Text Box 2"/>
          <p:cNvSpPr/>
          <p:nvPr/>
        </p:nvSpPr>
        <p:spPr>
          <a:xfrm>
            <a:off x="1187280" y="620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隶书"/>
              </a:rPr>
              <a:t>双基小热身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3"/>
          <p:cNvSpPr/>
          <p:nvPr/>
        </p:nvSpPr>
        <p:spPr>
          <a:xfrm>
            <a:off x="1116000" y="2276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、注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Text Box 4"/>
          <p:cNvSpPr/>
          <p:nvPr/>
        </p:nvSpPr>
        <p:spPr>
          <a:xfrm>
            <a:off x="992160" y="3284640"/>
            <a:ext cx="76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怫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)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跣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  )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抢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(        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"/>
          <p:cNvSpPr/>
          <p:nvPr/>
        </p:nvSpPr>
        <p:spPr>
          <a:xfrm>
            <a:off x="2052360" y="3429000"/>
            <a:ext cx="7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f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6"/>
          <p:cNvSpPr/>
          <p:nvPr/>
        </p:nvSpPr>
        <p:spPr>
          <a:xfrm>
            <a:off x="4198680" y="335772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xiǎ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 Box 7"/>
          <p:cNvSpPr/>
          <p:nvPr/>
        </p:nvSpPr>
        <p:spPr>
          <a:xfrm>
            <a:off x="6719400" y="335772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qiā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0" y="40464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解释加点词、翻译句子、划分朗读节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"/>
          <p:cNvSpPr/>
          <p:nvPr/>
        </p:nvSpPr>
        <p:spPr>
          <a:xfrm flipV="1">
            <a:off x="1908000" y="299700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4"/>
          <p:cNvSpPr/>
          <p:nvPr/>
        </p:nvSpPr>
        <p:spPr>
          <a:xfrm flipV="1">
            <a:off x="2411280" y="2997000"/>
            <a:ext cx="73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Line 5"/>
          <p:cNvSpPr/>
          <p:nvPr/>
        </p:nvSpPr>
        <p:spPr>
          <a:xfrm flipV="1">
            <a:off x="4932360" y="3068640"/>
            <a:ext cx="73080" cy="620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Line 6"/>
          <p:cNvSpPr/>
          <p:nvPr/>
        </p:nvSpPr>
        <p:spPr>
          <a:xfrm flipV="1">
            <a:off x="2411280" y="393336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Line 7"/>
          <p:cNvSpPr/>
          <p:nvPr/>
        </p:nvSpPr>
        <p:spPr>
          <a:xfrm flipV="1">
            <a:off x="2411280" y="1989000"/>
            <a:ext cx="7164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Line 8"/>
          <p:cNvSpPr/>
          <p:nvPr/>
        </p:nvSpPr>
        <p:spPr>
          <a:xfrm flipV="1">
            <a:off x="4500720" y="1989000"/>
            <a:ext cx="7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Group 9"/>
          <p:cNvGrpSpPr/>
          <p:nvPr/>
        </p:nvGrpSpPr>
        <p:grpSpPr>
          <a:xfrm>
            <a:off x="2982960" y="1989000"/>
            <a:ext cx="1804320" cy="790560"/>
            <a:chOff x="2982960" y="1989000"/>
            <a:chExt cx="1804320" cy="790560"/>
          </a:xfrm>
        </p:grpSpPr>
        <p:sp>
          <p:nvSpPr>
            <p:cNvPr id="1390" name="Text Box 10"/>
            <p:cNvSpPr/>
            <p:nvPr/>
          </p:nvSpPr>
          <p:spPr>
            <a:xfrm>
              <a:off x="2982960" y="1989000"/>
              <a:ext cx="98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①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安陵君因使唐雎使于秦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1"/>
            <p:cNvSpPr/>
            <p:nvPr/>
          </p:nvSpPr>
          <p:spPr>
            <a:xfrm>
              <a:off x="3132000" y="2708280"/>
              <a:ext cx="7272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2"/>
            <p:cNvSpPr/>
            <p:nvPr/>
          </p:nvSpPr>
          <p:spPr>
            <a:xfrm>
              <a:off x="4714560" y="2708280"/>
              <a:ext cx="7272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13"/>
          <p:cNvGrpSpPr/>
          <p:nvPr/>
        </p:nvGrpSpPr>
        <p:grpSpPr>
          <a:xfrm>
            <a:off x="1533240" y="2924280"/>
            <a:ext cx="4389840" cy="792000"/>
            <a:chOff x="1533240" y="2924280"/>
            <a:chExt cx="4389840" cy="792000"/>
          </a:xfrm>
        </p:grpSpPr>
        <p:sp>
          <p:nvSpPr>
            <p:cNvPr id="1394" name="Oval 14"/>
            <p:cNvSpPr/>
            <p:nvPr/>
          </p:nvSpPr>
          <p:spPr>
            <a:xfrm>
              <a:off x="2197080" y="3645000"/>
              <a:ext cx="7308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5"/>
            <p:cNvSpPr/>
            <p:nvPr/>
          </p:nvSpPr>
          <p:spPr>
            <a:xfrm>
              <a:off x="4716720" y="3645000"/>
              <a:ext cx="73080" cy="71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16"/>
            <p:cNvSpPr/>
            <p:nvPr/>
          </p:nvSpPr>
          <p:spPr>
            <a:xfrm>
              <a:off x="1533240" y="2924280"/>
              <a:ext cx="438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②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而君逆寡人者，轻寡人与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17"/>
          <p:cNvGrpSpPr/>
          <p:nvPr/>
        </p:nvGrpSpPr>
        <p:grpSpPr>
          <a:xfrm>
            <a:off x="324000" y="3933720"/>
            <a:ext cx="7559640" cy="1366920"/>
            <a:chOff x="324000" y="3933720"/>
            <a:chExt cx="7559640" cy="1366920"/>
          </a:xfrm>
        </p:grpSpPr>
        <p:sp>
          <p:nvSpPr>
            <p:cNvPr id="1398" name="Oval 18"/>
            <p:cNvSpPr/>
            <p:nvPr/>
          </p:nvSpPr>
          <p:spPr>
            <a:xfrm>
              <a:off x="2195640" y="4581360"/>
              <a:ext cx="73080" cy="71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9"/>
            <p:cNvSpPr/>
            <p:nvPr/>
          </p:nvSpPr>
          <p:spPr>
            <a:xfrm>
              <a:off x="2627640" y="5229000"/>
              <a:ext cx="72720" cy="71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Text Box 20"/>
            <p:cNvSpPr/>
            <p:nvPr/>
          </p:nvSpPr>
          <p:spPr>
            <a:xfrm>
              <a:off x="324000" y="3933720"/>
              <a:ext cx="755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③</a:t>
              </a:r>
              <a:r>
                <a:rPr b="1" lang="zh-CN" sz="4000" spc="-1" strike="noStrike">
                  <a:solidFill>
                    <a:srgbClr val="7d7da9"/>
                  </a:solidFill>
                  <a:latin typeface="Arial"/>
                </a:rPr>
                <a:t>寡人欲以五百里之地易安陵，安陵君其许寡人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Line 21"/>
          <p:cNvSpPr/>
          <p:nvPr/>
        </p:nvSpPr>
        <p:spPr>
          <a:xfrm flipV="1">
            <a:off x="5508720" y="4005000"/>
            <a:ext cx="712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Line 22"/>
          <p:cNvSpPr/>
          <p:nvPr/>
        </p:nvSpPr>
        <p:spPr>
          <a:xfrm flipV="1">
            <a:off x="1908000" y="465264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Line 23"/>
          <p:cNvSpPr/>
          <p:nvPr/>
        </p:nvSpPr>
        <p:spPr>
          <a:xfrm flipV="1">
            <a:off x="1908000" y="3933360"/>
            <a:ext cx="71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 Box 24"/>
          <p:cNvSpPr/>
          <p:nvPr/>
        </p:nvSpPr>
        <p:spPr>
          <a:xfrm>
            <a:off x="3492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Text Box 2"/>
          <p:cNvSpPr/>
          <p:nvPr/>
        </p:nvSpPr>
        <p:spPr>
          <a:xfrm>
            <a:off x="324000" y="1268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请复述课文的主要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2"/>
          <p:cNvSpPr/>
          <p:nvPr/>
        </p:nvSpPr>
        <p:spPr>
          <a:xfrm>
            <a:off x="2340000" y="25416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</a:rPr>
              <a:t>朗读大本营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 Box 3"/>
          <p:cNvSpPr/>
          <p:nvPr/>
        </p:nvSpPr>
        <p:spPr>
          <a:xfrm>
            <a:off x="2195640" y="1557360"/>
            <a:ext cx="66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大声读课文，注意读准字音与节奏，把握语气，读出感情，然后小组内分角色朗读或表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Text Box 2"/>
          <p:cNvSpPr/>
          <p:nvPr/>
        </p:nvSpPr>
        <p:spPr>
          <a:xfrm>
            <a:off x="324000" y="33336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热点练兵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3"/>
          <p:cNvSpPr/>
          <p:nvPr/>
        </p:nvSpPr>
        <p:spPr>
          <a:xfrm>
            <a:off x="574560" y="1413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请同学们细读课文，完成填空题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     ）的秦王，课文的依据是（        ）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     ）的唐雎，课文的依据是（        ）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方法：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透过语言文字，力求读出自己独特的体验。【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在文中做批注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作者采用什么方法刻画人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0:52:19Z</dcterms:created>
  <dc:creator/>
  <dc:description/>
  <cp:keywords>幻灯片之家 http:/www.eeppt.com</cp:keywords>
  <dc:language>en-US</dc:language>
  <cp:lastModifiedBy/>
  <dcterms:modified xsi:type="dcterms:W3CDTF">2015-07-20T03:11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